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F067-69F7-4DEF-9E23-E7D9E9A5F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D2BD-3A9E-410D-90E4-30008B7E5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EA3A9-1576-4E61-993D-0CAB4FA4D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2A20-8216-42A0-BC03-85E23E050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F16-7267-4E6E-A4DE-357F5263E2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0B3-1F3F-4C13-A3E4-E7051A2E36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AB9-924A-400D-9AA8-5A7DA1F44C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89F-81DA-429F-81C3-9BBB513189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677-E3B2-40CE-8CEF-0DE13A2B51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2C0-E0D9-4DDE-B786-41775DD1C2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C77-A705-4E52-96C8-F7ED38DFF2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2A0E-5C35-4190-B138-BD72E18D7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047-44D2-470C-B24F-7DB03B3FDF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568-0695-4AA3-9DC7-BB9FF4B9F1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0F4-62AB-4746-A8A0-6C64E52A7F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39C-B5E7-46F4-9BC4-C75D5AECE2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313-3C71-4734-B1FF-B4FCBA247C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76DC-34B9-4797-B5F9-4E5AFEFEE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7717-C042-4666-839B-05DC774A7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852C-C9A9-4939-AB94-63A1D3F59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CF6B-4A7C-40FC-95A4-6ED6D9A59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FD94-B87A-405C-9C94-6874BF2EA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57B8-A404-44DA-86DD-0F4AAD601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B756-1ADF-4A8F-8C6B-722CE8776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67280" y="6453360"/>
            <a:ext cx="4390920" cy="93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09CE-759F-4AA6-BC6E-79BCE434C06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190440"/>
            <a:ext cx="8154720" cy="5724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553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65360" y="619128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50920" y="6323040"/>
            <a:ext cx="504720" cy="471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954000" y="6235560"/>
            <a:ext cx="1457280" cy="4953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3348000" y="6165720"/>
            <a:ext cx="51444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7480-A8D2-488F-96F7-4E55D6A2816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33360"/>
            <a:ext cx="2106360" cy="10476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97360" y="11592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54200" y="189000"/>
            <a:ext cx="505080" cy="47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00720" y="317520"/>
            <a:ext cx="2664000" cy="120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132000" y="171360"/>
            <a:ext cx="1457640" cy="49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4581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NRS, UMR 3192, Lab-STI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entre de Recherche - BP 92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F-56321 Lorient Cedex -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570640" y="115920"/>
            <a:ext cx="514080" cy="62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Arial"/>
              </a:rPr>
              <a:t>Modèle CDFG</a:t>
            </a:r>
            <a:br>
              <a:rPr sz="4400"/>
            </a:br>
            <a:br>
              <a:rPr sz="4400"/>
            </a:br>
            <a:r>
              <a:rPr b="0" lang="fr-FR" sz="3600" spc="-1" strike="noStrike">
                <a:solidFill>
                  <a:srgbClr val="3333cc"/>
                </a:solidFill>
                <a:latin typeface="Arial"/>
              </a:rPr>
              <a:t>une proposition pour débattre...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808080"/>
                </a:solidFill>
                <a:latin typeface="Arial"/>
              </a:rPr>
              <a:t>Philippe Coussy, Dominique Heller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résentation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2003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191040"/>
            <a:ext cx="596880" cy="23619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3800520"/>
            <a:ext cx="22100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rps de bou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9718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2657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9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46789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92600" y="4257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5019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0396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4770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3267000"/>
            <a:ext cx="2133720" cy="24386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21400" y="570924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469C-17F6-4AFA-B7D9-599F43F11F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44792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572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56386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1523880"/>
            <a:ext cx="2133720" cy="441972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16680" y="59378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297180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276720"/>
            <a:ext cx="533520" cy="114300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365760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50328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228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2666880"/>
            <a:ext cx="2362320" cy="2133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6668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1981080"/>
            <a:ext cx="251460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800" y="1751040"/>
            <a:ext cx="292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K ssi le code 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forme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2360" y="2817360"/>
            <a:ext cx="23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7578-C3BA-493F-8244-F279373BC5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3733560"/>
            <a:ext cx="23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11F7-02D4-4EF9-8DE8-071FF3EC68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2360" y="3794760"/>
            <a:ext cx="233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EAC7-1FC4-40A5-92DB-13F61DF5BC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1447920"/>
            <a:ext cx="596880" cy="39621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51148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52578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1523880"/>
            <a:ext cx="2133720" cy="40388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16680" y="55663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05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28195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3276720"/>
            <a:ext cx="220968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3657600"/>
            <a:ext cx="685800" cy="4572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Brea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91C7-4BF7-4765-9AAF-0998FF0DB4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uplication de chaque app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CDFG par appel de fonction (i.e. des nœuds hiérarchiq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n 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’est une opération atomique et le BB n ’est pas scind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8E63-21CC-45BD-8A14-A66BD8AC62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épendances de donné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ression des dépendances de données entre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ou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ar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 REGARDER POUR LA PROCHAINE RE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pendances producteur consommateur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 défaut utilisation de la forme SSA ou non SS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un BB utilise une fonction dont on ne connais pas 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&gt; ignorer ce BB ou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jouter dans live in et live out les variables glob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FE2E-5BC8-4D26-963E-9E7C9C1F0A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oc d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pendances de données inter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C0C3-7C33-4B53-8831-9DFBC8A750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DF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Un CDFG est un graphe orienté hiérarchique G(V,E) avec V l ’ensemble des nœuds et E l ’ensemble des arcs. Les arcs représentent le flow de contrôle entre les nœuds. Les nœuds aussi nommés blocs sont de deux types: basiques notés BB ou hiérarchiques notés B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7B24-F89A-42E4-AB18-BEA79F095F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loc de base BB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ite linéaire d’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de bou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 de branchement condi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mis la première instruction, il n’y a pas d’instruction dans un BB qui est la cible d’un branch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 ’entré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e sorti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un GOTO hors d ’un </a:t>
            </a:r>
            <a:r>
              <a:rPr b="0" i="1" lang="fr-FR" sz="1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serait donc la dernière instruction d ’un BB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truc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el de fo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ffec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Un BB peut être représenté par un D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A921-A79B-4610-BF27-5225E7C7C2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ation d’un modèle unique pour représenter les branchements condit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branchement conditionnel est un bloc hiérarchique conte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œud fork, un nœud join, un ensemble de blocs hiérarchiques, un ensemble d’a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est annoté avec le type de branchement conditionnel qu’il re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2) pour un if-then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3) pour un if à trois bran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witch(4) pour un switch-case à 4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CA7C-4A1F-47BF-8E25-8CD4150065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e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k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t le calcul des prédic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oin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n fusionné avec le BB sui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dra les « PHY nodes » si la forme SSA est utilis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semble de blocs hiérarc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ccesseurs du nœud fork et prédécesseur du nœud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rcs de contrôle entre le nœud fork et l’ensemble des blocs hiérarchiques sont annotés avec les prédicats évalués dans le nœud f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C1F1-1342-41F7-8C98-FC9E3469EF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3772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0080" y="309924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10666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505320"/>
            <a:ext cx="10670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856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9880" y="56376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199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7720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2948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4824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054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7720" y="56376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witch-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057400"/>
            <a:ext cx="17524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a&lt;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!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80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208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6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360" y="13705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44792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812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447920"/>
            <a:ext cx="356688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8952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5BDC-1986-44B0-8706-A7506AFF1B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7080" y="556164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« à 3 branch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7339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25560" y="271836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8112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42670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676520"/>
            <a:ext cx="17524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(a&l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(a&g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(a==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766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48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09880" y="12945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13716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12C0-6662-42E2-BA24-4E7361CBE5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: switch avec un break manqua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10080" y="41911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876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533412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266720" y="3048120"/>
            <a:ext cx="40500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84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580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447920"/>
            <a:ext cx="3567240" cy="4647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2720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46483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65724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012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4191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8803-CCD9-4089-BC0A-8172A69A20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ussy</cp:lastModifiedBy>
  <dcterms:modified xsi:type="dcterms:W3CDTF">2009-11-06T07:04:26Z</dcterms:modified>
  <cp:revision>799</cp:revision>
  <dc:subject/>
  <dc:title>PowerPoint Presentation</dc:title>
</cp:coreProperties>
</file>