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9766-C30F-4400-BA7E-2AFAE1D45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A494-20CF-4906-BC6E-20F56B244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3D0A-6A53-4AF3-B848-D8DC9BD2F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4B15-F5CD-465E-9339-136D41268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013-133D-4A70-A934-16EFF05C6C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27D-164C-4E43-9A82-D9D0327766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6C3-D2A8-4FB6-A21C-5DF5E71045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628-5ADE-4161-8224-EB1E901C1E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603-8995-4694-AF35-E9BD3A53E3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B1EE-6ADE-4BE4-93DA-0D6DA140E0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CA1D-3296-48A1-9FF3-E82199FE33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F851-41D6-42B9-BE07-FA08A43D6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D88-BEFB-43CE-B3C9-1C1C971403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6483-2554-48A4-B266-472E027602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2CC-B6FD-4075-8B71-AD7FDE6EC1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14E-3910-4CF2-8E2C-C82198F65B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70028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996360"/>
            <a:ext cx="250236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ED7-8006-4B22-8461-47235DC4D5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BCC2-9F42-4D4A-86FD-0D2358518E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B0A2-5BA2-4EAE-9366-5A9C34A253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1C9A-C133-4464-B4E1-AAB37E440E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56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B546-6C45-48F3-BC9D-DB06087C1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20F6-B0E9-4D30-9900-085F0BF48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9636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0D78-65D1-4FC7-96E8-68224980C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00280"/>
            <a:ext cx="3792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96360"/>
            <a:ext cx="77724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416E-F838-426D-97CB-92445B7B9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67280" y="6453360"/>
            <a:ext cx="4390920" cy="93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D077-E3E6-4A50-AB28-1B8EEC75283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4920" y="190440"/>
            <a:ext cx="8154720" cy="5724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553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65360" y="619128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250920" y="6323040"/>
            <a:ext cx="504720" cy="471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954000" y="6235560"/>
            <a:ext cx="1457280" cy="49536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3348000" y="6165720"/>
            <a:ext cx="514440" cy="62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7699-D50A-4D17-BCD3-B9E83BA8C64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33360"/>
            <a:ext cx="2106360" cy="10476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97360" y="115920"/>
            <a:ext cx="566640" cy="509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54200" y="189000"/>
            <a:ext cx="505080" cy="471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00720" y="317520"/>
            <a:ext cx="2664000" cy="120600"/>
          </a:xfrm>
          <a:prstGeom prst="rect">
            <a:avLst/>
          </a:prstGeom>
          <a:solidFill>
            <a:srgbClr val="00659c"/>
          </a:solidFill>
          <a:ln w="9360">
            <a:solidFill>
              <a:srgbClr val="006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132000" y="171360"/>
            <a:ext cx="1457640" cy="49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45813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NRS, UMR 3192, Lab-STI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entre de Recherche - BP 92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F-56321 Lorient Cedex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570640" y="115920"/>
            <a:ext cx="514080" cy="627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63320"/>
            <a:ext cx="77724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cc"/>
                </a:solidFill>
                <a:latin typeface="Arial"/>
              </a:rPr>
              <a:t>Modèle CDFG</a:t>
            </a:r>
            <a:br>
              <a:rPr sz="4400"/>
            </a:br>
            <a:br>
              <a:rPr sz="4400"/>
            </a:br>
            <a:r>
              <a:rPr b="0" lang="fr-FR" sz="3600" spc="-1" strike="noStrike">
                <a:solidFill>
                  <a:srgbClr val="3333cc"/>
                </a:solidFill>
                <a:latin typeface="Arial"/>
              </a:rPr>
              <a:t>une proposition pour débattre...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94324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808080"/>
                </a:solidFill>
                <a:latin typeface="Arial"/>
              </a:rPr>
              <a:t>Philippe Coussy, Dominique Heller</a:t>
            </a: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présentation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2003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3191040"/>
            <a:ext cx="596880" cy="23619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3800520"/>
            <a:ext cx="22100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rps de bou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9718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2657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49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25560" y="46789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92600" y="4257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50198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540396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547704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6700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21400" y="570924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210D-7DB9-4527-AA7E-CE0E2EA74E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44792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572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56386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1523880"/>
            <a:ext cx="2133720" cy="441972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16680" y="59378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0552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297180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3276720"/>
            <a:ext cx="533520" cy="114300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7800" y="365760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50328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228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6200" y="2666880"/>
            <a:ext cx="236232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266688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1981080"/>
            <a:ext cx="251460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4800" y="175104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K ssi le code 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la forme suiv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2360" y="2817360"/>
            <a:ext cx="23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27BA-614F-4BF9-AFE2-6CC9A21C35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3733560"/>
            <a:ext cx="23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9335-17A8-4923-B91E-469CE00E37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62520" y="2286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29000" y="1143000"/>
            <a:ext cx="596880" cy="434340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62520" y="175248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10000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05520" y="685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05520" y="152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21200" y="411840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71640" y="2971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8480" y="58006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58672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219320"/>
            <a:ext cx="2133720" cy="495288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16680" y="616644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055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67080" y="2666880"/>
            <a:ext cx="1600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335268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971800"/>
            <a:ext cx="1371600" cy="2362320"/>
          </a:xfrm>
          <a:custGeom>
            <a:avLst/>
            <a:gdLst/>
            <a:ahLst/>
            <a:rect l="l" t="t" r="r" b="b"/>
            <a:pathLst>
              <a:path w="688" h="1256">
                <a:moveTo>
                  <a:pt x="0" y="0"/>
                </a:moveTo>
                <a:lnTo>
                  <a:pt x="688" y="640"/>
                </a:lnTo>
                <a:lnTo>
                  <a:pt x="504" y="125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352680"/>
            <a:ext cx="685800" cy="45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contin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526140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2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362320"/>
            <a:ext cx="236232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2362320"/>
            <a:ext cx="762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F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76520"/>
            <a:ext cx="2514600" cy="3504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2360" y="3794760"/>
            <a:ext cx="233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(c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B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472788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6960" y="836640"/>
            <a:ext cx="32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Arial"/>
              </a:rPr>
              <a:t>NOK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 le code 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else implic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faudra u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formation lor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réation du grap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utiliser 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u slide précé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3873-1421-450E-A103-4CD2B5B284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9625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447920"/>
            <a:ext cx="596880" cy="3962160"/>
          </a:xfrm>
          <a:custGeom>
            <a:avLst/>
            <a:gdLst/>
            <a:ahLst/>
            <a:rect l="l" t="t" r="r" b="b"/>
            <a:pathLst>
              <a:path w="424" h="1104">
                <a:moveTo>
                  <a:pt x="424" y="1104"/>
                </a:moveTo>
                <a:lnTo>
                  <a:pt x="0" y="1104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205740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130500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990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055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4423320"/>
            <a:ext cx="20746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45716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5114880"/>
            <a:ext cx="20750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st de condition d ’arrê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95880" y="525780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1523880"/>
            <a:ext cx="2133720" cy="40388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0"/>
                </a:moveTo>
                <a:lnTo>
                  <a:pt x="1344" y="0"/>
                </a:lnTo>
                <a:lnTo>
                  <a:pt x="1344" y="153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916680" y="5566320"/>
            <a:ext cx="2075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loc suiv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05520" y="2514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2819520"/>
            <a:ext cx="22100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627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3657600"/>
            <a:ext cx="685800" cy="457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oucle avec Brea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BB1B2-51F5-4DB4-9146-6E7A79AC90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uplication de chaque app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CDFG par appel de fonction (i.e. des nœuds hiérarchiq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n mise en l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’est une opération atomique et le BB n ’est pas scind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7068-E3AA-4D89-B931-ACEF9FC211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épendances de donné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ression des dépendances de données entre 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les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live ou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ar exe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A REGARDER POUR LA PROCHAINE RE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pendances producteur consommateur nécess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défaut utilisation de la forme SSA ou non SSA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i un BB utilise une fonction dont on ne connais pas l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=&gt; ignorer ce BB ou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jouter dans live in et live out les variables glob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59F7-5217-4C2C-8D78-E89FCBC418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600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Pla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764640"/>
            <a:ext cx="7772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loc 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ou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pendances de données inter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31C82-54E7-46D2-8273-0AF553F9C6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DFG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Un CDFG est un graphe orienté hiérarchique G(V,E) avec V l ’ensemble des nœuds et E l ’ensemble des arcs. Les arcs représentent le flow de contrôle entre les nœuds. Les nœuds aussi nommés blocs sont de deux types: basiques notés BB ou hiérarchiques notés B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2663-065D-4287-AD4C-3841A71F0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loc de base BB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linéaire d’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de bou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BB ne contient pas  de branchement condi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rmis la première instruction, il n’y a pas d’instruction dans un BB qui est la cible d’un branch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 ’entré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s de point de sortie intermédiaire dans un B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un GOTO hors d ’un </a:t>
            </a:r>
            <a:r>
              <a:rPr b="0" i="1" lang="fr-FR" sz="1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serait donc la dernière instruction d ’un BB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struc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ppel de fo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ffec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Un BB peut être représenté par un DF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F44D-FA5E-4C31-B436-E021E670E5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tilisation d’un modèle unique pour représenter les branchements condi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branchement conditionnel est un bloc hiérarchique conte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nœud fork, un nœud join, un ensemble de blocs hiérarchiques, un ensemble d’a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est annoté avec le type de branchement conditionnel qu’il représ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2) pour un if-then-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if(3) pour un if à trois bran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switch(4) pour un switch-case à 4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D5D7-F3E1-41FF-B286-406EDDB432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e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rk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t le calcul des prédic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oin (B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n fusionné avec le BB sui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tiendra les « PHY nodes » si la forme SSA est utilisé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nsemble de blocs hiérarch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ccesseurs du nœud fork et prédécesseur du nœud jo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r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arcs de contrôle entre le nœud fork et l’ensemble des blocs hiérarchiques sont annotés avec les prédicats évalués dans le nœud f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520C-4358-49D9-8244-B0C61E1F92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557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3772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0080" y="309924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10666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505320"/>
            <a:ext cx="10670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856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9880" y="56376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0199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608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77720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4648320"/>
            <a:ext cx="1752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72948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824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05440" y="4191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3505320"/>
            <a:ext cx="60984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7720" y="563760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witch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2057400"/>
            <a:ext cx="17524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a&lt;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!y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80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3208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0680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0360" y="137052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44792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812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05520" y="1447920"/>
            <a:ext cx="356688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8952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3217-56B2-40FB-B7ED-5E9B24F448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 : représent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7080" y="5561640"/>
            <a:ext cx="27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f « à 3 branches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7339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6668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25560" y="271836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18112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380988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42670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676520"/>
            <a:ext cx="17524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(a&l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 = (a&gt;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 = (a==b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766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124080"/>
            <a:ext cx="45720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4840" y="274212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09880" y="12945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if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71800" y="13716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4007-83DD-40F3-98B5-F0AE9E7500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Branchement conditionnel: switch avec un break manqua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19051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x = c*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y= (x==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‘ 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z= (x== 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048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10080" y="419112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8769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533412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266720" y="3048120"/>
            <a:ext cx="40500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505320"/>
            <a:ext cx="60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484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z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5800" y="1370520"/>
            <a:ext cx="17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g switch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447920"/>
            <a:ext cx="3567240" cy="4647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27200" y="3123000"/>
            <a:ext cx="42912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...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4648320"/>
            <a:ext cx="609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7240" y="30481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505320"/>
            <a:ext cx="609480" cy="685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0120" y="3123000"/>
            <a:ext cx="390960" cy="23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P(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1911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149C-2B00-4D54-A102-6FD72CAF90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ssy</cp:lastModifiedBy>
  <dcterms:modified xsi:type="dcterms:W3CDTF">2009-11-06T07:04:26Z</dcterms:modified>
  <cp:revision>799</cp:revision>
  <dc:subject/>
  <dc:title>PowerPoint Presentation</dc:title>
</cp:coreProperties>
</file>