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17EC-5720-465A-A773-166CEB1D77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A55A5-A09C-42AC-A104-FAF5352F9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4295A-39DB-4D5A-AFEC-7033ABBDC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35917-1DA5-4969-A8CC-737195994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A78C-DFDB-4242-87EA-90D8B135F4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E365-F577-494C-8D19-C119CE5AAE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B118-9A9A-4F1E-9588-927746498E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936A-24DA-454B-A6F8-ED1F64C2C5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5321-206B-4711-8D23-BAB0531822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556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5D0F-5C8C-4500-BC64-137275C01C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8807-E597-4D7D-8E06-C81448F852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6393E-967D-421B-8DCE-704D3C5FB5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7C4D-25AC-474E-8B80-21F4127B44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AA1E-58D9-4CCF-8D26-1AD6DC99B9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27AB-36F9-40FB-8736-74E718E707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18D6-AFD0-4C07-993B-E14FF903B2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8953-9DF6-41CC-BD52-DFC53F59DA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43BA-73E1-4A08-BAE1-A9558F0EA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E133A-A434-4EFC-A443-8DA04BDF5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0144E-3D95-4430-A327-CABD1E463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556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3B026-10E6-42D1-8B1F-BB0FC23C1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A1AC-E8E4-4F1F-AB6D-100603E3E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B871A-6A90-432B-8C7A-AA9FCAF50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F9520-A450-4B17-BC80-BF2AA211C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67280" y="6453360"/>
            <a:ext cx="4390920" cy="9360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A491-B176-4F03-BF6E-54297ACF7B6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190440"/>
            <a:ext cx="8154720" cy="5724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5530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65360" y="6191280"/>
            <a:ext cx="566640" cy="5094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50920" y="6323040"/>
            <a:ext cx="504720" cy="471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954000" y="6235560"/>
            <a:ext cx="1457280" cy="4953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3348000" y="6165720"/>
            <a:ext cx="514440" cy="627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6332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6B38-4765-42B6-A141-6697D207AB9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33360"/>
            <a:ext cx="2106360" cy="10476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97360" y="115920"/>
            <a:ext cx="566640" cy="509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554200" y="189000"/>
            <a:ext cx="505080" cy="471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300720" y="317520"/>
            <a:ext cx="2664000" cy="12060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132000" y="171360"/>
            <a:ext cx="1457640" cy="495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4581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NRS, UMR 3192, Lab-STI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entre de Recherche - BP 921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F-56321 Lorient Cedex -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570640" y="115920"/>
            <a:ext cx="514080" cy="627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36332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Arial"/>
              </a:rPr>
              <a:t>Modèle CDFG</a:t>
            </a:r>
            <a:br>
              <a:rPr sz="4400"/>
            </a:br>
            <a:br>
              <a:rPr sz="4400"/>
            </a:br>
            <a:r>
              <a:rPr b="0" lang="fr-FR" sz="3600" spc="-1" strike="noStrike">
                <a:solidFill>
                  <a:srgbClr val="3333cc"/>
                </a:solidFill>
                <a:latin typeface="Arial"/>
              </a:rPr>
              <a:t>une proposition pour débattre...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594324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808080"/>
                </a:solidFill>
                <a:latin typeface="Arial"/>
              </a:rPr>
              <a:t>Philippe Coussy, Dominique Heller</a:t>
            </a: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présentation 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66880" y="2200320"/>
            <a:ext cx="2210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191040"/>
            <a:ext cx="596880" cy="236196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3800520"/>
            <a:ext cx="22100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rps de bou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97180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2657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3495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25560" y="467892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92600" y="4257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9880" y="5019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540396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547704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3267000"/>
            <a:ext cx="2133720" cy="243864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21400" y="570924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3F1A6-2949-4559-ACC4-BC37919F4D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625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447920"/>
            <a:ext cx="596880" cy="434340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20574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38480" y="130500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990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21200" y="442332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5716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55720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5880" y="56386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1523880"/>
            <a:ext cx="2133720" cy="441972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16680" y="593784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2971800"/>
            <a:ext cx="1600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3276720"/>
            <a:ext cx="533520" cy="1143000"/>
          </a:xfrm>
          <a:custGeom>
            <a:avLst/>
            <a:gdLst/>
            <a:ahLst/>
            <a:rect l="l" t="t" r="r" b="b"/>
            <a:pathLst>
              <a:path w="688" h="1256">
                <a:moveTo>
                  <a:pt x="0" y="0"/>
                </a:moveTo>
                <a:lnTo>
                  <a:pt x="688" y="640"/>
                </a:lnTo>
                <a:lnTo>
                  <a:pt x="504" y="12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57800" y="3657600"/>
            <a:ext cx="6858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continu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503280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228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2666880"/>
            <a:ext cx="2362320" cy="213372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266688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1981080"/>
            <a:ext cx="251460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4800" y="1751040"/>
            <a:ext cx="292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K ssi le code 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la forme suiv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2360" y="2817360"/>
            <a:ext cx="233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(c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0D790-2A7D-45B6-AF37-018E37E8B5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62520" y="2286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1143000"/>
            <a:ext cx="596880" cy="434340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2520" y="175248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10000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0552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1200" y="411840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1640" y="2971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58006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5880" y="58672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5880" y="1219320"/>
            <a:ext cx="2133720" cy="495288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16680" y="616644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7080" y="2666880"/>
            <a:ext cx="1600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33526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2971800"/>
            <a:ext cx="1371600" cy="2362320"/>
          </a:xfrm>
          <a:custGeom>
            <a:avLst/>
            <a:gdLst/>
            <a:ahLst/>
            <a:rect l="l" t="t" r="r" b="b"/>
            <a:pathLst>
              <a:path w="688" h="1256">
                <a:moveTo>
                  <a:pt x="0" y="0"/>
                </a:moveTo>
                <a:lnTo>
                  <a:pt x="688" y="640"/>
                </a:lnTo>
                <a:lnTo>
                  <a:pt x="504" y="12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3352680"/>
            <a:ext cx="6858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3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conti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38480" y="526140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22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2362320"/>
            <a:ext cx="2362320" cy="21333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236232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1676520"/>
            <a:ext cx="2514600" cy="350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6960" y="836640"/>
            <a:ext cx="321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NOK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le code 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else implic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faudra u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formation lor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réation du grap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utiliser le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u slide 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2360" y="3733560"/>
            <a:ext cx="23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(c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21200" y="472788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218B9-5190-4163-BB82-1D7521FD00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962520" y="2286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1143000"/>
            <a:ext cx="596880" cy="434340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62520" y="175248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10000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0552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0552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21200" y="411840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571640" y="2971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8480" y="58006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5880" y="58672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5880" y="1219320"/>
            <a:ext cx="2133720" cy="495288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16680" y="616644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0552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67080" y="2666880"/>
            <a:ext cx="1600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14800" y="33526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2971800"/>
            <a:ext cx="1371600" cy="2362320"/>
          </a:xfrm>
          <a:custGeom>
            <a:avLst/>
            <a:gdLst/>
            <a:ahLst/>
            <a:rect l="l" t="t" r="r" b="b"/>
            <a:pathLst>
              <a:path w="688" h="1256">
                <a:moveTo>
                  <a:pt x="0" y="0"/>
                </a:moveTo>
                <a:lnTo>
                  <a:pt x="688" y="640"/>
                </a:lnTo>
                <a:lnTo>
                  <a:pt x="504" y="12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3352680"/>
            <a:ext cx="6858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conti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38480" y="526140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22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2362320"/>
            <a:ext cx="2362320" cy="21333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236232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76520"/>
            <a:ext cx="2514600" cy="350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2360" y="3794760"/>
            <a:ext cx="233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(c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21200" y="472788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055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6960" y="836640"/>
            <a:ext cx="321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NOK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le code 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else implic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faudra u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formation lor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réation du grap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utiliser le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u slide 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1855-ED2E-4A2C-942E-42045D0622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9625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29000" y="1447920"/>
            <a:ext cx="596880" cy="396216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20574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38480" y="130500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05520" y="990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1200" y="442332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5716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51148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5880" y="525780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5880" y="1523880"/>
            <a:ext cx="2133720" cy="403884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16680" y="556632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0552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2819520"/>
            <a:ext cx="2210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95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62720" y="3276720"/>
            <a:ext cx="2209680" cy="22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67280" y="3657600"/>
            <a:ext cx="685800" cy="4572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Break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30B63-AEB7-41C8-BAE9-2371349607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Fon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ise en l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uplication de chaque app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CDFG par appel de fonction (i.e. des nœuds hiérarchiq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n mise en l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’est une opération atomique et le BB n ’est pas scind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F151A-A5F9-4890-AB81-2AD7E69B74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Dépendances de donné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ression des dépendances de données entre 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les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live i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live ou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ar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 REGARDER POUR LA PROCHAINE REU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pendances producteur consommateur nécess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r défaut utilisation de la forme SSA ou non SSA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un BB utilise une fonction dont on ne connais pas l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&gt; ignorer ce BB ou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jouter dans live in et live out les variables glob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C603-6100-4A77-8964-F4E8F2A5DC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600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Pla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loc d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ranchement condi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ou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pendances de données inter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8DA04-61DD-413C-882B-3344402B6D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CDF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Un CDFG est un graphe orienté hiérarchique G(V,E) avec V l ’ensemble des nœuds et E l ’ensemble des arcs. Les arcs représentent le flow de contrôle entre les nœuds. Les nœuds aussi nommés blocs sont de deux types: basiques notés BB ou hiérarchiques notés B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F7011-567F-4AE2-8A00-4C8F1206AF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loc de base BB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uite linéaire d’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BB ne contient pas de bou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BB ne contient pas  de branchement condit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rmis la première instruction, il n’y a pas d’instruction dans un BB qui est la cible d’un branch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s de point d ’entrée intermédiaire dans un 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s de point de sortie intermédiaire dans un 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un GOTO hors d ’un </a:t>
            </a:r>
            <a:r>
              <a:rPr b="0" i="1" lang="fr-FR" sz="14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serait donc la dernière instruction d ’un BB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struction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ppel de fo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ffec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Un BB peut être représenté par un D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8071-1DD3-4ABD-9F2B-B21AA4411E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tilisation d’un modèle unique pour représenter les branchements conditio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branchement conditionnel est un bloc hiérarchique conte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nœud fork, un nœud join, un ensemble de blocs hiérarchiques, un ensemble d’ar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est annoté avec le type de branchement conditionnel qu’il représ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if(2) pour un if-then-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if(3) pour un if à trois bran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switch(4) pour un switch-case à 4 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58166-93E5-4288-8ED7-ECDC27D410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e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k (B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ient le calcul des prédic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Join (B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n fusionné avec le BB sui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iendra les « PHY nodes » si la forme SSA est utilis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semble de blocs hiérarch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uccesseurs du nœud fork et prédécesseur du nœud 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r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arcs de contrôle entre le nœud fork et l’ensemble des blocs hiérarchiques sont annotés avec les prédicats évalués dans le nœud f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75E0B-CA62-4CFA-B806-457D654B4E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 : repré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3772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0080" y="309924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3505320"/>
            <a:ext cx="10666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505320"/>
            <a:ext cx="10670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8564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4648320"/>
            <a:ext cx="1752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9880" y="563760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190512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c*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= (x==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= (x== 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019920" y="3048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3505320"/>
            <a:ext cx="6098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77204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4648320"/>
            <a:ext cx="1752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729480" y="3048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48240" y="3505320"/>
            <a:ext cx="6098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0544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3505320"/>
            <a:ext cx="6098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3505320"/>
            <a:ext cx="609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7720" y="563760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witch-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2057400"/>
            <a:ext cx="17524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c*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 = a&lt;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 = !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8080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3208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0680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360" y="13705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if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44792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8120" y="137052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switch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1447920"/>
            <a:ext cx="356688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89520" y="3123000"/>
            <a:ext cx="42912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..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D4E7D-9D34-49A6-8836-965C840AD6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 : représent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7080" y="556164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« à 3 branches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733920" y="2666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2666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25560" y="271836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124080"/>
            <a:ext cx="457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181120" y="38098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38098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426708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1676520"/>
            <a:ext cx="17524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(a&lt;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 = (a&gt;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 = (a==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76640" y="274212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3124080"/>
            <a:ext cx="457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3124080"/>
            <a:ext cx="457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4840" y="274212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09880" y="12945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if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13716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C264F-F2E6-45A8-A05A-EF7252E4E5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: switch avec un break manquan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190512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c*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= (x==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= (x== 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048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410080" y="419112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48769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533412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266720" y="3048120"/>
            <a:ext cx="40500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3505320"/>
            <a:ext cx="6094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3505320"/>
            <a:ext cx="609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484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5800" y="137052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switch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1447920"/>
            <a:ext cx="3567240" cy="4647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27200" y="3123000"/>
            <a:ext cx="42912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..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4648320"/>
            <a:ext cx="60948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65724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505320"/>
            <a:ext cx="6094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7012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4191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251C6-68D7-473F-901D-B3A55DD6D1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ussy</cp:lastModifiedBy>
  <dcterms:modified xsi:type="dcterms:W3CDTF">2009-11-06T07:04:26Z</dcterms:modified>
  <cp:revision>799</cp:revision>
  <dc:subject/>
  <dc:title>PowerPoint Presentation</dc:title>
</cp:coreProperties>
</file>