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E8D0-EB6B-4FD2-BFFC-749267BF2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53F7-C9FB-4548-A448-0CACFBD90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8DF0-FECC-45DE-8292-DE14E77D3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ACB6-6C8B-462E-8ED0-2BAF20DDD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D34-85F7-448E-8631-2F2250DEA2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76F-B8A4-4C7B-B3AB-D07CD5ECA2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64F-E34B-435A-B991-EDED594242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1C4-2AA8-418A-96A4-68DEC2039F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520F-3A48-4A81-8B34-81D3EA4E20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556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A8E-4A63-4C74-8564-86C0B49FBA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45B-550D-4FDB-AC0C-0CD79D3A39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29B9-68AF-4408-942D-BC80ACB83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6B6-D1B4-42F0-A0A5-3D98A200B6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AAD-8896-4948-90D2-CF852B0084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297-196B-471A-A01F-6D18FB2C98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F86-3267-4394-A85E-3CB8D774E0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2D0-B427-42BF-95FD-AF5D68DF8A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008C-8A76-44F1-A3C8-0B5390A1E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69F4-43E2-477C-8BC7-F41ED5812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EA6C-9750-43F2-81CD-85AB10F18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556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69D9-0108-4F65-8EA3-FBD4479D8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084C-F38B-4AF2-949E-1C9574E96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2706-15F4-42F5-B3CB-20D58A505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175F-9678-45FF-9C2F-69299D747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67280" y="6453360"/>
            <a:ext cx="4390920" cy="9360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15FE-E1FE-4B21-AB4D-C1FF3F9C73B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190440"/>
            <a:ext cx="8154720" cy="5724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553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65360" y="6191280"/>
            <a:ext cx="566640" cy="509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50920" y="6323040"/>
            <a:ext cx="504720" cy="471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954000" y="6235560"/>
            <a:ext cx="1457280" cy="4953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3348000" y="6165720"/>
            <a:ext cx="514440" cy="62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633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D34E-9812-4B99-850F-6CEB09F8EFB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33360"/>
            <a:ext cx="2106360" cy="10476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97360" y="115920"/>
            <a:ext cx="566640" cy="509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54200" y="189000"/>
            <a:ext cx="505080" cy="47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00720" y="317520"/>
            <a:ext cx="2664000" cy="12060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132000" y="171360"/>
            <a:ext cx="1457640" cy="495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4581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NRS, UMR 3192, Lab-STI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entre de Recherche - BP 92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F-56321 Lorient Cedex -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570640" y="115920"/>
            <a:ext cx="514080" cy="627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633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Arial"/>
              </a:rPr>
              <a:t>Modèle CDFG</a:t>
            </a:r>
            <a:br>
              <a:rPr sz="4400"/>
            </a:br>
            <a:br>
              <a:rPr sz="4400"/>
            </a:br>
            <a:r>
              <a:rPr b="0" lang="fr-FR" sz="3600" spc="-1" strike="noStrike">
                <a:solidFill>
                  <a:srgbClr val="3333cc"/>
                </a:solidFill>
                <a:latin typeface="Arial"/>
              </a:rPr>
              <a:t>une proposition pour débattre...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808080"/>
                </a:solidFill>
                <a:latin typeface="Arial"/>
              </a:rPr>
              <a:t>Philippe Coussy, Dominique Heller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présentation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2200320"/>
            <a:ext cx="2210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191040"/>
            <a:ext cx="596880" cy="236196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3800520"/>
            <a:ext cx="22100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rps de bou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9718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2657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495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25560" y="467892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92600" y="4257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5019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540396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547704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3267000"/>
            <a:ext cx="2133720" cy="243864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21400" y="570924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659F-651C-4FA8-AA21-ADFCE3FF45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625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44792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20574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13050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21200" y="442332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5716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572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56386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1523880"/>
            <a:ext cx="2133720" cy="441972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16680" y="59378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297180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276720"/>
            <a:ext cx="533520" cy="114300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365760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50328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228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2666880"/>
            <a:ext cx="2362320" cy="2133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66688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1981080"/>
            <a:ext cx="251460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4800" y="1751040"/>
            <a:ext cx="292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K ssi le code 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la forme sui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2360" y="2817360"/>
            <a:ext cx="23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CADD-CCD1-4ED9-8EC0-17EBFC1A67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62520" y="2286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114300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175248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1000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0552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1200" y="411840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1640" y="2971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58006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5867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5880" y="1219320"/>
            <a:ext cx="2133720" cy="495288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16680" y="61664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266688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3352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2971800"/>
            <a:ext cx="1371600" cy="236232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335268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52614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22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2362320"/>
            <a:ext cx="2362320" cy="2133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23623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1676520"/>
            <a:ext cx="2514600" cy="35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960" y="836640"/>
            <a:ext cx="32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OK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e cod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else implic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dra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lor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réation du 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utiliser 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slide 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3733560"/>
            <a:ext cx="23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21200" y="472788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1B1B-C08A-4673-B107-706D99A3CC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62520" y="2286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114300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175248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1000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21200" y="411840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571640" y="2971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58006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5867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1219320"/>
            <a:ext cx="2133720" cy="495288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16680" y="61664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266688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3352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971800"/>
            <a:ext cx="1371600" cy="236232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335268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52614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22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2362320"/>
            <a:ext cx="2362320" cy="2133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23623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76520"/>
            <a:ext cx="2514600" cy="35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2360" y="3794760"/>
            <a:ext cx="233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472788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6960" y="836640"/>
            <a:ext cx="32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OK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e cod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else implic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dra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lor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réation du 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utiliser 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slide 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855B-C611-461E-9E8B-E5E46E70C9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625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1447920"/>
            <a:ext cx="596880" cy="396216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20574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13050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442332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5716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51148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5880" y="525780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1523880"/>
            <a:ext cx="2133720" cy="403884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16680" y="556632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055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2819520"/>
            <a:ext cx="2210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2720" y="3276720"/>
            <a:ext cx="220968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67280" y="3657600"/>
            <a:ext cx="685800" cy="4572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Brea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34E9-FAD2-4599-8BD9-8F402AC0EE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Fon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se en l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uplication de chaque app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CDFG par appel de fonction (i.e. des nœuds hiérarchiq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n mise en l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’est une opération atomique et le BB n ’est pas scind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7283-06BB-41C1-8D4E-D415A488DD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Dépendances de donné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ression des dépendances de données entre 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ive i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ive ou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ar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 REGARDER POUR LA PROCHAINE RE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pendances producteur consommateur nécess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 défaut utilisation de la forme SSA ou non SSA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un BB utilise une fonction dont on ne connais pas 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&gt; ignorer ce BB ou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jouter dans live in et live out les variables glob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2CF9-F400-49D1-A2AC-EEAAC25CC4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600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Pla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loc d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ou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pendances de données inter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62358-964D-4889-ACD6-7258439D12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CDF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Un CDFG est un graphe orienté hiérarchique G(V,E) avec V l ’ensemble des nœuds et E l ’ensemble des arcs. Les arcs représentent le flow de contrôle entre les nœuds. Les nœuds aussi nommés blocs sont de deux types: basiques notés BB ou hiérarchiques notés B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DCA7-774B-4EC7-A4EE-C58B2CD586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loc de base BB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ite linéaire d’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BB ne contient pas de bou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BB ne contient pas  de branchement condit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rmis la première instruction, il n’y a pas d’instruction dans un BB qui est la cible d’un branch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point d ’entrée intermédiaire dans un 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point de sortie intermédiaire dans un 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un GOTO hors d ’un </a:t>
            </a:r>
            <a:r>
              <a:rPr b="0" i="1" lang="fr-FR" sz="14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serait donc la dernière instruction d ’un BB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truction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el de fo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ffec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Un BB peut être représenté par un D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5048E-F82E-4C66-8D68-4450F084FF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tilisation d’un modèle unique pour représenter les branchements conditio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branchement conditionnel est un bloc hiérarchique conte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nœud fork, un nœud join, un ensemble de blocs hiérarchiques, un ensemble d’a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est annoté avec le type de branchement conditionnel qu’il re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f(2) pour un if-then-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f(3) pour un if à trois bran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switch(4) pour un switch-case à 4 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3445-047B-4674-B1B2-349BBA43B5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e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k (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ient le calcul des prédic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Join (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n fusionné avec le BB sui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iendra les « PHY nodes » si la forme SSA est utilis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semble de blocs hiérarc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uccesseurs du nœud fork et prédécesseur du nœud 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arcs de contrôle entre le nœud fork et l’ensemble des blocs hiérarchiques sont annotés avec les prédicats évalués dans le nœud f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5D58A-EAF5-4B03-8BBA-BB75269296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 : repré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3772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0080" y="309924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505320"/>
            <a:ext cx="10666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505320"/>
            <a:ext cx="10670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856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648320"/>
            <a:ext cx="1752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9880" y="56376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19051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= (x==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= (x==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01992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7720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4648320"/>
            <a:ext cx="1752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72948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4824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054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3505320"/>
            <a:ext cx="609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7720" y="563760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witch-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2057400"/>
            <a:ext cx="17524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 = a&lt;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 = !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8080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3208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680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360" y="13705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if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44792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8120" y="13705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switch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1447920"/>
            <a:ext cx="356688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89520" y="3123000"/>
            <a:ext cx="4291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6295-44F4-4B80-94AB-571B9AECA4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 : représent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7080" y="556164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« à 3 branche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733920" y="2666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2666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25560" y="271836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18112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42670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676520"/>
            <a:ext cx="17524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(a&lt;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 = (a&gt;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 = (a==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76640" y="274212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4840" y="274212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09880" y="12945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if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13716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8B92-B416-4AD0-858E-E35C84C8A5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: switch avec un break manqua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19051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= (x==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= (x==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10080" y="41911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8769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533412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266720" y="3048120"/>
            <a:ext cx="40500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3505320"/>
            <a:ext cx="6094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505320"/>
            <a:ext cx="609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84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5800" y="13705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switch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1447920"/>
            <a:ext cx="3567240" cy="4647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27200" y="3123000"/>
            <a:ext cx="4291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4648320"/>
            <a:ext cx="6094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65724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505320"/>
            <a:ext cx="6094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012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4191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F5F0-BD94-4A2A-BF6B-BF52F3E283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ussy</cp:lastModifiedBy>
  <dcterms:modified xsi:type="dcterms:W3CDTF">2009-11-06T07:04:26Z</dcterms:modified>
  <cp:revision>799</cp:revision>
  <dc:subject/>
  <dc:title>PowerPoint Presentation</dc:title>
</cp:coreProperties>
</file>