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png" ContentType="image/png"/>
  <Override PartName="/ppt/media/image11.wmf" ContentType="image/x-wmf"/>
  <Override PartName="/ppt/media/image12.png" ContentType="image/png"/>
  <Override PartName="/ppt/media/image8.png" ContentType="image/png"/>
  <Override PartName="/ppt/media/image9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391D3-C290-4155-8875-A2C29DE35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DE573-F6EC-4440-8759-D64FD045E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606CF-C0CD-4F4D-857F-D157BEE5C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D7D5B-56AD-455C-9192-F54E10B4C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53039-1C60-4558-89B1-A65858245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ACA97-D96A-4EF5-959F-56E57CE02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56F8D-75D6-4E6B-B035-B09A1CEB6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0A42A-AF2A-433B-B790-8B99D2F36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6E749-0A8D-497D-9412-0B07D389B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AA2BA-EF0F-4DAA-970A-8227DA0AE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2B868-44C7-4275-A10E-B4DD027CE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BF0C4-2D5F-40EA-AEE8-A28A0A36F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90EC2-0D56-4357-A40D-98B225AFCD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Francois.pecheux@lip6.fr" TargetMode="External"/><Relationship Id="rId2" Type="http://schemas.openxmlformats.org/officeDocument/2006/relationships/hyperlink" Target="mailto:Francois.pecheux@lip6.fr" TargetMode="External"/><Relationship Id="rId3" Type="http://schemas.openxmlformats.org/officeDocument/2006/relationships/hyperlink" Target="mailto:Julien.denoulet@lip6.fr" TargetMode="External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9280" y="228564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UE SYSTEMC – Cours 2</a:t>
            </a:r>
            <a:br>
              <a:rPr sz="4000"/>
            </a:b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Etude et modélisation d’un processeur en System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Francois.pecheux</a:t>
            </a:r>
            <a:r>
              <a:rPr b="0" lang="fr-FR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@lip6.f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Julien.denoulet@lip6.f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0" y="274320"/>
            <a:ext cx="4176720" cy="17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rac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imul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446076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ur ajouter des traces (.vcd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0920" y="1136520"/>
            <a:ext cx="7200720" cy="572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VHDL – SystemC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tit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y_model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or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input1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: in BI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input2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: in BI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output1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: out BIT;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output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ut BI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y_model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rchitectur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y_arc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y_model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cess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input1, input2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ariabl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y_var1,my_var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I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y_var1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:=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o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input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y_var2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:=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o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input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output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input1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y_var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output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input2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y_var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d proc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y_arc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#includ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“systemc.h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_MODUL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y_mode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_in&lt;bool&gt;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input1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_in&lt;bool&gt;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input2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_out&lt;bool&gt;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output1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_out&lt;bool&gt;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output2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_CTO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y_mode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_METHO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 process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nsitiv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&lt;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input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&lt;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input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oid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(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ool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y_var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y_var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y_var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~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input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y_var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~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input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output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input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y_var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output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input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y_var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VHDL – SystemC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cess(</a:t>
            </a:r>
            <a:r>
              <a:rPr b="1" i="1" lang="en-US" sz="1600" spc="-1" strike="noStrike">
                <a:solidFill>
                  <a:srgbClr val="000000"/>
                </a:solidFill>
                <a:latin typeface="Courier New"/>
              </a:rPr>
              <a:t> input1, input2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cess(cl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 .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 ( clk’event and clk = ‘1’) th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C_METHOD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( process 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nsitiv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&lt;&lt; </a:t>
            </a:r>
            <a:r>
              <a:rPr b="0" i="1" lang="en-US" sz="1600" spc="-1" strike="noStrike">
                <a:solidFill>
                  <a:srgbClr val="000000"/>
                </a:solidFill>
                <a:latin typeface="Courier New"/>
              </a:rPr>
              <a:t>input1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&lt;&lt; </a:t>
            </a:r>
            <a:r>
              <a:rPr b="0" i="1" lang="en-US" sz="1600" spc="-1" strike="noStrike">
                <a:solidFill>
                  <a:srgbClr val="000000"/>
                </a:solidFill>
                <a:latin typeface="Courier New"/>
              </a:rPr>
              <a:t>input2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C_METHOD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( process 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nsitive_pos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&lt;&lt; </a:t>
            </a:r>
            <a:r>
              <a:rPr b="0" i="1" lang="en-US" sz="1600" spc="-1" strike="noStrike">
                <a:solidFill>
                  <a:srgbClr val="000000"/>
                </a:solidFill>
                <a:latin typeface="Courier New"/>
              </a:rPr>
              <a:t>clk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187280" y="3141720"/>
            <a:ext cx="3745080" cy="273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NIMI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9640" y="451008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932360" y="335772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932360" y="371808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932360" y="40784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932360" y="523080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4932360" y="55911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987640" y="2422440"/>
            <a:ext cx="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826560" y="4438800"/>
            <a:ext cx="7308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5001840" y="3286080"/>
            <a:ext cx="7308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01840" y="3646440"/>
            <a:ext cx="7308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5001840" y="4006800"/>
            <a:ext cx="7308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001840" y="5157720"/>
            <a:ext cx="7308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5001840" y="5518080"/>
            <a:ext cx="7308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916360" y="2782800"/>
            <a:ext cx="14436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85800" y="42940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989080" y="26384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076720" y="35020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076720" y="38624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076720" y="5014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076720" y="537372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076720" y="314172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997440" y="544680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853080" y="5086440"/>
            <a:ext cx="1029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O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854160" y="3214800"/>
            <a:ext cx="104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782160" y="3573360"/>
            <a:ext cx="1089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M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708360" y="3933720"/>
            <a:ext cx="1168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MWRI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700360" y="3214800"/>
            <a:ext cx="52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261080" y="4365720"/>
            <a:ext cx="77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651640" y="3141720"/>
            <a:ext cx="2881080" cy="273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O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727240" y="3214800"/>
            <a:ext cx="104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667640" y="2422440"/>
            <a:ext cx="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596360" y="2782800"/>
            <a:ext cx="14436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669080" y="26384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380360" y="3214800"/>
            <a:ext cx="52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726880" y="3573360"/>
            <a:ext cx="1089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M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726160" y="3933720"/>
            <a:ext cx="1168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MWRI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797800" y="5446800"/>
            <a:ext cx="1029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O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797800" y="508644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 système MINIMI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88080" y="1773360"/>
            <a:ext cx="836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eur 32 bits MIPS R3000 simplifié + mémoire d’instructions et de donné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2195640" y="2421000"/>
            <a:ext cx="3889080" cy="424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692360" y="530064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869080" y="3068640"/>
            <a:ext cx="93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869080" y="5661000"/>
            <a:ext cx="93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869080" y="6021360"/>
            <a:ext cx="93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869080" y="3429000"/>
            <a:ext cx="93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5868720" y="3789360"/>
            <a:ext cx="93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140360" y="1700280"/>
            <a:ext cx="0" cy="71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1979280" y="5229360"/>
            <a:ext cx="7308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6154200" y="2997360"/>
            <a:ext cx="7308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6154200" y="5589720"/>
            <a:ext cx="7308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6154200" y="5950080"/>
            <a:ext cx="7308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6154200" y="3355920"/>
            <a:ext cx="7308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6154200" y="3716280"/>
            <a:ext cx="7308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068720" y="2060640"/>
            <a:ext cx="14436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838160" y="5084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141800" y="1916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229080" y="54450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229080" y="58053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229080" y="32130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229080" y="357192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229080" y="285264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878880" y="364500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878880" y="3284640"/>
            <a:ext cx="1029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O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879960" y="2924280"/>
            <a:ext cx="104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950880" y="5516640"/>
            <a:ext cx="1089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M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877080" y="5877000"/>
            <a:ext cx="1168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MWRI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565800" y="1440000"/>
            <a:ext cx="52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902160" y="5156280"/>
            <a:ext cx="77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556000" y="4869000"/>
            <a:ext cx="3313080" cy="15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e de contrô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FS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556000" y="2708280"/>
            <a:ext cx="3313080" cy="15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min de donné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DATAPAT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3276720" y="4292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40000" y="39322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340000" y="393228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32360" y="429264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698560" y="4940280"/>
            <a:ext cx="1226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 comman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2920" y="3932280"/>
            <a:ext cx="1031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ind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 processeur MINIMI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468360" y="34275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68360" y="378792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68360" y="414828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68360" y="5300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468360" y="566100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H="1">
            <a:off x="537840" y="3355920"/>
            <a:ext cx="7308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537840" y="3716280"/>
            <a:ext cx="7308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537840" y="4076640"/>
            <a:ext cx="7308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flipH="1">
            <a:off x="537840" y="5227560"/>
            <a:ext cx="7308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537840" y="5587920"/>
            <a:ext cx="7308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12720" y="3571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12720" y="3932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2720" y="508464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12720" y="54435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12720" y="32115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187280" y="1484280"/>
            <a:ext cx="7777440" cy="439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263240" y="3284640"/>
            <a:ext cx="104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885080" y="765000"/>
            <a:ext cx="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813800" y="1125360"/>
            <a:ext cx="14436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886520" y="9810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7597800" y="1557360"/>
            <a:ext cx="52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262880" y="3643200"/>
            <a:ext cx="1089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M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262160" y="4003560"/>
            <a:ext cx="1168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MWRI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333800" y="5516640"/>
            <a:ext cx="1029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O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333800" y="515628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 mémoi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348000" y="1628640"/>
            <a:ext cx="4176720" cy="201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348000" y="3789360"/>
            <a:ext cx="4176720" cy="20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598880" y="2421000"/>
            <a:ext cx="13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émo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ru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599240" y="4221000"/>
            <a:ext cx="109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émo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né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348000" y="1628640"/>
            <a:ext cx="4176720" cy="28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@0 : Inst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348000" y="1916280"/>
            <a:ext cx="417672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@4 : Ins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348000" y="2205000"/>
            <a:ext cx="417672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@8 : Ins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348000" y="2492280"/>
            <a:ext cx="417672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@C : Ins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348000" y="3789360"/>
            <a:ext cx="417672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@80 : Data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348000" y="4076640"/>
            <a:ext cx="417672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@84 : Data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cesseur MINIMI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79280" y="1628640"/>
            <a:ext cx="5267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1 Register File = 32 registres 32 bits nommés $0 à $31 ($0=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1 registre PC (Program count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1 registre IR (Instruction regist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1 registre DT (Dat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1 registre AD (Addres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580000" y="1557360"/>
            <a:ext cx="3168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0=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580000" y="1989000"/>
            <a:ext cx="3168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580000" y="2637000"/>
            <a:ext cx="3168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580000" y="3789360"/>
            <a:ext cx="3168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580000" y="4508640"/>
            <a:ext cx="3168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580000" y="5229360"/>
            <a:ext cx="3168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580000" y="5877000"/>
            <a:ext cx="3168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878520" y="227664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s formats d’instructions du MIPSR30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 processeur possède 57 instructions qui se répartissent en 4 classes 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structions arithmétiques/logiques entre regist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structions de branch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structions de lecture/écriture mémo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structions systèm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utes les instructions ont une longueur de 32 bits et possèdent un des trois formats suivants 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466560" y="3860640"/>
            <a:ext cx="8209080" cy="217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Décodage de l’opc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971640" y="1773360"/>
            <a:ext cx="7416720" cy="491472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4284720" y="4797360"/>
            <a:ext cx="863640" cy="432000"/>
          </a:xfrm>
          <a:prstGeom prst="rect">
            <a:avLst/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763640" y="3429000"/>
            <a:ext cx="863640" cy="431640"/>
          </a:xfrm>
          <a:prstGeom prst="rect">
            <a:avLst/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076720" y="2997360"/>
            <a:ext cx="863640" cy="431640"/>
          </a:xfrm>
          <a:prstGeom prst="rect">
            <a:avLst/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763640" y="2852640"/>
            <a:ext cx="863640" cy="576360"/>
          </a:xfrm>
          <a:prstGeom prst="rect">
            <a:avLst/>
          </a:prstGeom>
          <a:noFill/>
          <a:ln w="572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250920" y="4149720"/>
            <a:ext cx="8137440" cy="1800360"/>
            <a:chOff x="250920" y="4149720"/>
            <a:chExt cx="8137440" cy="1800360"/>
          </a:xfrm>
        </p:grpSpPr>
        <p:sp>
          <p:nvSpPr>
            <p:cNvPr id="44" name=""/>
            <p:cNvSpPr/>
            <p:nvPr/>
          </p:nvSpPr>
          <p:spPr>
            <a:xfrm>
              <a:off x="250920" y="4149720"/>
              <a:ext cx="8137440" cy="1511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12000" y="5661000"/>
              <a:ext cx="2376360" cy="289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onstructe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250920" y="2852640"/>
            <a:ext cx="8137440" cy="863640"/>
            <a:chOff x="250920" y="2852640"/>
            <a:chExt cx="8137440" cy="863640"/>
          </a:xfrm>
        </p:grpSpPr>
        <p:sp>
          <p:nvSpPr>
            <p:cNvPr id="47" name=""/>
            <p:cNvSpPr/>
            <p:nvPr/>
          </p:nvSpPr>
          <p:spPr>
            <a:xfrm>
              <a:off x="250920" y="2852640"/>
              <a:ext cx="8137440" cy="576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219640" y="3429000"/>
              <a:ext cx="31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nnées membres, l’interfa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0920" y="1844640"/>
            <a:ext cx="8137440" cy="792360"/>
            <a:chOff x="250920" y="1844640"/>
            <a:chExt cx="8137440" cy="792360"/>
          </a:xfrm>
        </p:grpSpPr>
        <p:sp>
          <p:nvSpPr>
            <p:cNvPr id="50" name=""/>
            <p:cNvSpPr/>
            <p:nvPr/>
          </p:nvSpPr>
          <p:spPr>
            <a:xfrm>
              <a:off x="250920" y="2205000"/>
              <a:ext cx="8137440" cy="432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443640" y="1844640"/>
              <a:ext cx="1944720" cy="360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Nom du modu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half_adder.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88800" y="1434960"/>
            <a:ext cx="55756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ile : half_adder.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#include "systemc.h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C_MODULE(half_ad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c_in&lt;bool&gt; a,b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c_out&lt;bool&gt; sum,carry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prc_half_adder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C_CTOR(half_ad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C_METHOD(prc_half_adder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ensitive &lt;&lt; a &lt;&lt; b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973080" y="6308640"/>
            <a:ext cx="154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half_adder.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Instruction « special 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395280" y="1557360"/>
            <a:ext cx="8064360" cy="496260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1332000" y="4437000"/>
            <a:ext cx="863640" cy="432000"/>
          </a:xfrm>
          <a:prstGeom prst="rect">
            <a:avLst/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emples d’instru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6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addi $12, $0, 0x80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ff3300"/>
                </a:solidFill>
                <a:latin typeface="Arial"/>
              </a:rPr>
              <a:t>met 0x80 dans $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ff3300"/>
                </a:solidFill>
                <a:latin typeface="Arial"/>
              </a:rPr>
              <a:t>format 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 flipH="1">
            <a:off x="3850920" y="1413000"/>
            <a:ext cx="289080" cy="21564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215240" y="1268280"/>
            <a:ext cx="195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eur immédi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1028880" y="3284640"/>
            <a:ext cx="8115120" cy="70488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468000" y="4437000"/>
            <a:ext cx="773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001000 00000 01100 000000001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H="1">
            <a:off x="1402920" y="3933720"/>
            <a:ext cx="360360" cy="503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flipH="1">
            <a:off x="2627280" y="3933720"/>
            <a:ext cx="217440" cy="503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3851280" y="3933720"/>
            <a:ext cx="1440" cy="503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>
            <a:off x="6012000" y="3933720"/>
            <a:ext cx="1440" cy="503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emples d’instru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3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lw $6, 4($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ff3300"/>
                </a:solidFill>
                <a:latin typeface="Arial"/>
              </a:rPr>
              <a:t>charge dans $6 le contenu de la case mémoire pointée par ($2+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208680" y="2133720"/>
            <a:ext cx="328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istre d’adressage mémo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flipH="1">
            <a:off x="2195640" y="1989000"/>
            <a:ext cx="288720" cy="21600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557080" y="1773360"/>
            <a:ext cx="74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f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2906280" y="2278080"/>
            <a:ext cx="289080" cy="21600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8028000" y="5805360"/>
            <a:ext cx="9367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8028000" y="6021360"/>
            <a:ext cx="9367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8028000" y="6237360"/>
            <a:ext cx="9367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8028000" y="5589720"/>
            <a:ext cx="936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7164360" y="558972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5722200" y="5445000"/>
            <a:ext cx="1463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$2=0x10010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7525800" y="5661000"/>
            <a:ext cx="383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7525800" y="5877000"/>
            <a:ext cx="383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7526520" y="6093000"/>
            <a:ext cx="41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1028880" y="3716280"/>
            <a:ext cx="8115120" cy="70488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/>
          <p:nvPr/>
        </p:nvSpPr>
        <p:spPr>
          <a:xfrm>
            <a:off x="468000" y="4869000"/>
            <a:ext cx="773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100011 00010 00110 0000000000000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flipH="1">
            <a:off x="1402920" y="4365720"/>
            <a:ext cx="360360" cy="503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>
            <a:off x="2627280" y="4365720"/>
            <a:ext cx="217440" cy="503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 flipH="1">
            <a:off x="3851280" y="4365720"/>
            <a:ext cx="1440" cy="503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 flipH="1">
            <a:off x="6012000" y="4365720"/>
            <a:ext cx="1440" cy="503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89360" y="5805360"/>
            <a:ext cx="6069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000000000000000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0000000000000100 = 0x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000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0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 0001000000000001 0000000000000000 = 0x1001 0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0001000000000001 0000000000000100 = 0x1001 0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>
            <a:off x="-360" y="6381720"/>
            <a:ext cx="637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600" y="5516640"/>
            <a:ext cx="21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e sig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emples d’instru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6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add $13, $11, $8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ff3300"/>
                </a:solidFill>
                <a:latin typeface="Arial"/>
              </a:rPr>
              <a:t>met la somme de $11 et $8 dans $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ff3300"/>
                </a:solidFill>
                <a:latin typeface="Arial"/>
              </a:rPr>
              <a:t>format 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3850920" y="1413000"/>
            <a:ext cx="289080" cy="21564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215240" y="1268280"/>
            <a:ext cx="195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eur immédi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68720" y="4437000"/>
            <a:ext cx="81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001000 01000 01011 01101 XXXXX 1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flipH="1">
            <a:off x="1402920" y="3933720"/>
            <a:ext cx="360360" cy="503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flipH="1">
            <a:off x="2627280" y="3933720"/>
            <a:ext cx="217440" cy="503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H="1">
            <a:off x="3851280" y="3933720"/>
            <a:ext cx="1440" cy="503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013440" y="3933720"/>
            <a:ext cx="358920" cy="503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1076400" y="3284640"/>
            <a:ext cx="8067600" cy="65700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 flipH="1">
            <a:off x="5003280" y="3933720"/>
            <a:ext cx="1800" cy="503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093080" y="3933720"/>
            <a:ext cx="718920" cy="503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630880" y="5445000"/>
            <a:ext cx="361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S toujours registre sou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T peut être source et destin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D toujours registre destin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emples d’instru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beq $8,$10, sa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ff3300"/>
                </a:solidFill>
                <a:latin typeface="Arial"/>
              </a:rPr>
              <a:t>le processeur va à l’adresse saut si $8=$10 (étudié en T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0" y="83628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struction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rithmétiqu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tretch/>
        </p:blipFill>
        <p:spPr>
          <a:xfrm>
            <a:off x="324000" y="836640"/>
            <a:ext cx="4028760" cy="580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>
            <a:off x="108000" y="112680"/>
            <a:ext cx="4930560" cy="6632640"/>
          </a:xfrm>
          <a:prstGeom prst="rect">
            <a:avLst/>
          </a:prstGeom>
          <a:ln w="0">
            <a:noFill/>
          </a:ln>
        </p:spPr>
      </p:pic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29200" y="54900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struction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 branch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179280" y="620640"/>
            <a:ext cx="5819760" cy="6067440"/>
          </a:xfrm>
          <a:prstGeom prst="rect">
            <a:avLst/>
          </a:prstGeom>
          <a:ln w="0">
            <a:noFill/>
          </a:ln>
        </p:spPr>
      </p:pic>
      <p:sp>
        <p:nvSpPr>
          <p:cNvPr id="292" name=""/>
          <p:cNvSpPr/>
          <p:nvPr/>
        </p:nvSpPr>
        <p:spPr>
          <a:xfrm>
            <a:off x="457200" y="0"/>
            <a:ext cx="868680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structions d’accès mémoi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8856720" cy="616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 banc de regist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2411280" y="1628640"/>
            <a:ext cx="4321440" cy="2521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3348000" y="4149720"/>
            <a:ext cx="0" cy="1224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5796000" y="4149720"/>
            <a:ext cx="0" cy="1224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53080" y="5300640"/>
            <a:ext cx="14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X_RF_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7238520" y="5300640"/>
            <a:ext cx="14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X_RF_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411280" y="5373720"/>
            <a:ext cx="187164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859280" y="5373720"/>
            <a:ext cx="187164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 flipH="1" flipV="1">
            <a:off x="3348000" y="5373360"/>
            <a:ext cx="93672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 flipH="1" flipV="1">
            <a:off x="5796000" y="5373360"/>
            <a:ext cx="93672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 flipH="1">
            <a:off x="2411280" y="5373720"/>
            <a:ext cx="93672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 flipH="1">
            <a:off x="4859280" y="5373720"/>
            <a:ext cx="93672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 flipV="1">
            <a:off x="2700360" y="5734080"/>
            <a:ext cx="0" cy="574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 flipV="1">
            <a:off x="3995640" y="5734080"/>
            <a:ext cx="0" cy="574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flipV="1">
            <a:off x="5076720" y="5734080"/>
            <a:ext cx="0" cy="574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V="1">
            <a:off x="6516720" y="5734080"/>
            <a:ext cx="0" cy="574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2126520" y="630864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R(20:1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3437640" y="630864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R(15:1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4574160" y="630864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R(25:2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6014160" y="630864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R(20:1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934160" y="5373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6374160" y="5373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557800" y="5373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853080" y="5373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979640" y="5516640"/>
            <a:ext cx="431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H="1">
            <a:off x="6732360" y="5516640"/>
            <a:ext cx="431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250920" y="2276640"/>
            <a:ext cx="2160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6732720" y="2276640"/>
            <a:ext cx="1942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7598880" y="184464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26160" y="1916280"/>
            <a:ext cx="115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Write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_METHOD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88800" y="1434960"/>
            <a:ext cx="55756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ile : half_adder.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#include "systemc.h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C_MODULE(half_ad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c_in&lt;bool&gt; a,b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c_out&lt;bool&gt; sum,carry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prc_half_adder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C_CTOR(half_ad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C_METHOD(prc_half_adder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ensitive &lt;&lt; a &lt;&lt; b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41560" y="1865160"/>
            <a:ext cx="3550320" cy="1739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éclare un process s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émoire appelé prc_half_adder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Ne peut utiliser les wa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ensibilité « statique » sur a et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0_32.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ifndef _CST0_32_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define _CST0_32_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include "systemc.h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MODULE(cst0_3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out&lt;sc_uint&lt;32&gt; &gt; 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CTOR(cst0_3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METHOD(mWrit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void mWrite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.write(0) 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end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224680" y="1557360"/>
            <a:ext cx="365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tilisé pour générer la constante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940000" y="259920"/>
            <a:ext cx="296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x21_5.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79280" y="26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ifndef _MUX21_5_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define _MUX21_5_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include "systemc.h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MODULE(mux21_5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in&lt;sc_uint&lt;5&gt; &gt; IN0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in&lt;sc_uint&lt;5&gt; &gt; IN1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in&lt;bool&gt; COM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out&lt;sc_uint&lt;5&gt; &gt; 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CTOR(mux21_5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METHOD(mWrit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ensitive &lt;&lt; IN0 &lt;&lt; IN1 &lt;&lt; COM 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void mWrite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int com=(int)COM.read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witch (com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case 0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.write(IN0.read()); brea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case 1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.write(IN1.read()); brea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end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656320" y="1413000"/>
            <a:ext cx="333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tilisé pour choisir les regist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urce et destin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364000" y="115560"/>
            <a:ext cx="3610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u_32.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79280" y="189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ifndef _ALU_32_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define _ALU_32_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include "systemc.h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MODULE(alu_3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in&lt;sc_uint&lt;32&gt; &gt; A, B; sc_in&lt;sc_uint&lt;3&gt; &gt; Aluo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out&lt;sc_uint&lt;32&gt; &gt; Aluout;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out&lt;bool&gt; zero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CTOR(alu_32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METHOD(mWrit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ensitive &lt;&lt; A &lt;&lt; B &lt;&lt; Aluop 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void mWrite(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uint&lt;32&gt; result = 0 ; sc_uint&lt;32&gt; opA ; sc_uint&lt;32&gt; opB 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opA = A.read() 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opB = B.read() ;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witch(Aluop.read()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case 0: result = opA &amp; opB ; brea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case 1: result = opA | opB ; brea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case 2: result = opA + opB ; brea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case 6: result = opA - opB ; brea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case 7: result = opA | opB ; brea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default: cout &lt;&lt; "aluop illegal" &lt;&lt; endl ; brea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Aluout=resul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zero=(result==0)?1:0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end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sign_extend_32.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2400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ifndef _NOSIGN_EXTEND_32_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define _NOSIGN_EXTEND_32_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include "systemc.h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MODULE(nosign_extend_3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in&lt;sc_uint&lt;16&gt; &gt; I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out&lt;sc_uint&lt;32&gt; &gt; O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CTOR(nosign_extend_3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METHOD(mWrit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ensitive &lt;&lt; I 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void mWrite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uint&lt;16&gt; i_value=I.read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O.write(0x00000000 | i_value.range(15,0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end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gn_extend_32.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25092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ifndef _SIGN_EXTEND_32_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define _SIGN_EXTEND_32_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include "systemc.h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MODULE(sign_extend_3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in&lt;sc_uint&lt;16&gt; &gt; I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out&lt;sc_uint&lt;32&gt; &gt; O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CTOR(sign_extend_3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METHOD(mWrit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ensitive &lt;&lt; I 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void mWrite(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uint&lt;16&gt; i_value=I.read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if (i_value[15]==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O.write(0xFFFF0000 | i_valu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O.write(i_valu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end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780000" y="333000"/>
            <a:ext cx="512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in_reg_32.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79280" y="549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ifndef _PLAIN_REG_32_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define _PLAIN_REG_32_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include "systemc.h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MODULE(plain_reg_3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in&lt;sc_uint&lt;32&gt; &gt; D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in&lt;bool&gt; regWrit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in&lt;bool&gt; cl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out&lt;sc_uint&lt;32&gt; &gt; Q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CTOR(plain_reg_3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METHOD(mWrit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ensitive &lt;&lt; clk.po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void mWrite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if (regWrit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Q = D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end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870160" y="155736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tilisé pour AD et D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940000" y="274320"/>
            <a:ext cx="280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r_reg_32.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79280" y="26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ifndef _IR_REG_32_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define _IR_REG_32_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include "systemc.h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MODULE(ir_reg_3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in&lt;sc_uint&lt;32&gt; &gt; D; sc_in&lt;bool&gt; regWrite; sc_in&lt;bool&gt; cl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out&lt;sc_uint&lt;32&gt; &gt; Q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out&lt;sc_uint&lt;16&gt; &gt; Q15_0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out&lt;sc_uint&lt;5&gt; &gt; Q15_11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out&lt;sc_uint&lt;5&gt; &gt; Q20_16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out&lt;sc_uint&lt;5&gt; &gt; Q25_21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CTOR(ir_reg_32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METHOD(mWrit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ensitive &lt;&lt; clk.po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void mWrite(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if (regWrite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uint&lt;32&gt; din=D.read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Q = D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Q15_0.write(din.range(15,0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Q15_11.write(din.range(15,11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Q20_16.write(din.range(20,16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Q25_21.write(din.range(25,21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end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5940000" y="274320"/>
            <a:ext cx="3024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c_reg_32.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79280" y="189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1000"/>
          </a:bodyPr>
          <a:p>
            <a:pPr marL="243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ifndef _PC_REG_32_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define _PC_REG_32_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include "systemc.h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MODULE(pc_reg_3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in&lt;sc_uint&lt;32&gt; &gt; D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in&lt;bool&gt; cl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in&lt;bool&gt; PCWrit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in&lt;bool&gt; rese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out&lt;sc_uint&lt;32&gt; &gt; Q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CTOR(pc_reg_32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METHOD(mWrit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ensitive &lt;&lt; clk.po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void mWrite(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uint&lt;32&gt; d_input=D.read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if (reset==0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Q = 0x0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else if (PCWrite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Q = d_inpu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end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04000" y="2636640"/>
            <a:ext cx="212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f32.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79280" y="189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ifndef _RF32_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define _RF32_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include "systemc.h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MODULE(rf3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in&lt;bool&gt; clk, RegWrite; sc_in&lt;sc_uint&lt;5&gt; &gt; Addwrite, Addrd1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in&lt;sc_uint&lt;32&gt; &gt; Writedata; sc_out&lt;sc_uint&lt;32&gt; &gt; data1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signal&lt;sc_uint&lt;32&gt; &gt; regFile[32]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CTOR(rf32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METHOD(mReadReg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ensitive &lt;&lt; Addrd1 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ensitive &lt;&lt; clk.neg() 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METHOD(mWriteReg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ensitive &lt;&lt; clk.pos() 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void mReadRegs(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if (Addrd1.read()==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data1.write(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data1.write(regFile[Addrd1.read()].read(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void mWriteReg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if (RegWrit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if (Addwrite.read()!=0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regFile[Addwrite.read()].write(Writedata.read(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end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/>
          <p:nvPr/>
        </p:nvSpPr>
        <p:spPr>
          <a:xfrm>
            <a:off x="2195640" y="2421000"/>
            <a:ext cx="3889080" cy="424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692360" y="530064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5869080" y="3068640"/>
            <a:ext cx="93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869080" y="5661000"/>
            <a:ext cx="93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5869080" y="6021360"/>
            <a:ext cx="93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5869080" y="3429000"/>
            <a:ext cx="93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 flipH="1">
            <a:off x="5868720" y="3789360"/>
            <a:ext cx="93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140360" y="1700280"/>
            <a:ext cx="0" cy="71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 flipH="1">
            <a:off x="1979280" y="5229360"/>
            <a:ext cx="7308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 flipH="1">
            <a:off x="6154200" y="2997360"/>
            <a:ext cx="7308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 flipH="1">
            <a:off x="6154200" y="5589720"/>
            <a:ext cx="7308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 flipH="1">
            <a:off x="6154200" y="5950080"/>
            <a:ext cx="7308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6154200" y="3355920"/>
            <a:ext cx="7308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 flipH="1">
            <a:off x="6154200" y="3716280"/>
            <a:ext cx="7308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4068720" y="2060640"/>
            <a:ext cx="14436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1838160" y="5084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4141800" y="1916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6229080" y="54450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6229080" y="58053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6229080" y="32130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229080" y="357192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6229080" y="285264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878880" y="364500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6878880" y="3284640"/>
            <a:ext cx="1029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O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879960" y="2924280"/>
            <a:ext cx="104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6950880" y="5516640"/>
            <a:ext cx="1089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M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6877080" y="5877000"/>
            <a:ext cx="1168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MWRI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3565800" y="1440000"/>
            <a:ext cx="52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902160" y="5156280"/>
            <a:ext cx="77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556000" y="4869000"/>
            <a:ext cx="3313080" cy="15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e de contrô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FS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56000" y="2708280"/>
            <a:ext cx="3313080" cy="15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min de donné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DATAPAT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 flipV="1">
            <a:off x="3276720" y="4292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340000" y="39322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340000" y="393228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932360" y="429264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698560" y="4940280"/>
            <a:ext cx="1226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 comman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4282920" y="3932280"/>
            <a:ext cx="1031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ind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 processeur MINIMI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_METHOD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ile : half_adder.cp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include "half_adder.h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half_adder::prc_half_adder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um = a ^ b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arry = a &amp; b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8856720" cy="616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ore F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684360" y="1628640"/>
            <a:ext cx="6912000" cy="460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924360" y="2276640"/>
            <a:ext cx="1008000" cy="2952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ist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’ét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763640" y="2276640"/>
            <a:ext cx="1728720" cy="2952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combinatoir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364000" y="2276640"/>
            <a:ext cx="1729080" cy="2952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o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éné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es sor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e Mo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(combinatoir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3492360" y="3716280"/>
            <a:ext cx="432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3716280"/>
            <a:ext cx="431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 flipV="1">
            <a:off x="4429080" y="5229360"/>
            <a:ext cx="0" cy="1224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4626360" y="632952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l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84360" y="4724280"/>
            <a:ext cx="1296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1189080" y="2924280"/>
            <a:ext cx="720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093080" y="3716280"/>
            <a:ext cx="503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V="1">
            <a:off x="5148360" y="2060280"/>
            <a:ext cx="0" cy="1655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1187280" y="2060640"/>
            <a:ext cx="3961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1187280" y="2060640"/>
            <a:ext cx="0" cy="863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89280" y="4313160"/>
            <a:ext cx="68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zero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743600" y="1916280"/>
            <a:ext cx="11941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write_p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ux_rf_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write_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ux_rf_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write_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write_d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write_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ux_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ux_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ux_add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lu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emr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V="1">
            <a:off x="3995640" y="5229360"/>
            <a:ext cx="0" cy="1224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3061440" y="6381720"/>
            <a:ext cx="8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nre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427640" y="4941720"/>
            <a:ext cx="144360" cy="28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 flipH="1">
            <a:off x="4284360" y="4941720"/>
            <a:ext cx="142920" cy="28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Le code de fsm.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Editez le fichier fsm.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659280" y="274320"/>
            <a:ext cx="2027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ram.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108000" y="115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ifndef _RAM_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define _RAM_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include "systemc.h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MODULE(ram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in&lt;sc_uint&lt;32&gt; &gt; addr; sc_out&lt;sc_uint&lt;32&gt; &gt; dou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in&lt;sc_uint&lt;32&gt; &gt; din; sc_in&lt;sc_uint&lt;2&gt; &gt; memrw; sc_in&lt;bool&gt; cl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uint&lt;32&gt; ramContents[100]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CTOR(ram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METHOD(mRead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ensitive &lt;&lt; addr &lt;&lt; memrw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METHOD(mWrit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ensitive &lt;&lt; clk.po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ramContents[0]=0x20010080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ramContents[1]=0x8C220000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ramContents[2]=0x8C230004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ramContents[32]=0x00000001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ramContents[33]=0x00000002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void mRead(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if ((int)memrw.read()==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dout.write(ramContents[addr.read()&gt;&gt;2]) 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void mWrite(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if ((int)memrw.read()==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ramContents[addr.read()&gt;&gt;2]=din.read() 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end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Le toplev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Editez le fichier main.cp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cription de la hiérarch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95280" y="1170000"/>
            <a:ext cx="3889440" cy="5688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ile : full_adder.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#include "half_adder.h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SC_MODULE(full_adde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sc_in&lt;bool&gt; a,b,carry_in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sc_out&lt;bool&gt; sum,carry_ou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sc_signal&lt;bool&gt; c1,s1,c2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prc_or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half_adder *ha1_ptr,*ha2_ptr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SC_CTOR(full_adde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ha1_ptr=new half_adder("ha1"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// Named association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	</a:t>
            </a:r>
            <a:r>
              <a:rPr b="1" lang="fr-FR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	</a:t>
            </a:r>
            <a:r>
              <a:rPr b="1" lang="fr-FR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ha1_ptr-&gt;a(a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	</a:t>
            </a:r>
            <a:r>
              <a:rPr b="1" lang="fr-FR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	</a:t>
            </a:r>
            <a:r>
              <a:rPr b="1" lang="fr-FR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ha1_ptr-&gt;b(b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	</a:t>
            </a:r>
            <a:r>
              <a:rPr b="1" lang="fr-FR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	</a:t>
            </a:r>
            <a:r>
              <a:rPr b="1" lang="fr-FR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ha1_ptr-&gt;sum(s1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	</a:t>
            </a:r>
            <a:r>
              <a:rPr b="1" lang="fr-FR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	</a:t>
            </a:r>
            <a:r>
              <a:rPr b="1" lang="fr-FR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ha1_ptr-&gt;carry(c1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ha2_ptr=new half_adder("ha2"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// Positional association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	</a:t>
            </a:r>
            <a:r>
              <a:rPr b="1" lang="fr-FR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	</a:t>
            </a:r>
            <a:r>
              <a:rPr b="1" lang="fr-FR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(*ha2_ptr)(s1,carry_in,sum,c2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SC_METHOD(prc_or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sensitive &lt;&lt; c1 &lt;&lt; c2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// A destru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~full_adder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elete ha1_ptr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elete ha2_ptr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16360" y="1170000"/>
            <a:ext cx="3889440" cy="5688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ile : full_adder.cp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#include "full_adder.h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full_adder::prc_or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carry_out = c1 | c2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3419640" y="5229360"/>
            <a:ext cx="5473440" cy="1409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driver.h, driver.cp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79280" y="1699920"/>
            <a:ext cx="3889440" cy="4437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ile : driver.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#include "systemc.h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_MODULE(driv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_out&lt;bool&gt; d_a,d_b,d_cin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prc_driver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_CTOR(driv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SC_THREAD(prc_driver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284720" y="1700280"/>
            <a:ext cx="3889440" cy="4437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ile : driver.cp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#include "driver.h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driver::prc_driver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_uint&lt;3&gt; pattern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ttern=0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(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_a=pattern[0]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_b=pattern[1]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_cin=pattern[2]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wait(5,SC_N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ttern++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monitor.h, monitor.cp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1760" y="1676160"/>
            <a:ext cx="3889080" cy="4437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ile : monitor.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#include "systemc.h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_MODULE(monito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_in&lt;bool&gt; </a:t>
            </a:r>
            <a:r>
              <a:rPr b="1" lang="fr-FR" sz="1400" spc="-1" strike="noStrike">
                <a:solidFill>
                  <a:srgbClr val="ff3300"/>
                </a:solidFill>
                <a:latin typeface="Courier New"/>
                <a:ea typeface="Courier New"/>
              </a:rPr>
              <a:t>m_a,m_b,m_cin,m_sum,m_cou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prc_monitor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_CTOR(monito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_METHOD(prc_monitor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ensitive &lt;&lt; </a:t>
            </a:r>
            <a:r>
              <a:rPr b="1" lang="fr-FR" sz="1400" spc="-1" strike="noStrike">
                <a:solidFill>
                  <a:srgbClr val="ff3300"/>
                </a:solidFill>
                <a:latin typeface="Courier New"/>
                <a:ea typeface="Courier New"/>
              </a:rPr>
              <a:t>m_a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</a:t>
            </a:r>
            <a:r>
              <a:rPr b="1" lang="fr-FR" sz="1400" spc="-1" strike="noStrike">
                <a:solidFill>
                  <a:srgbClr val="ff3300"/>
                </a:solidFill>
                <a:latin typeface="Courier New"/>
                <a:ea typeface="Courier New"/>
              </a:rPr>
              <a:t>m_b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</a:t>
            </a:r>
            <a:r>
              <a:rPr b="1" lang="fr-FR" sz="1400" spc="-1" strike="noStrike">
                <a:solidFill>
                  <a:srgbClr val="ff3300"/>
                </a:solidFill>
                <a:latin typeface="Courier New"/>
                <a:ea typeface="Courier New"/>
              </a:rPr>
              <a:t>m_cin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</a:t>
            </a:r>
            <a:r>
              <a:rPr b="1" lang="fr-FR" sz="1400" spc="-1" strike="noStrike">
                <a:solidFill>
                  <a:srgbClr val="ff3300"/>
                </a:solidFill>
                <a:latin typeface="Courier New"/>
                <a:ea typeface="Courier New"/>
              </a:rPr>
              <a:t>m_sum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</a:t>
            </a:r>
            <a:r>
              <a:rPr b="1" lang="fr-FR" sz="1400" spc="-1" strike="noStrike">
                <a:solidFill>
                  <a:srgbClr val="ff3300"/>
                </a:solidFill>
                <a:latin typeface="Courier New"/>
                <a:ea typeface="Courier New"/>
              </a:rPr>
              <a:t>m_cout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76920" y="1676520"/>
            <a:ext cx="3889080" cy="4437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ile : monitor.cp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#include "monitor.h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monitor::prc_monitor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ut &lt;&lt; "At time " &lt;&lt; </a:t>
            </a:r>
            <a:r>
              <a:rPr b="1" lang="en-US" sz="1400" spc="-1" strike="noStrike">
                <a:solidFill>
                  <a:srgbClr val="ff3300"/>
                </a:solidFill>
                <a:latin typeface="Courier New"/>
                <a:ea typeface="Courier New"/>
              </a:rPr>
              <a:t>sc_time_stamp(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"::"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ut &lt;&lt; "(a, b, carry_in): "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ut &lt;&lt; m_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m_b &lt;&lt; m_cin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ut &lt;&lt; " (sum, carry_out): "  &lt;&lt; m_sum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m_cout &lt;&lt; endl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Schématique du toplev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39640" y="2349360"/>
            <a:ext cx="2016360" cy="309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564000" y="2349360"/>
            <a:ext cx="2016000" cy="158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ull_ad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588000" y="2349360"/>
            <a:ext cx="2016360" cy="309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ni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556000" y="2708280"/>
            <a:ext cx="1008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556000" y="3141720"/>
            <a:ext cx="1008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556000" y="3573360"/>
            <a:ext cx="1008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580000" y="2708280"/>
            <a:ext cx="1008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580000" y="3573360"/>
            <a:ext cx="1008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203640" y="4365720"/>
            <a:ext cx="3384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987640" y="4797360"/>
            <a:ext cx="3600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771640" y="5229360"/>
            <a:ext cx="3816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03640" y="2708280"/>
            <a:ext cx="0" cy="1657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987640" y="3141720"/>
            <a:ext cx="0" cy="1657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3573360"/>
            <a:ext cx="0" cy="1657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724000" y="274320"/>
            <a:ext cx="309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Le toplev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43720" y="765000"/>
            <a:ext cx="6048360" cy="584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// File : full_adder_main.cp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include "driver.h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include "monitor.h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include "full_adder.h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int sc_main(int argc,char *argv[]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signal&lt;bool&gt; t_a, t_b, t_cin, t_sum, t_cou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full_adder f1("FullAdderWithHalfAdder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// Connect using positional association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f1 &lt;&lt; t_a &lt;&lt; t_b &lt;&lt; t_cin &lt;&lt; t_sum &lt;&lt; t_cou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driver d1("GenerateWaveforms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// Connect using named association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d1.d_a(t_a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d1.d_b(t_b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d1.d_cin(t_cin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monitor mo1("MonitorWaveforms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mo1 &lt;&lt; t_a &lt;&lt; t_b &lt;&lt; t_cin &lt;&lt; t_sum &lt;&lt; t_cou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start(100,SC_N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return(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156360" y="3213000"/>
            <a:ext cx="720720" cy="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021800" y="3062160"/>
            <a:ext cx="95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év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6229440" y="4300560"/>
            <a:ext cx="720720" cy="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095240" y="4149720"/>
            <a:ext cx="105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utili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30T07:50:21Z</dcterms:created>
  <dc:creator>fpecheuxadm</dc:creator>
  <dc:description/>
  <dc:language>en-US</dc:language>
  <cp:lastModifiedBy>fpecheuxadm</cp:lastModifiedBy>
  <dcterms:modified xsi:type="dcterms:W3CDTF">2009-09-30T11:27:09Z</dcterms:modified>
  <cp:revision>107</cp:revision>
  <dc:subject/>
  <dc:title>Diapositive 1</dc:title>
</cp:coreProperties>
</file>