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EA2B-B914-4D0D-AC5D-4D757B33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B707-6E42-4A27-B32E-1B71EF93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5DD8-CDE6-4B5A-8251-546A3D9D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0607-16A5-42F7-9FE7-5B3A83ED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23B5-67ED-49E0-AAE7-0A335144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5C72-2686-44B3-AE0E-E1371A41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72C7-3998-43D4-B56F-888DB98E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225E-F769-4749-B14C-89B5EE42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AC6C-4F6F-462F-9455-4CCC521D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825F-5865-434B-AE3F-E4739C10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3968-475E-46B4-B246-1D50ABC4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1E9D-1DF1-430C-A643-D48A804D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D8F0-0F26-4E22-A695-F9F2E66CC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ancois.pecheux@lip6.fr" TargetMode="External"/><Relationship Id="rId2" Type="http://schemas.openxmlformats.org/officeDocument/2006/relationships/hyperlink" Target="mailto:Francois.pecheux@lip6.fr" TargetMode="External"/><Relationship Id="rId3" Type="http://schemas.openxmlformats.org/officeDocument/2006/relationships/hyperlink" Target="mailto:Julien.denoulet@lip6.fr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85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E SYSTEMC – Cours 2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tude et modélisation d’un processeur en System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ncois.pecheux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ulien.denoulet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767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4607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ur ajouter des traces (.vc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1136520"/>
            <a:ext cx="720072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HDL – SystemC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in 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in BI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out BI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 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ite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input1, in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,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=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=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 proc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includ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systemc.h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MODU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in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in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out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out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CT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METHO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 process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si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&l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&l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~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~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HDL – SystemC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(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input1, input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(cl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 clk’event and clk = ‘1’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_METHO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 process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nsitiv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put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put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_METHO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 process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nsitive_po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clk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33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3718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4078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32360" y="52308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932360" y="55911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001840" y="3286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01840" y="36464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01840" y="4006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001840" y="5157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001840" y="5518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350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3862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5014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5373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76720" y="3141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7440" y="54468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53080" y="50864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416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8216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083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61080" y="4365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2724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2688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61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7800" y="544680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7800" y="50864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ystème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080" y="1773360"/>
            <a:ext cx="83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ur 32 bits MIPS R3000 simplifié + mémoire d’instructions et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95640" y="2421000"/>
            <a:ext cx="3889080" cy="42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92360" y="530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9080" y="3068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9080" y="5661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9080" y="6021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9080" y="3429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868720" y="3789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170028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979280" y="5229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154200" y="2997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154200" y="5589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154200" y="5950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154200" y="33559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154200" y="3716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8720" y="20606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381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1800" y="191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9080" y="544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29080" y="580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9080" y="3213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9080" y="35719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9080" y="2852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78880" y="36450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78880" y="32846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79960" y="292428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50880" y="551664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587700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5800" y="14400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2160" y="515628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56000" y="486900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 de contrô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270828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n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ATAPA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276720" y="42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393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3932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3236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98560" y="494028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comman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2920" y="39322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in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rocesseur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8360" y="3427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3787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4148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530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68360" y="5661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37840" y="33559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37840" y="3716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37840" y="40766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37840" y="522756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37840" y="558792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2720" y="3571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2720" y="3932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084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2720" y="544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2720" y="3211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1484280"/>
            <a:ext cx="7777440" cy="439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63240" y="328464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85080" y="76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813800" y="1125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886520" y="98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97800" y="155736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62880" y="364320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62160" y="400356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33800" y="55166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33800" y="515628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mém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48000" y="1628640"/>
            <a:ext cx="4176720" cy="201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3789360"/>
            <a:ext cx="4176720" cy="20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98880" y="242100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99240" y="422100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48000" y="1628640"/>
            <a:ext cx="41767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0 : Ins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191628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4 : Ins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8000" y="220500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8 : In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48000" y="249228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C : Ins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48000" y="378936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80 : Data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48000" y="407664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84 : Dat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eur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52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er File = 32 registres 32 bits nommés $0 à $31 ($0=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PC (Program cou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IR (Instruction regi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DT (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AD (Add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80000" y="155736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0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80000" y="1989000"/>
            <a:ext cx="316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80000" y="263700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80000" y="378936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80000" y="450864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80000" y="522936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80000" y="587700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78520" y="227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formats d’instructions du MIPSR3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 processeur possède 57 instructions qui se répartissent en 4 classe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arithmétiques/logiques entre regist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de branch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de lecture/écriture mémo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systè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utes les instructions ont une longueur de 32 bits et possèdent un des trois formats suivant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66560" y="3860640"/>
            <a:ext cx="82090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codage de l’opc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416720" cy="49147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284720" y="4797360"/>
            <a:ext cx="863640" cy="432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63640" y="3429000"/>
            <a:ext cx="863640" cy="4316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76720" y="2997360"/>
            <a:ext cx="863640" cy="4316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63640" y="2852640"/>
            <a:ext cx="863640" cy="57636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50920" y="4149720"/>
            <a:ext cx="8137440" cy="1800360"/>
            <a:chOff x="250920" y="4149720"/>
            <a:chExt cx="8137440" cy="1800360"/>
          </a:xfrm>
        </p:grpSpPr>
        <p:sp>
          <p:nvSpPr>
            <p:cNvPr id="44" name=""/>
            <p:cNvSpPr/>
            <p:nvPr/>
          </p:nvSpPr>
          <p:spPr>
            <a:xfrm>
              <a:off x="250920" y="4149720"/>
              <a:ext cx="8137440" cy="151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12000" y="5661000"/>
              <a:ext cx="237636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tructe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250920" y="2852640"/>
            <a:ext cx="8137440" cy="863640"/>
            <a:chOff x="250920" y="2852640"/>
            <a:chExt cx="8137440" cy="863640"/>
          </a:xfrm>
        </p:grpSpPr>
        <p:sp>
          <p:nvSpPr>
            <p:cNvPr id="47" name=""/>
            <p:cNvSpPr/>
            <p:nvPr/>
          </p:nvSpPr>
          <p:spPr>
            <a:xfrm>
              <a:off x="250920" y="2852640"/>
              <a:ext cx="813744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19640" y="3429000"/>
              <a:ext cx="31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nnées membres, l’inte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0920" y="1844640"/>
            <a:ext cx="8137440" cy="792360"/>
            <a:chOff x="250920" y="1844640"/>
            <a:chExt cx="8137440" cy="792360"/>
          </a:xfrm>
        </p:grpSpPr>
        <p:sp>
          <p:nvSpPr>
            <p:cNvPr id="50" name=""/>
            <p:cNvSpPr/>
            <p:nvPr/>
          </p:nvSpPr>
          <p:spPr>
            <a:xfrm>
              <a:off x="250920" y="2205000"/>
              <a:ext cx="81374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443640" y="1844640"/>
              <a:ext cx="194472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m du modu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alf_adder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800" y="1434960"/>
            <a:ext cx="557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half_adder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a,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sum,car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half_adde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half_add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a &lt;&lt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3080" y="630864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alf_adder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struction « special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064360" cy="4962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332000" y="4437000"/>
            <a:ext cx="863640" cy="432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ddi $12, $0, 0x80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met 0x80 dans $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forma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850920" y="1413000"/>
            <a:ext cx="289080" cy="215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15240" y="1268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ur imméd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028880" y="3284640"/>
            <a:ext cx="8115120" cy="7048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68000" y="4437000"/>
            <a:ext cx="77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01000 00000 01100 000000001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402920" y="393372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627280" y="3933720"/>
            <a:ext cx="217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851280" y="3933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012000" y="3933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w $6, 4($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charge dans $6 le contenu de la case mémoire pointée par ($2+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8680" y="213372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 d’adressage 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195640" y="1989000"/>
            <a:ext cx="288720" cy="21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57080" y="1773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906280" y="2278080"/>
            <a:ext cx="289080" cy="21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28000" y="5805360"/>
            <a:ext cx="936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028000" y="6021360"/>
            <a:ext cx="936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028000" y="6237360"/>
            <a:ext cx="936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028000" y="5589720"/>
            <a:ext cx="936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164360" y="558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2200" y="5445000"/>
            <a:ext cx="14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2=0x1001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25800" y="56610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25800" y="58770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26520" y="609300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028880" y="3716280"/>
            <a:ext cx="8115120" cy="7048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68000" y="4869000"/>
            <a:ext cx="77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00011 00010 00110 0000000000000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402920" y="436572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627280" y="4365720"/>
            <a:ext cx="217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851280" y="4365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012000" y="4365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9360" y="5805360"/>
            <a:ext cx="606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00000000000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000000000000100 = 0x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0001000000000001 0000000000000000 = 0x1001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001000000000001 0000000000000100 = 0x1001 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-360" y="6381720"/>
            <a:ext cx="63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00" y="551664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e s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dd $13, $11, $8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met la somme de $11 et $8 dans $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format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850920" y="1413000"/>
            <a:ext cx="289080" cy="215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15240" y="1268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ur imméd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8720" y="4437000"/>
            <a:ext cx="81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01000 01000 01011 01101 XXXXX 1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402920" y="393372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627280" y="3933720"/>
            <a:ext cx="217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851280" y="3933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13440" y="3933720"/>
            <a:ext cx="3589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076400" y="3284640"/>
            <a:ext cx="8067600" cy="657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 flipH="1">
            <a:off x="5003280" y="3933720"/>
            <a:ext cx="180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093080" y="3933720"/>
            <a:ext cx="7189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30880" y="5445000"/>
            <a:ext cx="361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 toujours registre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 peut être source et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 toujours registre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eq $8,$10, sa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le processeur va à l’adresse saut si $8=$10 (étudié en 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0" y="83628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c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ithmét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02876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08000" y="112680"/>
            <a:ext cx="4930560" cy="66326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29200" y="54900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c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branch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5819760" cy="60674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57200" y="0"/>
            <a:ext cx="8686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ctions d’accès mémo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8567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banc de regis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11280" y="1628640"/>
            <a:ext cx="4321440" cy="25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348000" y="41497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5796000" y="41497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3080" y="530064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_RF_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238520" y="530064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_RF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11280" y="5373720"/>
            <a:ext cx="187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59280" y="5373720"/>
            <a:ext cx="187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3348000" y="53733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796000" y="53733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411280" y="537372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4859280" y="537372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70036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99564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07672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51672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2652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20: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3764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15: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7416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25: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416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20: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3416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37416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5780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308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79640" y="5516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6732360" y="5516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0920" y="2276640"/>
            <a:ext cx="21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732720" y="2276640"/>
            <a:ext cx="194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98880" y="1844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6160" y="19162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_METHOD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8800" y="1434960"/>
            <a:ext cx="557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half_adder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a,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sum,car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half_adde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half_add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a &lt;&lt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41560" y="1865160"/>
            <a:ext cx="3550320" cy="173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clare un process s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émoire appelé prc_half_add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e peut utiliser les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nsibilité « statique » sur a e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0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CST0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CST0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cst0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cst0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.write(0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24680" y="1557360"/>
            <a:ext cx="36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é pour générer la constant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940000" y="259920"/>
            <a:ext cx="29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x21_5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MUX21_5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MUX21_5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mux21_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5&gt; &gt; IN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5&gt; &gt; IN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O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mux21_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N0 &lt;&lt; IN1 &lt;&lt; COM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com=(int)COM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witch (c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.write(IN0.read())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1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.write(IN1.read())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56320" y="1413000"/>
            <a:ext cx="33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é pour choisir les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et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64000" y="11556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u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ALU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ALU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alu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A, B; sc_in&lt;sc_uint&lt;3&gt; &gt; Alu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Aluou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bool&gt; zer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alu_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 &lt;&lt; B &lt;&lt; Aluop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result = 0 ; sc_uint&lt;32&gt; opA ; sc_uint&lt;32&gt; opB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pA = A.read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pB = B.read() 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witch(Aluop.read()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0: result = opA &amp;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1: result = opA |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2: result = opA +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6: result = opA -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7: result = opA |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efault: cout &lt;&lt; "aluop illegal" &lt;&lt; endl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luout=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zero=(result==0)?1: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sign_extend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NO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NO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no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16&gt; &gt;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no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16&gt; i_value=I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.write(0x00000000 | i_value.range(15,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_extend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16&gt; &gt;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16&gt; i_value=I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i_value[15]==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.write(0xFFFF0000 | i_va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.write(i_va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780000" y="33300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in_reg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9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PLAIN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PLAIN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plain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regWri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Q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plain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gWr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70160" y="15573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é pour AD et 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940000" y="274320"/>
            <a:ext cx="28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r_reg_32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IR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IR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ir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; sc_in&lt;bool&gt; regWrite; 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Q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16&gt; &gt; Q15_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Q15_1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Q20_16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Q25_2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ir_reg_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gWrit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din=D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15_0.write(din.range(15,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15_11.write(din.range(15,11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20_16.write(din.range(20,16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25_21.write(din.range(25,21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940000" y="274320"/>
            <a:ext cx="30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c_reg_32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PC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PC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pc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PCWri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res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Q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pc_reg_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d_input=D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set==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0x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lse if (PCWrit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d_inp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04000" y="2636640"/>
            <a:ext cx="212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f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RF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RF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rf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, RegWrite; sc_in&lt;sc_uint&lt;5&gt; &gt; Addwrite, Addrd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Writedata; sc_out&lt;sc_uint&lt;32&gt; &gt; data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sc_uint&lt;32&gt; &gt; regFile[32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rf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ReadReg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ddrd1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neg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Reg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ReadRegs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Addrd1.read()==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ata1.write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ata1.write(regFile[Addrd1.read()].read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Re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gWr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Addwrite.read()!=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gFile[Addwrite.read()].write(Writedata.read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195640" y="2421000"/>
            <a:ext cx="3889080" cy="42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2360" y="530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69080" y="3068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69080" y="5661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869080" y="6021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869080" y="3429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868720" y="3789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40360" y="170028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979280" y="5229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154200" y="2997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154200" y="5589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6154200" y="5950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154200" y="33559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6154200" y="3716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068720" y="20606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8381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41800" y="191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9080" y="544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229080" y="580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29080" y="3213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229080" y="35719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229080" y="2852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78880" y="36450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78880" y="32846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79960" y="292428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50880" y="551664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77080" y="587700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65800" y="14400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02160" y="515628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56000" y="486900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 de contrô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56000" y="270828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n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ATAPA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276720" y="42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340000" y="393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340000" y="3932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93236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698560" y="494028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comman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82920" y="39322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in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rocesseur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_METHOD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half_adder.c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half_adder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half_adder::prc_half_adde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a ^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 = a &amp;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8567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re F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84360" y="1628640"/>
            <a:ext cx="6912000" cy="46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924360" y="2276640"/>
            <a:ext cx="100800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é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63640" y="2276640"/>
            <a:ext cx="172872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364000" y="2276640"/>
            <a:ext cx="172908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én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92360" y="371628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3716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4429080" y="522936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2636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4360" y="472428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189080" y="29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093080" y="3716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148360" y="206028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87280" y="2060640"/>
            <a:ext cx="396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87280" y="206064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9280" y="431316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zer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743600" y="1916280"/>
            <a:ext cx="1194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rf_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rf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u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mr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3995640" y="522936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61440" y="63817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27640" y="4941720"/>
            <a:ext cx="1443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4284360" y="494172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code de fs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z le fichier fsm.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659280" y="274320"/>
            <a:ext cx="202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a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800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addr; sc_out&lt;sc_uint&lt;32&gt; &gt; d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in; sc_in&lt;sc_uint&lt;2&gt; &gt; memrw; 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ramContents[10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ram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Rea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ddr &lt;&lt; memr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0]=0x2001008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1]=0x8C220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2]=0x8C23000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2]=0x0000000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3]=0x0000000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Read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out.write(ramContents[addr.read()&gt;&gt;2]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addr.read()&gt;&gt;2]=din.read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top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z le fichier main.c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de la hiérarch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170000"/>
            <a:ext cx="3889440" cy="568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full_adder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half_adder.h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full_add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a,b,carry_in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sum,carry_ou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signal&lt;bool&gt; c1,s1,c2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or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lf_adder *ha1_ptr,*ha2_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full_add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ha1_ptr=new half_adder("ha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Named associ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a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b(b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sum(s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carry(c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ha2_ptr=new half_adder("ha2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ositional associ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(*ha2_ptr)(s1,carry_in,sum,c2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1 &lt;&lt; c2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 destru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~full_adder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 ha1_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 ha2_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1170000"/>
            <a:ext cx="3889440" cy="568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full_adder.c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full_adder.h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full_adder::prc_or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_out = c1 | c2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19640" y="5229360"/>
            <a:ext cx="5473440" cy="140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river.h, driver.c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388944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driver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dri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d_a,d_b,d_c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drive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dri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C_THREAD(prc_driv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84720" y="1700280"/>
            <a:ext cx="388944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driver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drive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driver::prc_driver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uint&lt;3&gt; patter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ttern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_a=pattern[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_b=pattern[1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_cin=pattern[2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wait(5,SC_N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ttern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onitor.h, monitor.c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388908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monitor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moni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a,m_b,m_cin,m_sum,m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moni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moni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monit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a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cin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sum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cout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1676520"/>
            <a:ext cx="388908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monitor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monito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onitor::prc_monitor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At time " &lt;&lt;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sc_time_stamp(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"::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(a, b, carry_in): 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m_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m_b &lt;&lt; m_c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 (sum, carry_out): "  &lt;&lt; m_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m_cout &lt;&lt; end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chématique du top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2349360"/>
            <a:ext cx="2016360" cy="30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64000" y="2349360"/>
            <a:ext cx="2016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ull_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88000" y="2349360"/>
            <a:ext cx="2016360" cy="30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6000" y="2708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56000" y="314172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3573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80000" y="2708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573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3640" y="4365720"/>
            <a:ext cx="33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7640" y="479736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522936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270828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87640" y="314172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357336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24000" y="274320"/>
            <a:ext cx="30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top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720" y="765000"/>
            <a:ext cx="604836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File : full_adder_main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drive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monito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full_adde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sc_main(int argc,char *argv[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bool&gt; t_a, t_b, t_cin, t_sum, t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ull_adder f1("FullAdderWithHalfAdd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Connect using positional associ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1 &lt;&lt; t_a &lt;&lt; t_b &lt;&lt; t_cin &lt;&lt; t_sum &lt;&lt; t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river d1("GenerateWaveform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Connect using named associ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1.d_a(t_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1.d_b(t_b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1.d_cin(t_c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onitor mo1("MonitorWaveform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o1 &lt;&lt; t_a &lt;&lt; t_b &lt;&lt; t_cin &lt;&lt; t_sum &lt;&lt; t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100,SC_N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56360" y="3213000"/>
            <a:ext cx="720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21800" y="30621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év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229440" y="4300560"/>
            <a:ext cx="720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95240" y="4149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til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7:50:21Z</dcterms:created>
  <dc:creator>fpecheuxadm</dc:creator>
  <dc:description/>
  <dc:language>en-US</dc:language>
  <cp:lastModifiedBy>fpecheuxadm</cp:lastModifiedBy>
  <dcterms:modified xsi:type="dcterms:W3CDTF">2009-09-30T11:27:09Z</dcterms:modified>
  <cp:revision>107</cp:revision>
  <dc:subject/>
  <dc:title>Diapositive 1</dc:title>
</cp:coreProperties>
</file>