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2B4-B016-4818-8987-F5A6E6A9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A21-69B0-460D-BE86-3C8E8720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FF1-7205-400E-BFBA-93E60175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7A9-A269-402C-A144-FA97EE59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764-8D78-4227-BAC7-5498B5CD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D18-402F-4983-A1BE-DB2C5416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6E2-BF04-45C6-99C3-E5D60708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5C9-76F4-46A7-B7B8-BEBF07C6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60B-1A69-4488-8C79-C953042A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7A0D-6428-4DD1-9828-E3DF62A0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9E0-26C5-453D-81EE-49C36764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9B5-C658-4E22-877D-70925B8D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3114-FB3F-480F-8E49-9A4CDE70E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2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tude et modélisation d’un processeur en Syste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767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460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ur ajouter des traces (.vc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136520"/>
            <a:ext cx="7200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 BI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out BI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 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input1, 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,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=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 pro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inclu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systemc.h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ODU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in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out&lt;bool&g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_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 proces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si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&lt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(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~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_var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HDL – SystemC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input1, input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(c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clk’event and clk = ‘1’)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input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_METH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 proce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sitive_po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k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8360" y="3427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787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4148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530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68360" y="566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3784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3784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37840" y="40766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37840" y="522756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37840" y="558792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720" y="3571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2720" y="3932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084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2720" y="5443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2720" y="32115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484280"/>
            <a:ext cx="7777440" cy="43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3240" y="32846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85080" y="76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13800" y="1125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86520" y="98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97800" y="15573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62880" y="364320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2160" y="400356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3800" y="5516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3800" y="51562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1628640"/>
            <a:ext cx="4176720" cy="201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3789360"/>
            <a:ext cx="417672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98880" y="242100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99240" y="422100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1628640"/>
            <a:ext cx="4176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0 : Ins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1916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4 : In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220500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8 : In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249228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@C : In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378936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0 : Dat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0" y="4076640"/>
            <a:ext cx="417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84 : Dat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er File = 32 registres 32 bits nommés $0 à $31 ($0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PC (Program cou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IR (Instruction regi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DT (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registre AD (Add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1557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0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1989000"/>
            <a:ext cx="316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263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378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450864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522936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80000" y="5877000"/>
            <a:ext cx="316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8520" y="227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formats d’instructions du MIPSR3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processeur possède 57 instructions qui se répartissent en 4 classe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arithmétiques/logiques entre regis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branch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de lecture/écriture mém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 systè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tes les instructions ont une longueur de 32 bits et possèdent un des trois formats suivant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6560" y="3860640"/>
            <a:ext cx="8209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codage de l’opc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914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284720" y="479736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63640" y="342900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2997360"/>
            <a:ext cx="863640" cy="431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2852640"/>
            <a:ext cx="863640" cy="57636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50920" y="4149720"/>
            <a:ext cx="8137440" cy="1800360"/>
            <a:chOff x="250920" y="4149720"/>
            <a:chExt cx="8137440" cy="1800360"/>
          </a:xfrm>
        </p:grpSpPr>
        <p:sp>
          <p:nvSpPr>
            <p:cNvPr id="44" name=""/>
            <p:cNvSpPr/>
            <p:nvPr/>
          </p:nvSpPr>
          <p:spPr>
            <a:xfrm>
              <a:off x="250920" y="4149720"/>
              <a:ext cx="81374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12000" y="5661000"/>
              <a:ext cx="237636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ucte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50920" y="2852640"/>
            <a:ext cx="8137440" cy="863640"/>
            <a:chOff x="250920" y="2852640"/>
            <a:chExt cx="8137440" cy="863640"/>
          </a:xfrm>
        </p:grpSpPr>
        <p:sp>
          <p:nvSpPr>
            <p:cNvPr id="47" name=""/>
            <p:cNvSpPr/>
            <p:nvPr/>
          </p:nvSpPr>
          <p:spPr>
            <a:xfrm>
              <a:off x="250920" y="2852640"/>
              <a:ext cx="813744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19640" y="3429000"/>
              <a:ext cx="31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nnées membres, l’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0920" y="1844640"/>
            <a:ext cx="8137440" cy="792360"/>
            <a:chOff x="250920" y="1844640"/>
            <a:chExt cx="8137440" cy="792360"/>
          </a:xfrm>
        </p:grpSpPr>
        <p:sp>
          <p:nvSpPr>
            <p:cNvPr id="50" name=""/>
            <p:cNvSpPr/>
            <p:nvPr/>
          </p:nvSpPr>
          <p:spPr>
            <a:xfrm>
              <a:off x="250920" y="2205000"/>
              <a:ext cx="81374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43640" y="1844640"/>
              <a:ext cx="1944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m du mod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3080" y="63086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struction « special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064360" cy="4962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332000" y="4437000"/>
            <a:ext cx="863640" cy="432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i $12, $0, 0x80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0x80 dans $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28880" y="328464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68000" y="4437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0000 01100 000000001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w $6, 4($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charge dans $6 le contenu de la case mémoire pointée par ($2+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8680" y="213372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 d’adressage 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195640" y="1989000"/>
            <a:ext cx="28872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7080" y="1773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906280" y="2278080"/>
            <a:ext cx="28908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5805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28000" y="6021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28000" y="6237360"/>
            <a:ext cx="936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028000" y="5589720"/>
            <a:ext cx="936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558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2200" y="5445000"/>
            <a:ext cx="146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2=0x100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25800" y="5661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25800" y="5877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26520" y="609300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028880" y="3716280"/>
            <a:ext cx="8115120" cy="7048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68000" y="4869000"/>
            <a:ext cx="77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0011 00010 00110 0000000000000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402920" y="4365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627280" y="4365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85128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012000" y="4365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9360" y="5805360"/>
            <a:ext cx="606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00000000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000000000000100 = 0x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0001000000000001 0000000000000000 = 0x1001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001000000000001 0000000000000100 = 0x1001 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-360" y="6381720"/>
            <a:ext cx="63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00" y="551664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e s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 $13, $11, $8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met la somme de $11 et $8 dans $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format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850920" y="1413000"/>
            <a:ext cx="289080" cy="21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15240" y="12682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ur immé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720" y="4437000"/>
            <a:ext cx="81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001000 01000 01011 01101 XXXXX 1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402920" y="393372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27280" y="3933720"/>
            <a:ext cx="217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851280" y="393372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3440" y="3933720"/>
            <a:ext cx="35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76400" y="3284640"/>
            <a:ext cx="8067600" cy="657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H="1">
            <a:off x="5003280" y="3933720"/>
            <a:ext cx="180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93080" y="393372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30880" y="5445000"/>
            <a:ext cx="361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 toujours registre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 peut être 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 toujours registre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s d’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q $8,$10, s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le processeur va à l’adresse saut si $8=$10 (étudié en 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0" y="83628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ithmét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02876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08000" y="112680"/>
            <a:ext cx="4930560" cy="66326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0" y="54900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branch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5819760" cy="60674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57200" y="0"/>
            <a:ext cx="8686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ctions d’accès mémo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anc de regis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11280" y="1628640"/>
            <a:ext cx="4321440" cy="25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796000" y="41497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3080" y="530064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38520" y="530064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59280" y="5373720"/>
            <a:ext cx="18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348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79600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411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859280" y="5373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70036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99564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07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516720" y="573408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2652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3764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15: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5: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4160" y="63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(20: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7416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578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308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732360" y="551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2276640"/>
            <a:ext cx="21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732720" y="2276640"/>
            <a:ext cx="194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98880" y="1844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6160" y="19162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800" y="1434960"/>
            <a:ext cx="557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half_ad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half_ad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half_ad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a &lt;&lt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1560" y="1865160"/>
            <a:ext cx="3550320" cy="173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lare un process s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moire appelé prc_half_add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 peut utiliser les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nsibilité « statique » sur a 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0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CST0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cst0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0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24680" y="15573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générer la constant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940000" y="2599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x21_5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MUX21_5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5&gt; &gt; IN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mux21_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N0 &lt;&lt; IN1 &lt;&lt; COM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com=(int)COM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c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0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.write(IN1.read())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56320" y="141300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choisir les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e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64000" y="11556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ALU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alu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, B; sc_in&lt;sc_uint&lt;3&gt; &gt; Alu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Aluou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bool&gt; zer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alu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 &lt;&lt; B &lt;&lt; Alu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esult = 0 ; sc_uint&lt;32&gt; opA ; sc_uint&lt;32&gt; o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A = A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pB = B.read() 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(Aluop.read()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0: result = opA &amp;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1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2: result = opA +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6: result = opA -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7: result = opA | opB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efault: cout &lt;&lt; "aluop illegal" &lt;&lt; endl ; 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luout=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zero=(result==0)?1: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NO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no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00000000 | i_value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_extend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SIGN_EXTEND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16&gt; &gt;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sign_extend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16&gt; i_value=I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_value[15]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0xFFFF0000 | 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O.write(i_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780000" y="33300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_reg_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LAIN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g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lain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70160" y="15573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é pour AD et 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IR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ir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 sc_in&lt;bool&gt; regWrite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16&gt; &gt; Q15_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15_1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0_1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5&gt; &gt; Q25_2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ir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in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0.write(din.range(15,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15_11.write(din.range(15,1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0_16.write(din.range(20,16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25_21.write(din.range(25,2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40000" y="27432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c_reg_32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PC_REG_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pc_reg_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PC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out&lt;sc_uint&lt;32&gt; &gt; Q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pc_reg_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d_input=D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set=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0x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 if (PCWrit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Q = d_inp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04000" y="2636640"/>
            <a:ext cx="21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f32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F32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f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, RegWrite; sc_in&lt;sc_uint&lt;5&gt; &gt; Addwrite, Addrd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Writedata; sc_out&lt;sc_uint&lt;32&gt; &gt; data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sc_uint&lt;32&gt; &gt; regFile[3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f32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Reg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d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Re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Regs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rd1.read()==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ata1.write(regFile[Addrd1.read()]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Re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RegWr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Addwrite.read()!=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gFile[Addwrite.read()].write(Writedata.read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195640" y="2421000"/>
            <a:ext cx="388908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90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69080" y="5661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69080" y="6021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69080" y="3429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868720" y="378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40360" y="1700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79280" y="5229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154200" y="29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154200" y="5589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154200" y="5950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154200" y="33559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154200" y="37162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068720" y="206064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38160" y="508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1800" y="191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9080" y="544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29080" y="5805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29080" y="3213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29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29080" y="2852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78880" y="36450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78880" y="32846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79960" y="29242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50880" y="551664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77080" y="587700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5800" y="14400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02160" y="51562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486900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 de 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56000" y="2708280"/>
            <a:ext cx="3313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n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TA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27672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40000" y="393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40000" y="393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98560" y="49402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comman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2920" y="39322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ocesseur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_METH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half_adder.c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half_adder::prc_half_add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a ^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 = a &amp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re F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1628640"/>
            <a:ext cx="691200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24360" y="227664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3640" y="227664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64000" y="227664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360" y="371628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3716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442908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2636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4360" y="47242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89080" y="29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093080" y="3716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148360" y="206028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2060640"/>
            <a:ext cx="396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206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9280" y="431316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zer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43600" y="1916280"/>
            <a:ext cx="1194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rf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rite_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ux_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u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m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995640" y="5229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61440" y="6381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27640" y="494172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4284360" y="494172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code de fs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fsm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e la hiérarc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half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a,b,carry_i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sum,carry_ou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signal&lt;bool&gt; c1,s1,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or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lf_adder *ha1_ptr,*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full_add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1_ptr=new half_adder("ha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d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a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b(b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sum(s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a1_ptr-&gt;carry(c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ha2_ptr=new half_adder("ha2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ositional associ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(*ha2_ptr)(s1,carry_in,sum,c2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1 &lt;&lt;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 de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~full_adde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1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ha2_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1170000"/>
            <a:ext cx="3889440" cy="568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full_adder.c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full_adder.h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full_adder::prc_o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_out = c1 | c2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19640" y="5229360"/>
            <a:ext cx="5473440" cy="140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river.h, drive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bool&gt; d_a,d_b,d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driv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dri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SC_THREAD(prc_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1700280"/>
            <a:ext cx="388944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drive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river::prc_drive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uint&lt;3&gt; patter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a=pattern[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b=pattern[1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_cin=pattern[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wait(5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tern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nitor.h, monitor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,m_b,m_cin,m_sum,m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c_moni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moni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prc_moni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a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in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sum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</a:t>
            </a:r>
            <a:r>
              <a:rPr b="1" lang="fr-FR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_cou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1676520"/>
            <a:ext cx="3889080" cy="443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ile : monitor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onitor::prc_monito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At time " &lt;&lt;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sc_time_stamp(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"::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(a, b, carry_in): 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m_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b &lt;&lt; m_c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 (sum, carry_out): "  &lt;&lt; m_s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m_cout &lt;&lt; end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chématique du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2349360"/>
            <a:ext cx="2016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ll_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2349360"/>
            <a:ext cx="201636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56000" y="3141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2708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573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436572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479736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5229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270828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314172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3573360"/>
            <a:ext cx="0" cy="16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30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720" y="765000"/>
            <a:ext cx="60483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File : full_adder_main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driv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monito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full_adder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(int argc,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_a, t_b, t_cin, t_sum,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ull_adder f1("FullAdderWithHalfAdd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positional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river d1("Generate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Connect using named associ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a(t_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b(t_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1.d_cin(t_c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nitor mo1("MonitorWaveform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o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100,SC_N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56360" y="321300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1800" y="3062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év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229440" y="4300560"/>
            <a:ext cx="720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5240" y="414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til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09-30T11:27:09Z</dcterms:modified>
  <cp:revision>107</cp:revision>
  <dc:subject/>
  <dc:title>Diapositive 1</dc:title>
</cp:coreProperties>
</file>