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7D9-B7D3-475D-929E-A3C115E2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0A5-2DEF-4DB6-ACAB-09A8A3DA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38D-085C-4536-A53D-A7A8614E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96E-441A-4A6C-BF3D-9D65C751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FA3-06C2-459C-9DCD-8FCEB58B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1E5-4E7E-4C44-83D8-4E989483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1C3-D814-435E-B7E0-4A7126B3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D91-104B-4E84-A965-80BFED6F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699-52F6-4D56-99F7-9F41AC9D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0CB-E842-4870-B2A0-951A27A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DF2-FD84-409F-86E4-A0A1D048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7DA-540A-4EFA-B2AC-FDB89A9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518D-AAC7-41E3-85E6-717E4B64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2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et modélisation d’un processeur en Syste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76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60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 ajouter des traces (.vc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36520"/>
            <a:ext cx="7200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out BI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put1, 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,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systemc.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 proces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input1, input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clk’event and clk = ‘1’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_p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3427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7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836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784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784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840" y="40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7840" y="522756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784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35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084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544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3211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484280"/>
            <a:ext cx="7777440" cy="43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3240" y="3284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3800" y="112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6520" y="98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155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2880" y="36432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160" y="400356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800" y="5516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3800" y="51562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628640"/>
            <a:ext cx="417672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789360"/>
            <a:ext cx="417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8880" y="2421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9240" y="4221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28640"/>
            <a:ext cx="417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0 : Ins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1916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4 : In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20500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8 : In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492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C : In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78936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0 : Dat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07664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4 : D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er File = 32 registres 32 bits nommés $0 à $31 ($0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PC (Program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IR (Instruction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D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AD (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1557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1989000"/>
            <a:ext cx="316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63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378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50864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522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587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8520" y="227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ormats d’instructions du MIPSR3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ocesseur possède 57 instructions qui se répartissent en 4 class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arithmétiques/logiques entre regi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bran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lecture/écriture mém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systè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instructions ont une longueur de 32 bits et possèdent un des trois formats suiva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6560" y="3860640"/>
            <a:ext cx="8209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dage de l’op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914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479736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99736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852640"/>
            <a:ext cx="863640" cy="576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149720"/>
            <a:ext cx="8137440" cy="1800360"/>
            <a:chOff x="250920" y="4149720"/>
            <a:chExt cx="8137440" cy="1800360"/>
          </a:xfrm>
        </p:grpSpPr>
        <p:sp>
          <p:nvSpPr>
            <p:cNvPr id="44" name=""/>
            <p:cNvSpPr/>
            <p:nvPr/>
          </p:nvSpPr>
          <p:spPr>
            <a:xfrm>
              <a:off x="250920" y="4149720"/>
              <a:ext cx="81374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00" y="5661000"/>
              <a:ext cx="2376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uc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50920" y="2852640"/>
            <a:ext cx="8137440" cy="863640"/>
            <a:chOff x="250920" y="2852640"/>
            <a:chExt cx="8137440" cy="863640"/>
          </a:xfrm>
        </p:grpSpPr>
        <p:sp>
          <p:nvSpPr>
            <p:cNvPr id="47" name=""/>
            <p:cNvSpPr/>
            <p:nvPr/>
          </p:nvSpPr>
          <p:spPr>
            <a:xfrm>
              <a:off x="250920" y="2852640"/>
              <a:ext cx="81374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9640" y="3429000"/>
              <a:ext cx="31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nnées membres, l’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0920" y="1844640"/>
            <a:ext cx="8137440" cy="792360"/>
            <a:chOff x="250920" y="1844640"/>
            <a:chExt cx="8137440" cy="792360"/>
          </a:xfrm>
        </p:grpSpPr>
        <p:sp>
          <p:nvSpPr>
            <p:cNvPr id="50" name=""/>
            <p:cNvSpPr/>
            <p:nvPr/>
          </p:nvSpPr>
          <p:spPr>
            <a:xfrm>
              <a:off x="250920" y="2205000"/>
              <a:ext cx="81374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1844640"/>
              <a:ext cx="1944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 du mo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6308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truction « specia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2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32000" y="443700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 $12, $0, 0x80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0x80 dans $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28880" y="328464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000" y="4437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0000 01100 00000000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w $6, 4(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charge dans $6 le contenu de la case mémoire pointée par ($2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8680" y="21337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 d’adressag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640" y="1989000"/>
            <a:ext cx="28872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7080" y="177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06280" y="2278080"/>
            <a:ext cx="2890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05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6021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6237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5589720"/>
            <a:ext cx="936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2200" y="54450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=0x100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5800" y="5661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5800" y="5877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6520" y="6093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28880" y="371628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000" y="4869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011 00010 00110 000000000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02920" y="4365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27280" y="4365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5128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360" y="5805360"/>
            <a:ext cx="60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00000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0000000000100 = 0x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0001000000000001 0000000000000000 = 0x1001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1000000000001 0000000000000100 = 0x1001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-360" y="6381720"/>
            <a:ext cx="63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0" y="55166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e s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$13, $11, $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la somme de $11 et $8 dans $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437000"/>
            <a:ext cx="81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1000 01011 01101 XXXXX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3440" y="3933720"/>
            <a:ext cx="35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76400" y="3284640"/>
            <a:ext cx="8067600" cy="657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5003280" y="3933720"/>
            <a:ext cx="18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93372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0880" y="544500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 toujours registr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peut être 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toujours registr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q $8,$10, s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le processeur va à l’adresse saut si $8=$10 (étudié en 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thmé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287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8000" y="112680"/>
            <a:ext cx="4930560" cy="6632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0" y="549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ranch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819760" cy="6067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0"/>
            <a:ext cx="8686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 d’accès mém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anc de regi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11280" y="1628640"/>
            <a:ext cx="43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6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080" y="5300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520" y="5300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348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96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11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59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9564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7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1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652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764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15: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5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7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0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3236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276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888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160" y="19162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560" y="1865160"/>
            <a:ext cx="355032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lare un process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moire appelé prc_half_ad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eut utiliser les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bilité « statique » sur a 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0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0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24680" y="155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générer la constant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x21_5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N0 &lt;&lt; IN1 &lt;&lt; COM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com=(int)CO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0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1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6320" y="1413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choisi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64000" y="115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alu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, B; sc_in&lt;sc_uint&lt;3&gt; &gt; Alu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Aluou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bool&gt; ze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alu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 &lt;&lt; B &lt;&lt; Alu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esult = 0 ; sc_uint&lt;32&gt; opA ; sc_uint&lt;32&gt; o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A = A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B = B.read() 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(Aluop.read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 result = opA &amp;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2: result = opA +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6: result = opA -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7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fault: cout &lt;&lt; "aluop illegal" &lt;&lt; endl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luout=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zero=(result==0)?1: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00000000 | i_value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_value[15]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FFFF0000 | 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_reg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g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0160" y="1557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AD et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ir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 sc_in&lt;bool&gt; regWrite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16&gt; &gt; Q15_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15_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0_1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5_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ir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in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0.write(din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11.write(din.range(15,1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0_16.write(din.range(20,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5_21.write(din.range(25,2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c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c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PC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c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_input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set=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0x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 if (PC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_inp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4000" y="263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f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, RegWrite; sc_in&lt;sc_uint&lt;5&gt; &gt; Addwrite, Addrd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Writedata; sc_out&lt;sc_uint&lt;32&gt; &gt; data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sc_uint&lt;32&gt; &gt; regFile[3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f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Reg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d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R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Regs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rd1.read()==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regFile[Addrd1.read()]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Re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write.read()!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gFile[Addwrite.read()].write(Writedata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half_adder::prc_half_add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re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628640"/>
            <a:ext cx="6912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227664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227664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27664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37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37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2908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636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47242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9080" y="29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37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48360" y="206028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206064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0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280" y="4313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600" y="1916280"/>
            <a:ext cx="119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9564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61440" y="638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94172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94172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de de fs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fsm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e la hiér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,carry_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_o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signal&lt;bool&gt; c1,s1,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o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lf_adder *ha1_ptr,*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1_ptr=new half_adder("ha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a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b(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sum(s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carry(c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2_ptr=new half_adder("ha2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onal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(*ha2_ptr)(s1,carry_in,sum,c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1 &lt;&lt;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de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~full_add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1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c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full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ull_adder::prc_o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_out = c1 |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473440" cy="140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iver.h, drive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d_a,d_b,d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driv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C_THREAD(prc_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70028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iver::prc_driv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uint&lt;3&gt; patte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a=pattern[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b=pattern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cin=pattern[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(5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nitor.h, monito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,m_b,m_cin,m_sum,m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moni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moni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sum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ou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7652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nitor::prc_moni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At time " &lt;&lt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sc_time_stamp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"::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(a, b, carry_in):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m_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b &lt;&lt; m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 (sum, carry_out): "  &lt;&lt; m_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cout &lt;&lt; 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hématique du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34936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ll_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141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4365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708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1417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3573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720" y="765000"/>
            <a:ext cx="6048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File : full_adder_main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full_add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(int argc,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ull_adder f1("FullAdderWithHalfAdd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positional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river d1("Generate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named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a(t_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b(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cin(t_c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nitor mo1("Monitor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100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56360" y="3213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800" y="3062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év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229440" y="430056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414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09-30T11:27:09Z</dcterms:modified>
  <cp:revision>107</cp:revision>
  <dc:subject/>
  <dc:title>Diapositive 1</dc:title>
</cp:coreProperties>
</file>