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084-88F5-45A3-89DB-ACB98F12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AD0-F36C-4D2F-89D4-091CDE95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AF74-DC0C-485A-8CFA-77E47DCA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292-DCFD-4C26-A970-BB73FF32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D54-A980-4EAE-95E3-30F0A835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C7F-475F-4295-86EE-99ACBA2E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826D-3820-4FBE-92EF-3B62551B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292-70D2-4EE1-B7A8-15AF9B70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5CA-F886-46D7-9218-C0CE658E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B477-F7F1-481E-9765-9BB98BB0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5B3-A014-4152-A43A-883E472E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87A-F5F2-458F-AE1D-C4FA42B5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D17A-8319-40B1-AE1D-54195CE2E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3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bibliothèque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 platform exampl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nd research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SAR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SC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M, ANR AR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ASABI, ANR AR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-DREAMS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E 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ff"/>
                </a:solidFill>
                <a:latin typeface="Arial"/>
              </a:rPr>
              <a:t>Targeted architecture: </a:t>
            </a: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TSAR (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22320" y="1273320"/>
            <a:ext cx="8214840" cy="4748040"/>
            <a:chOff x="922320" y="1273320"/>
            <a:chExt cx="8214840" cy="4748040"/>
          </a:xfrm>
        </p:grpSpPr>
        <p:sp>
          <p:nvSpPr>
            <p:cNvPr id="121" name=""/>
            <p:cNvSpPr/>
            <p:nvPr/>
          </p:nvSpPr>
          <p:spPr>
            <a:xfrm>
              <a:off x="7765920" y="4264200"/>
              <a:ext cx="10504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5200" y="5583240"/>
              <a:ext cx="62964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65200" y="4575240"/>
              <a:ext cx="299196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360" y="5184720"/>
              <a:ext cx="5583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63600" y="5195880"/>
              <a:ext cx="501480" cy="81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23760" y="3490920"/>
              <a:ext cx="4095360" cy="29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icro- network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65200" y="518004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79480" y="5180040"/>
              <a:ext cx="31536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2960" y="55609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71360" y="5037120"/>
              <a:ext cx="708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2280" y="4903920"/>
              <a:ext cx="10220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95800" y="4575240"/>
              <a:ext cx="298404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06960" y="5184720"/>
              <a:ext cx="5583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94200" y="5195880"/>
              <a:ext cx="501480" cy="81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0172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376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368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4144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2440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824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5636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6592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05200" y="4297320"/>
              <a:ext cx="156960" cy="270000"/>
            </a:xfrm>
            <a:prstGeom prst="upDownArrow">
              <a:avLst>
                <a:gd name="adj1" fmla="val 50000"/>
                <a:gd name="adj2" fmla="val 342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05200" y="37609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82520" y="4297320"/>
              <a:ext cx="156960" cy="270000"/>
            </a:xfrm>
            <a:prstGeom prst="upDownArrow">
              <a:avLst>
                <a:gd name="adj1" fmla="val 50000"/>
                <a:gd name="adj2" fmla="val 342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82520" y="37609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23760" y="4029120"/>
              <a:ext cx="473040" cy="2682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05200" y="32227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05200" y="26845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82520" y="32227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82520" y="26845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65200" y="2357280"/>
              <a:ext cx="2991960" cy="327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32680" y="2023920"/>
              <a:ext cx="110448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7520" y="2347920"/>
              <a:ext cx="299232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55680" y="1273320"/>
              <a:ext cx="501480" cy="815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0172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2376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4144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1273320"/>
              <a:ext cx="558360" cy="823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65200" y="1273320"/>
              <a:ext cx="6296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5200" y="1698480"/>
              <a:ext cx="31392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7948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27200" y="1273320"/>
              <a:ext cx="6314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2720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72960" y="1676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38240" y="3490920"/>
              <a:ext cx="4708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2498760" y="3467880"/>
              <a:ext cx="135000" cy="313920"/>
            </a:xfrm>
            <a:prstGeom prst="upDownArrow">
              <a:avLst>
                <a:gd name="adj1" fmla="val 50000"/>
                <a:gd name="adj2" fmla="val 46291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22320" y="3222720"/>
              <a:ext cx="699840" cy="873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t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tr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1712160" y="3467160"/>
              <a:ext cx="135000" cy="315720"/>
            </a:xfrm>
            <a:prstGeom prst="upDownArrow">
              <a:avLst>
                <a:gd name="adj1" fmla="val 50000"/>
                <a:gd name="adj2" fmla="val 4655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22880" y="3222720"/>
              <a:ext cx="596520" cy="873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t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tr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34120" y="3490920"/>
              <a:ext cx="4726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7697160" y="3467160"/>
              <a:ext cx="135000" cy="315360"/>
            </a:xfrm>
            <a:prstGeom prst="upDownArrow">
              <a:avLst>
                <a:gd name="adj1" fmla="val 50000"/>
                <a:gd name="adj2" fmla="val 4650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6908760" y="3467880"/>
              <a:ext cx="135000" cy="314280"/>
            </a:xfrm>
            <a:prstGeom prst="upDownArrow">
              <a:avLst>
                <a:gd name="adj1" fmla="val 50000"/>
                <a:gd name="adj2" fmla="val 463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48240" y="4029120"/>
              <a:ext cx="470880" cy="2682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23760" y="2952720"/>
              <a:ext cx="47304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48240" y="2952720"/>
              <a:ext cx="4708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79480" y="2819520"/>
              <a:ext cx="5986080" cy="1612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78360" y="1273320"/>
              <a:ext cx="501480" cy="815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2440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4824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5636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6592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99040" y="1273320"/>
              <a:ext cx="556920" cy="823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7440" y="1676520"/>
              <a:ext cx="23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71360" y="2214720"/>
              <a:ext cx="708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6520" y="56023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6520" y="4781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46520" y="24559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46520" y="16351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42920" y="169560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12800" y="5595840"/>
              <a:ext cx="62028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04880" y="518796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19160" y="518796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87520" y="1273320"/>
              <a:ext cx="63000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87520" y="1698480"/>
              <a:ext cx="31428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0216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49880" y="1273320"/>
              <a:ext cx="6314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4988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95640" y="1676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65600" y="169560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84640" y="5580000"/>
              <a:ext cx="62964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84640" y="517680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98920" y="5176800"/>
              <a:ext cx="31536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2400" y="555768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24320" y="5592960"/>
              <a:ext cx="63000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320" y="518472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38600" y="518472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81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M (1) : Generic til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NPU - Computing tile – clus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74640" y="2543040"/>
            <a:ext cx="3304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C (MIPS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DU: Test &amp; Decision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MU: Voltage Management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CG: Local Clock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IC:Network Interface 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A-AS: Synchronous/Async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3640" y="2492280"/>
            <a:ext cx="4103640" cy="3095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06560" y="2565360"/>
            <a:ext cx="72072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06560" y="3645000"/>
            <a:ext cx="2881080" cy="71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66920" y="4726080"/>
            <a:ext cx="720720" cy="71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-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22200" y="3284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68360" y="436392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82920" y="436572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14560" y="2565360"/>
            <a:ext cx="187308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uting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06560" y="3284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40360" y="382428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0360" y="260028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40360" y="3211560"/>
            <a:ext cx="720720" cy="35856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48000" y="4363920"/>
            <a:ext cx="288720" cy="360360"/>
          </a:xfrm>
          <a:prstGeom prst="upDownArrow">
            <a:avLst>
              <a:gd name="adj1" fmla="val 50000"/>
              <a:gd name="adj2" fmla="val 2484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93800" y="2671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69840" y="4726080"/>
            <a:ext cx="938160" cy="71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16000" y="4724280"/>
            <a:ext cx="1043280" cy="71928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i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2720" y="3895560"/>
            <a:ext cx="287640" cy="252720"/>
          </a:xfrm>
          <a:prstGeom prst="leftRightArrow">
            <a:avLst>
              <a:gd name="adj1" fmla="val 50000"/>
              <a:gd name="adj2" fmla="val 226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95920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57192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64000" y="5119560"/>
            <a:ext cx="1440000" cy="144144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9440" y="5121360"/>
            <a:ext cx="574560" cy="287280"/>
          </a:xfrm>
          <a:prstGeom prst="leftRightArrow">
            <a:avLst>
              <a:gd name="adj1" fmla="val 37019"/>
              <a:gd name="adj2" fmla="val 4585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0920" y="18900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1428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2560" y="35100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2560" y="89064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14302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0560" y="70956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3640" y="124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71640" y="125100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35100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82560" y="70956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9640" y="97956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49640" y="368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49640" y="673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03280" y="124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5280" y="143028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143028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06720" y="101592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57280" y="547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57280" y="85392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162720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24000" y="162864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0560" y="1904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1608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62200" y="35244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2200" y="89208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3280" y="14320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70200" y="71136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4328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51280" y="125244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35244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62560" y="71136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29280" y="9810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29280" y="3697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29280" y="674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82920" y="12510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4920" y="143208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67280" y="143208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86360" y="101772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37280" y="54936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37280" y="85572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1280" y="16286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0560" y="191772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63044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12000" y="19044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316080"/>
            <a:ext cx="205236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43640" y="35244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43640" y="89208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14320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1640" y="71136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2472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32720" y="125244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35244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43640" y="71136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010360" y="9810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10360" y="3697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10360" y="674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436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26360" y="143208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48360" y="143208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67800" y="1017720"/>
            <a:ext cx="142560" cy="125280"/>
          </a:xfrm>
          <a:prstGeom prst="leftRightArrow">
            <a:avLst>
              <a:gd name="adj1" fmla="val 50000"/>
              <a:gd name="adj2" fmla="val 22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18360" y="54936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118360" y="85572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72360" y="16286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2000" y="191772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85080" y="163044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234792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247320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2560" y="250992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2560" y="304956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3640" y="35892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0560" y="286848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63640" y="34084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71640" y="340992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87280" y="250992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82560" y="286848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49640" y="31384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49640" y="25272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49640" y="28321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34084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5280" y="35892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358920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06720" y="317484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57280" y="27068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57280" y="301320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1280" y="37861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2052000" y="299448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4000" y="3787920"/>
            <a:ext cx="287280" cy="142560"/>
          </a:xfrm>
          <a:prstGeom prst="leftRightArrow">
            <a:avLst>
              <a:gd name="adj1" fmla="val 37019"/>
              <a:gd name="adj2" fmla="val 46199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3056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092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2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62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3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7020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43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5128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67280" y="251136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6256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2928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2928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2928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8292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4492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8636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3728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3728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9128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056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4931280" y="299628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03640" y="378936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12000" y="2349360"/>
            <a:ext cx="288108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72360" y="2475000"/>
            <a:ext cx="205236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4364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4364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2472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5164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2472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3272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4364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1036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1036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01036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6436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26360" y="359100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4836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867800" y="3176640"/>
            <a:ext cx="142560" cy="125280"/>
          </a:xfrm>
          <a:prstGeom prst="leftRightArrow">
            <a:avLst>
              <a:gd name="adj1" fmla="val 50000"/>
              <a:gd name="adj2" fmla="val 22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118360" y="270828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118360" y="30146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17236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12000" y="407664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7812720" y="299628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88508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0920" y="450864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256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256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6364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9056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6364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7164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728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8256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4964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964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4964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28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8728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0672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57280" y="486720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57280" y="5173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1128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205164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2400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30560" y="451008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90920" y="463536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62200" y="467208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62200" y="521172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43280" y="575136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70200" y="50306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4328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51280" y="557208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067280" y="4672080"/>
            <a:ext cx="936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62560" y="50306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29280" y="5300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29280" y="46893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29280" y="4994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2920" y="557064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44920" y="575136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67280" y="575136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86360" y="533700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237280" y="486900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37280" y="517536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91280" y="594828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30560" y="623736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4931640" y="515664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595008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451008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72360" y="4635360"/>
            <a:ext cx="205236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43640" y="467208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521172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24720" y="575136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551640" y="50306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2472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32720" y="557208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948360" y="467208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43640" y="50306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10360" y="5300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10360" y="46893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010360" y="4994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16436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26360" y="575136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48360" y="575136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867800" y="5337000"/>
            <a:ext cx="142560" cy="125640"/>
          </a:xfrm>
          <a:prstGeom prst="leftRightArrow">
            <a:avLst>
              <a:gd name="adj1" fmla="val 50000"/>
              <a:gd name="adj2" fmla="val 225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18360" y="486900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118360" y="517536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72360" y="594828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12000" y="623736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7813080" y="515664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885080" y="59500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M (2):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highly multithreaded embedded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727280" y="2384280"/>
            <a:ext cx="6462360" cy="1487520"/>
            <a:chOff x="1727280" y="2384280"/>
            <a:chExt cx="6462360" cy="1487520"/>
          </a:xfrm>
        </p:grpSpPr>
        <p:sp>
          <p:nvSpPr>
            <p:cNvPr id="435" name=""/>
            <p:cNvSpPr/>
            <p:nvPr/>
          </p:nvSpPr>
          <p:spPr>
            <a:xfrm>
              <a:off x="172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1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MU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0656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9692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QZ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8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D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77640" y="2784240"/>
              <a:ext cx="52164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B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6836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D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352240" y="2955600"/>
              <a:ext cx="260280" cy="228600"/>
              <a:chOff x="2352240" y="2955600"/>
              <a:chExt cx="260280" cy="228600"/>
            </a:xfrm>
          </p:grpSpPr>
          <p:sp>
            <p:nvSpPr>
              <p:cNvPr id="443" name=""/>
              <p:cNvSpPr/>
              <p:nvPr/>
            </p:nvSpPr>
            <p:spPr>
              <a:xfrm>
                <a:off x="240480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4048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566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0848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610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35224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35224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342600" y="2955600"/>
              <a:ext cx="260280" cy="228600"/>
              <a:chOff x="3342600" y="2955600"/>
              <a:chExt cx="260280" cy="228600"/>
            </a:xfrm>
          </p:grpSpPr>
          <p:sp>
            <p:nvSpPr>
              <p:cNvPr id="451" name=""/>
              <p:cNvSpPr/>
              <p:nvPr/>
            </p:nvSpPr>
            <p:spPr>
              <a:xfrm>
                <a:off x="339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9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9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5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34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334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3342600" y="2384280"/>
              <a:ext cx="260280" cy="228240"/>
              <a:chOff x="3342600" y="2384280"/>
              <a:chExt cx="260280" cy="228240"/>
            </a:xfrm>
          </p:grpSpPr>
          <p:sp>
            <p:nvSpPr>
              <p:cNvPr id="459" name=""/>
              <p:cNvSpPr/>
              <p:nvPr/>
            </p:nvSpPr>
            <p:spPr>
              <a:xfrm>
                <a:off x="3395160" y="249768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39516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4700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9884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55140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3342600" y="238428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3342600" y="261252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3811320" y="3528360"/>
              <a:ext cx="260280" cy="228600"/>
              <a:chOff x="3811320" y="3528360"/>
              <a:chExt cx="260280" cy="228600"/>
            </a:xfrm>
          </p:grpSpPr>
          <p:sp>
            <p:nvSpPr>
              <p:cNvPr id="467" name=""/>
              <p:cNvSpPr/>
              <p:nvPr/>
            </p:nvSpPr>
            <p:spPr>
              <a:xfrm>
                <a:off x="3863880" y="364212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6388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91572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96756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2012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3811320" y="352836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3811320" y="375696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332960" y="2955600"/>
              <a:ext cx="260280" cy="228600"/>
              <a:chOff x="4332960" y="2955600"/>
              <a:chExt cx="260280" cy="228600"/>
            </a:xfrm>
          </p:grpSpPr>
          <p:sp>
            <p:nvSpPr>
              <p:cNvPr id="475" name=""/>
              <p:cNvSpPr/>
              <p:nvPr/>
            </p:nvSpPr>
            <p:spPr>
              <a:xfrm>
                <a:off x="438552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3855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373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892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417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433296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33296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5323320" y="2955600"/>
              <a:ext cx="260280" cy="228600"/>
              <a:chOff x="5323320" y="2955600"/>
              <a:chExt cx="260280" cy="228600"/>
            </a:xfrm>
          </p:grpSpPr>
          <p:sp>
            <p:nvSpPr>
              <p:cNvPr id="483" name=""/>
              <p:cNvSpPr/>
              <p:nvPr/>
            </p:nvSpPr>
            <p:spPr>
              <a:xfrm>
                <a:off x="537588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7588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4277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795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5321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32332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32332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312600" y="2955600"/>
              <a:ext cx="260280" cy="228600"/>
              <a:chOff x="6312600" y="2955600"/>
              <a:chExt cx="260280" cy="228600"/>
            </a:xfrm>
          </p:grpSpPr>
          <p:sp>
            <p:nvSpPr>
              <p:cNvPr id="491" name=""/>
              <p:cNvSpPr/>
              <p:nvPr/>
            </p:nvSpPr>
            <p:spPr>
              <a:xfrm>
                <a:off x="636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36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41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46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2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31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31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7302600" y="2955600"/>
              <a:ext cx="260280" cy="228600"/>
              <a:chOff x="7302600" y="2955600"/>
              <a:chExt cx="260280" cy="228600"/>
            </a:xfrm>
          </p:grpSpPr>
          <p:sp>
            <p:nvSpPr>
              <p:cNvPr id="499" name=""/>
              <p:cNvSpPr/>
              <p:nvPr/>
            </p:nvSpPr>
            <p:spPr>
              <a:xfrm>
                <a:off x="735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35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40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5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51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730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730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06" name=""/>
            <p:cNvCxnSpPr>
              <a:stCxn id="435" idx="6"/>
              <a:endCxn id="444" idx="1"/>
            </p:cNvCxnSpPr>
            <p:nvPr/>
          </p:nvCxnSpPr>
          <p:spPr>
            <a:xfrm>
              <a:off x="225504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7" name=""/>
            <p:cNvCxnSpPr>
              <a:stCxn id="447" idx="3"/>
              <a:endCxn id="436" idx="2"/>
            </p:cNvCxnSpPr>
            <p:nvPr/>
          </p:nvCxnSpPr>
          <p:spPr>
            <a:xfrm>
              <a:off x="2619720" y="3070080"/>
              <a:ext cx="9144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8" name=""/>
            <p:cNvCxnSpPr>
              <a:stCxn id="436" idx="6"/>
              <a:endCxn id="452" idx="1"/>
            </p:cNvCxnSpPr>
            <p:nvPr/>
          </p:nvCxnSpPr>
          <p:spPr>
            <a:xfrm>
              <a:off x="324576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9" name=""/>
            <p:cNvCxnSpPr>
              <a:stCxn id="455" idx="3"/>
              <a:endCxn id="437" idx="2"/>
            </p:cNvCxnSpPr>
            <p:nvPr/>
          </p:nvCxnSpPr>
          <p:spPr>
            <a:xfrm>
              <a:off x="361044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436" idx="0"/>
              <a:endCxn id="460" idx="1"/>
            </p:cNvCxnSpPr>
            <p:nvPr/>
          </p:nvCxnSpPr>
          <p:spPr>
            <a:xfrm flipH="1" flipV="1" rot="5400000">
              <a:off x="3044160" y="2431800"/>
              <a:ext cx="277920" cy="410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463" idx="3"/>
              <a:endCxn id="437" idx="0"/>
            </p:cNvCxnSpPr>
            <p:nvPr/>
          </p:nvCxnSpPr>
          <p:spPr>
            <a:xfrm>
              <a:off x="3610440" y="2498760"/>
              <a:ext cx="357840" cy="277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2" name=""/>
            <p:cNvCxnSpPr>
              <a:stCxn id="437" idx="6"/>
              <a:endCxn id="476" idx="1"/>
            </p:cNvCxnSpPr>
            <p:nvPr/>
          </p:nvCxnSpPr>
          <p:spPr>
            <a:xfrm>
              <a:off x="4234680" y="3070080"/>
              <a:ext cx="1443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3" name=""/>
            <p:cNvCxnSpPr>
              <a:stCxn id="479" idx="3"/>
              <a:endCxn id="438" idx="2"/>
            </p:cNvCxnSpPr>
            <p:nvPr/>
          </p:nvCxnSpPr>
          <p:spPr>
            <a:xfrm>
              <a:off x="460080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4" name=""/>
            <p:cNvCxnSpPr>
              <a:stCxn id="436" idx="4"/>
              <a:endCxn id="468" idx="1"/>
            </p:cNvCxnSpPr>
            <p:nvPr/>
          </p:nvCxnSpPr>
          <p:spPr>
            <a:xfrm flipH="1" rot="16200000">
              <a:off x="3277440" y="3063960"/>
              <a:ext cx="279360" cy="879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471" idx="3"/>
              <a:endCxn id="438" idx="4"/>
            </p:cNvCxnSpPr>
            <p:nvPr/>
          </p:nvCxnSpPr>
          <p:spPr>
            <a:xfrm flipV="1">
              <a:off x="4078800" y="3363840"/>
              <a:ext cx="879480" cy="279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438" idx="6"/>
              <a:endCxn id="484" idx="1"/>
            </p:cNvCxnSpPr>
            <p:nvPr/>
          </p:nvCxnSpPr>
          <p:spPr>
            <a:xfrm>
              <a:off x="5225760" y="3070080"/>
              <a:ext cx="144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487" idx="3"/>
              <a:endCxn id="439" idx="2"/>
            </p:cNvCxnSpPr>
            <p:nvPr/>
          </p:nvCxnSpPr>
          <p:spPr>
            <a:xfrm>
              <a:off x="559116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439" idx="6"/>
              <a:endCxn id="492" idx="1"/>
            </p:cNvCxnSpPr>
            <p:nvPr/>
          </p:nvCxnSpPr>
          <p:spPr>
            <a:xfrm>
              <a:off x="621576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9" name=""/>
            <p:cNvCxnSpPr>
              <a:stCxn id="495" idx="3"/>
              <a:endCxn id="440" idx="2"/>
            </p:cNvCxnSpPr>
            <p:nvPr/>
          </p:nvCxnSpPr>
          <p:spPr>
            <a:xfrm>
              <a:off x="6580080" y="3070080"/>
              <a:ext cx="91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440" idx="6"/>
              <a:endCxn id="500" idx="1"/>
            </p:cNvCxnSpPr>
            <p:nvPr/>
          </p:nvCxnSpPr>
          <p:spPr>
            <a:xfrm>
              <a:off x="720612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03" idx="3"/>
              <a:endCxn id="441" idx="2"/>
            </p:cNvCxnSpPr>
            <p:nvPr/>
          </p:nvCxnSpPr>
          <p:spPr>
            <a:xfrm>
              <a:off x="7570080" y="3070080"/>
              <a:ext cx="91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5325120" y="3625560"/>
              <a:ext cx="199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ample TCG, MJPEG 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592360" y="4005360"/>
            <a:ext cx="6191280" cy="2733480"/>
            <a:chOff x="2592360" y="4005360"/>
            <a:chExt cx="6191280" cy="2733480"/>
          </a:xfrm>
        </p:grpSpPr>
        <p:sp>
          <p:nvSpPr>
            <p:cNvPr id="524" name=""/>
            <p:cNvSpPr/>
            <p:nvPr/>
          </p:nvSpPr>
          <p:spPr>
            <a:xfrm>
              <a:off x="2592360" y="400536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50480" y="40856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0124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0124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759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7864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312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533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63040" y="410868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4636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2408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2408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2408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178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89000" y="47919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6304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21840" y="45295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01120" y="423324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01120" y="44272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4000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34080" y="491724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55160" y="4006440"/>
              <a:ext cx="206424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13280" y="40856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6440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6440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387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4180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940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161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26200" y="4108680"/>
              <a:ext cx="67068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0952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8724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8724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8724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806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52160" y="47919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2620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84640" y="45295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640" y="423324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64640" y="442728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0316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55160" y="50994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97240" y="4917240"/>
              <a:ext cx="205920" cy="90360"/>
            </a:xfrm>
            <a:prstGeom prst="leftRightArrow">
              <a:avLst>
                <a:gd name="adj1" fmla="val 37019"/>
                <a:gd name="adj2" fmla="val 52245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19400" y="40064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77520" y="4085640"/>
              <a:ext cx="147024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2864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2864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033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10604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1586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807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90440" y="410868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7340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15112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15112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5112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452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6400" y="4791960"/>
              <a:ext cx="33516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9044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048880" y="4529520"/>
              <a:ext cx="101880" cy="79200"/>
            </a:xfrm>
            <a:prstGeom prst="leftRightArrow">
              <a:avLst>
                <a:gd name="adj1" fmla="val 50000"/>
                <a:gd name="adj2" fmla="val 2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28520" y="423324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228520" y="44272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26740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19400" y="50994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61480" y="491724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2360" y="53726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50480" y="54518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0124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90124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759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864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312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7533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63040" y="547524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4636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2408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2408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2408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178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89000" y="61581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26304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21840" y="58957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01120" y="559980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01120" y="57934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4000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394272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34080" y="628380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55160" y="5372640"/>
              <a:ext cx="206424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13280" y="54518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6440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6440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387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4180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940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161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26200" y="5475240"/>
              <a:ext cx="67068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0952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8724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8724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8724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806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952160" y="61581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2620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984640" y="58957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64640" y="559980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64640" y="579348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0316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55160" y="64656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6200000">
              <a:off x="600588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97240" y="6283800"/>
              <a:ext cx="205920" cy="90360"/>
            </a:xfrm>
            <a:prstGeom prst="leftRightArrow">
              <a:avLst>
                <a:gd name="adj1" fmla="val 37019"/>
                <a:gd name="adj2" fmla="val 52245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19400" y="53726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977520" y="5451840"/>
              <a:ext cx="147024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864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2864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033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0604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586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807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90440" y="547524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7340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5112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15112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5112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52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016400" y="6158160"/>
              <a:ext cx="33516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9044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48880" y="5895720"/>
              <a:ext cx="101880" cy="79200"/>
            </a:xfrm>
            <a:prstGeom prst="leftRightArrow">
              <a:avLst>
                <a:gd name="adj1" fmla="val 50000"/>
                <a:gd name="adj2" fmla="val 2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28520" y="559980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228520" y="57934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26740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19400" y="64656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807012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61480" y="628380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444120" y="40968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2927520" y="4825080"/>
              <a:ext cx="258120" cy="181800"/>
              <a:chOff x="2927520" y="4825080"/>
              <a:chExt cx="258120" cy="181800"/>
            </a:xfrm>
          </p:grpSpPr>
          <p:sp>
            <p:nvSpPr>
              <p:cNvPr id="659" name=""/>
              <p:cNvSpPr/>
              <p:nvPr/>
            </p:nvSpPr>
            <p:spPr>
              <a:xfrm>
                <a:off x="2980080" y="491544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8008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3120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8232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13452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2927520" y="48250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2927520" y="50068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5197320" y="4825080"/>
              <a:ext cx="258120" cy="181800"/>
              <a:chOff x="5197320" y="4825080"/>
              <a:chExt cx="258120" cy="181800"/>
            </a:xfrm>
          </p:grpSpPr>
          <p:sp>
            <p:nvSpPr>
              <p:cNvPr id="667" name=""/>
              <p:cNvSpPr/>
              <p:nvPr/>
            </p:nvSpPr>
            <p:spPr>
              <a:xfrm>
                <a:off x="5249880" y="491544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4988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30100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35212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0432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5197320" y="48250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5197320" y="50068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4914000" y="4916520"/>
              <a:ext cx="258120" cy="181800"/>
              <a:chOff x="4914000" y="4916520"/>
              <a:chExt cx="258120" cy="181800"/>
            </a:xfrm>
          </p:grpSpPr>
          <p:sp>
            <p:nvSpPr>
              <p:cNvPr id="675" name=""/>
              <p:cNvSpPr/>
              <p:nvPr/>
            </p:nvSpPr>
            <p:spPr>
              <a:xfrm>
                <a:off x="4966560" y="50068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966560" y="49165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017680" y="49165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068800" y="49165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121000" y="49165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491400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4914000" y="50983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042880" y="6123960"/>
              <a:ext cx="258120" cy="181800"/>
              <a:chOff x="5042880" y="6123960"/>
              <a:chExt cx="258120" cy="181800"/>
            </a:xfrm>
          </p:grpSpPr>
          <p:sp>
            <p:nvSpPr>
              <p:cNvPr id="683" name=""/>
              <p:cNvSpPr/>
              <p:nvPr/>
            </p:nvSpPr>
            <p:spPr>
              <a:xfrm>
                <a:off x="5095440" y="621432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95440" y="6123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46560" y="6123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97680" y="6123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49880" y="6123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5042880" y="61239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042880" y="63057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888080" y="4734720"/>
              <a:ext cx="258120" cy="181800"/>
              <a:chOff x="4888080" y="4734720"/>
              <a:chExt cx="258120" cy="181800"/>
            </a:xfrm>
          </p:grpSpPr>
          <p:sp>
            <p:nvSpPr>
              <p:cNvPr id="691" name=""/>
              <p:cNvSpPr/>
              <p:nvPr/>
            </p:nvSpPr>
            <p:spPr>
              <a:xfrm>
                <a:off x="4940640" y="48250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94064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9176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4288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9508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4888080" y="47347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488808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7054560" y="5007960"/>
              <a:ext cx="258120" cy="181800"/>
              <a:chOff x="7054560" y="5007960"/>
              <a:chExt cx="258120" cy="181800"/>
            </a:xfrm>
          </p:grpSpPr>
          <p:sp>
            <p:nvSpPr>
              <p:cNvPr id="699" name=""/>
              <p:cNvSpPr/>
              <p:nvPr/>
            </p:nvSpPr>
            <p:spPr>
              <a:xfrm>
                <a:off x="7107120" y="509832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107120" y="5007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158240" y="5007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09360" y="5007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261560" y="5007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7054560" y="50079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7054560" y="51897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7054560" y="4734720"/>
              <a:ext cx="258120" cy="181800"/>
              <a:chOff x="7054560" y="4734720"/>
              <a:chExt cx="258120" cy="181800"/>
            </a:xfrm>
          </p:grpSpPr>
          <p:sp>
            <p:nvSpPr>
              <p:cNvPr id="707" name=""/>
              <p:cNvSpPr/>
              <p:nvPr/>
            </p:nvSpPr>
            <p:spPr>
              <a:xfrm>
                <a:off x="7107120" y="48250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10712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15824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20936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26156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7054560" y="47347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705456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7080840" y="6169320"/>
              <a:ext cx="258120" cy="181800"/>
              <a:chOff x="7080840" y="6169320"/>
              <a:chExt cx="258120" cy="181800"/>
            </a:xfrm>
          </p:grpSpPr>
          <p:sp>
            <p:nvSpPr>
              <p:cNvPr id="715" name=""/>
              <p:cNvSpPr/>
              <p:nvPr/>
            </p:nvSpPr>
            <p:spPr>
              <a:xfrm>
                <a:off x="7133400" y="62596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133400" y="61693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84520" y="61693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235640" y="61693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287840" y="61693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7080840" y="61693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7080840" y="63511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4965840" y="405036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28640" y="4027320"/>
              <a:ext cx="25704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28640" y="4233240"/>
              <a:ext cx="25704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65840" y="54630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71520" y="54630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DAM (3)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ower and thermal management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V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08000" y="2206800"/>
            <a:ext cx="4103640" cy="309528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0920" y="2279520"/>
            <a:ext cx="72072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50920" y="3359160"/>
            <a:ext cx="2881080" cy="71928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411280" y="4440240"/>
            <a:ext cx="720720" cy="71928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-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66560" y="299880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12720" y="40784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627280" y="407988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58920" y="2279520"/>
            <a:ext cx="187308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uting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50920" y="299880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384720" y="353844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384720" y="231444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384720" y="292572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92360" y="4078440"/>
            <a:ext cx="288720" cy="360360"/>
          </a:xfrm>
          <a:prstGeom prst="upDownArrow">
            <a:avLst>
              <a:gd name="adj1" fmla="val 50000"/>
              <a:gd name="adj2" fmla="val 2484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938160" y="2386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14200" y="4440240"/>
            <a:ext cx="938160" cy="71928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260360" y="4438800"/>
            <a:ext cx="1043280" cy="71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i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097080" y="3610080"/>
            <a:ext cx="287640" cy="252360"/>
          </a:xfrm>
          <a:prstGeom prst="leftRightArrow">
            <a:avLst>
              <a:gd name="adj1" fmla="val 50000"/>
              <a:gd name="adj2" fmla="val 226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600360" y="267336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600360" y="328608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708360" y="4834080"/>
            <a:ext cx="1440000" cy="144144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33800" y="4835520"/>
            <a:ext cx="574560" cy="287280"/>
          </a:xfrm>
          <a:prstGeom prst="leftRightArrow">
            <a:avLst>
              <a:gd name="adj1" fmla="val 37019"/>
              <a:gd name="adj2" fmla="val 4585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5440" y="267480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908000" y="2674800"/>
            <a:ext cx="54000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49440" y="375444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3440" y="487044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12720" y="4870440"/>
            <a:ext cx="54000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2484360" y="2782440"/>
            <a:ext cx="865440" cy="8636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899640" y="2782800"/>
            <a:ext cx="97308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2890800"/>
            <a:ext cx="971640" cy="7556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720720" y="4006800"/>
            <a:ext cx="1044720" cy="82728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01800" y="5014800"/>
            <a:ext cx="57456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089080" y="3898440"/>
            <a:ext cx="1295640" cy="104292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862520" y="2349360"/>
            <a:ext cx="4294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nsing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uating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 local adap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wer consumptio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ed for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cal, Reactive, Immedi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cal, Preventive, Measure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ighbors, Preventive, Measure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7056360" y="6154560"/>
            <a:ext cx="190836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M (4)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620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6656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8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8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619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4620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19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72728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04292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43820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10492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0492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0492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25892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2056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4292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96200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12920" y="270828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12920" y="30146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26692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7964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98764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34800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41964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41964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0072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52728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60036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60836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92436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31964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98636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98636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98636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14036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40200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92436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4344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09436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9436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14836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8764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6108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0620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56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820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820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61928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4620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9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72728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04292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43820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10492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0492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10492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25892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056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04292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6200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12920" y="486720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212920" y="5173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26692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rot="16200000">
            <a:off x="190728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7964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98764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34800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41964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41964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50072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52728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0036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608360" y="557064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2436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31964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98636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8636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98636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14036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40200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92436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84344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09436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09436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14836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7640" y="6235560"/>
            <a:ext cx="2160720" cy="144720"/>
          </a:xfrm>
          <a:prstGeom prst="leftRightArrow">
            <a:avLst>
              <a:gd name="adj1" fmla="val 32593"/>
              <a:gd name="adj2" fmla="val 488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478836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86108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863280" y="3643200"/>
            <a:ext cx="360720" cy="287280"/>
            <a:chOff x="863280" y="3643200"/>
            <a:chExt cx="360720" cy="287280"/>
          </a:xfrm>
        </p:grpSpPr>
        <p:sp>
          <p:nvSpPr>
            <p:cNvPr id="852" name=""/>
            <p:cNvSpPr/>
            <p:nvPr/>
          </p:nvSpPr>
          <p:spPr>
            <a:xfrm>
              <a:off x="936720" y="3786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3672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0800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07964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15236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863280" y="364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863280" y="39304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468000" y="3787920"/>
            <a:ext cx="360720" cy="287280"/>
            <a:chOff x="468000" y="3787920"/>
            <a:chExt cx="360720" cy="287280"/>
          </a:xfrm>
        </p:grpSpPr>
        <p:sp>
          <p:nvSpPr>
            <p:cNvPr id="860" name=""/>
            <p:cNvSpPr/>
            <p:nvPr/>
          </p:nvSpPr>
          <p:spPr>
            <a:xfrm>
              <a:off x="541440" y="3930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44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272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436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708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68000" y="3787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68000" y="4075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647280" y="5695920"/>
            <a:ext cx="360720" cy="287280"/>
            <a:chOff x="647280" y="5695920"/>
            <a:chExt cx="360720" cy="287280"/>
          </a:xfrm>
        </p:grpSpPr>
        <p:sp>
          <p:nvSpPr>
            <p:cNvPr id="868" name=""/>
            <p:cNvSpPr/>
            <p:nvPr/>
          </p:nvSpPr>
          <p:spPr>
            <a:xfrm>
              <a:off x="720720" y="5838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072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200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6364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93636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647280" y="5695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47280" y="598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31280" y="3500280"/>
            <a:ext cx="360720" cy="287280"/>
            <a:chOff x="431280" y="3500280"/>
            <a:chExt cx="360720" cy="287280"/>
          </a:xfrm>
        </p:grpSpPr>
        <p:sp>
          <p:nvSpPr>
            <p:cNvPr id="876" name=""/>
            <p:cNvSpPr/>
            <p:nvPr/>
          </p:nvSpPr>
          <p:spPr>
            <a:xfrm>
              <a:off x="50472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472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600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4764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036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3128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3128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455640" y="3932280"/>
            <a:ext cx="360720" cy="287280"/>
            <a:chOff x="3455640" y="3932280"/>
            <a:chExt cx="360720" cy="287280"/>
          </a:xfrm>
        </p:grpSpPr>
        <p:sp>
          <p:nvSpPr>
            <p:cNvPr id="884" name=""/>
            <p:cNvSpPr/>
            <p:nvPr/>
          </p:nvSpPr>
          <p:spPr>
            <a:xfrm>
              <a:off x="3529080" y="4075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2908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0036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7200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74472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455640" y="3932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455640" y="4219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455640" y="3500280"/>
            <a:ext cx="360720" cy="287280"/>
            <a:chOff x="3455640" y="3500280"/>
            <a:chExt cx="360720" cy="287280"/>
          </a:xfrm>
        </p:grpSpPr>
        <p:sp>
          <p:nvSpPr>
            <p:cNvPr id="892" name=""/>
            <p:cNvSpPr/>
            <p:nvPr/>
          </p:nvSpPr>
          <p:spPr>
            <a:xfrm>
              <a:off x="352908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52908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0036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7200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4472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345564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45564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3492000" y="5767560"/>
            <a:ext cx="360720" cy="287280"/>
            <a:chOff x="3492000" y="5767560"/>
            <a:chExt cx="360720" cy="287280"/>
          </a:xfrm>
        </p:grpSpPr>
        <p:sp>
          <p:nvSpPr>
            <p:cNvPr id="900" name=""/>
            <p:cNvSpPr/>
            <p:nvPr/>
          </p:nvSpPr>
          <p:spPr>
            <a:xfrm>
              <a:off x="3565440" y="59104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544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63672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70836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8108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3492000" y="576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3492000" y="605484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539640" y="2419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419640" y="238284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70828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3964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7672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nsing, SW act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cessor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fo usag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, Reactive, Immedi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e-Grain Neighbo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ven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arse-Grain, Glob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ven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635280" y="2095560"/>
            <a:ext cx="1476360" cy="576360"/>
          </a:xfrm>
          <a:prstGeom prst="wedgeRectCallout">
            <a:avLst>
              <a:gd name="adj1" fmla="val -46023"/>
              <a:gd name="adj2" fmla="val 712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332000" y="2851200"/>
            <a:ext cx="1476360" cy="576360"/>
          </a:xfrm>
          <a:prstGeom prst="wedgeRectCallout">
            <a:avLst>
              <a:gd name="adj1" fmla="val -63009"/>
              <a:gd name="adj2" fmla="val 10344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7020000" y="1268280"/>
            <a:ext cx="197964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DAM (5):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4912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0948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112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112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6220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8912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6184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87020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18584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58112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24784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4784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24784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40184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6348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18584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10492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35584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35584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40984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12256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3056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49092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62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562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643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67020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743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75128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067280" y="251136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6256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12928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12928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12928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28292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54492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06728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8636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23728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23728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29128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13056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003640" y="378936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4912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112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8112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76220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8912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86184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87020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18584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58112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24784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24784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24784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40184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348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18584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0492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35584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35584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40984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rot="16200000">
            <a:off x="2050200" y="5155560"/>
            <a:ext cx="1440000" cy="142560"/>
          </a:xfrm>
          <a:prstGeom prst="leftRightArrow">
            <a:avLst>
              <a:gd name="adj1" fmla="val 37019"/>
              <a:gd name="adj2" fmla="val 53825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12256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13056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49092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56220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56220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64328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67020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743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751280" y="557064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067280" y="467028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46256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2928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2928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12928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28292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54492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06728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98636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23728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23728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29128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130560" y="6235560"/>
            <a:ext cx="2160720" cy="144720"/>
          </a:xfrm>
          <a:prstGeom prst="leftRightArrow">
            <a:avLst>
              <a:gd name="adj1" fmla="val 32593"/>
              <a:gd name="adj2" fmla="val 488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rot="16200000">
            <a:off x="493128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003640" y="594828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1006200" y="3643200"/>
            <a:ext cx="360720" cy="287280"/>
            <a:chOff x="1006200" y="3643200"/>
            <a:chExt cx="360720" cy="287280"/>
          </a:xfrm>
        </p:grpSpPr>
        <p:sp>
          <p:nvSpPr>
            <p:cNvPr id="1006" name=""/>
            <p:cNvSpPr/>
            <p:nvPr/>
          </p:nvSpPr>
          <p:spPr>
            <a:xfrm>
              <a:off x="1079640" y="3786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7964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15092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2256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9528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1006200" y="364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006200" y="39304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610920" y="3787920"/>
            <a:ext cx="360720" cy="287280"/>
            <a:chOff x="610920" y="3787920"/>
            <a:chExt cx="360720" cy="287280"/>
          </a:xfrm>
        </p:grpSpPr>
        <p:sp>
          <p:nvSpPr>
            <p:cNvPr id="1014" name=""/>
            <p:cNvSpPr/>
            <p:nvPr/>
          </p:nvSpPr>
          <p:spPr>
            <a:xfrm>
              <a:off x="684360" y="3930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436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5564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2728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90000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610920" y="3787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610920" y="4075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90200" y="5695920"/>
            <a:ext cx="360720" cy="287280"/>
            <a:chOff x="790200" y="5695920"/>
            <a:chExt cx="360720" cy="287280"/>
          </a:xfrm>
        </p:grpSpPr>
        <p:sp>
          <p:nvSpPr>
            <p:cNvPr id="1022" name=""/>
            <p:cNvSpPr/>
            <p:nvPr/>
          </p:nvSpPr>
          <p:spPr>
            <a:xfrm>
              <a:off x="863640" y="5838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6364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3492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0656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07928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790200" y="5695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790200" y="598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74200" y="3500280"/>
            <a:ext cx="360720" cy="287280"/>
            <a:chOff x="574200" y="3500280"/>
            <a:chExt cx="360720" cy="287280"/>
          </a:xfrm>
        </p:grpSpPr>
        <p:sp>
          <p:nvSpPr>
            <p:cNvPr id="1030" name=""/>
            <p:cNvSpPr/>
            <p:nvPr/>
          </p:nvSpPr>
          <p:spPr>
            <a:xfrm>
              <a:off x="64764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4764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892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056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6328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57420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57420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3598560" y="3932280"/>
            <a:ext cx="360720" cy="287280"/>
            <a:chOff x="3598560" y="3932280"/>
            <a:chExt cx="360720" cy="287280"/>
          </a:xfrm>
        </p:grpSpPr>
        <p:sp>
          <p:nvSpPr>
            <p:cNvPr id="1038" name=""/>
            <p:cNvSpPr/>
            <p:nvPr/>
          </p:nvSpPr>
          <p:spPr>
            <a:xfrm>
              <a:off x="3672000" y="4075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7200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74328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81492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8764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3598560" y="3932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3598560" y="4219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598560" y="3500280"/>
            <a:ext cx="360720" cy="287280"/>
            <a:chOff x="3598560" y="3500280"/>
            <a:chExt cx="360720" cy="287280"/>
          </a:xfrm>
        </p:grpSpPr>
        <p:sp>
          <p:nvSpPr>
            <p:cNvPr id="1046" name=""/>
            <p:cNvSpPr/>
            <p:nvPr/>
          </p:nvSpPr>
          <p:spPr>
            <a:xfrm>
              <a:off x="367200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67200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4328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81492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8764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359856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359856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3634920" y="5767560"/>
            <a:ext cx="360720" cy="287280"/>
            <a:chOff x="3634920" y="5767560"/>
            <a:chExt cx="360720" cy="287280"/>
          </a:xfrm>
        </p:grpSpPr>
        <p:sp>
          <p:nvSpPr>
            <p:cNvPr id="1054" name=""/>
            <p:cNvSpPr/>
            <p:nvPr/>
          </p:nvSpPr>
          <p:spPr>
            <a:xfrm>
              <a:off x="3708360" y="59104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70836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77964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5128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92400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3634920" y="576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3634920" y="605484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682560" y="2419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562200" y="238284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562200" y="270828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8256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319640" y="465120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120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ns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 act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ivity cou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W Fifo usag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, Reac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eighbors, 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lobal, 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743280" y="3211560"/>
            <a:ext cx="1835280" cy="576360"/>
          </a:xfrm>
          <a:prstGeom prst="wedgeRectCallout">
            <a:avLst>
              <a:gd name="adj1" fmla="val -46800"/>
              <a:gd name="adj2" fmla="val 712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M segmen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835280" y="1808280"/>
            <a:ext cx="1476360" cy="576000"/>
          </a:xfrm>
          <a:prstGeom prst="wedgeRectCallout">
            <a:avLst>
              <a:gd name="adj1" fmla="val -63009"/>
              <a:gd name="adj2" fmla="val 10344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ile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73280" y="4040280"/>
            <a:ext cx="1834920" cy="576000"/>
          </a:xfrm>
          <a:prstGeom prst="wedgeRectCallout">
            <a:avLst>
              <a:gd name="adj1" fmla="val -45416"/>
              <a:gd name="adj2" fmla="val 8416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or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7920000" y="260280"/>
            <a:ext cx="9367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395280" y="2206800"/>
            <a:ext cx="3384720" cy="20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HETER : Seismic perturbation WS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68360" y="1557360"/>
            <a:ext cx="820728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4 GHz communicati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20364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84328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5272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3465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862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411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34656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98620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84328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20364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9236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370836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49236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68360" y="4510080"/>
            <a:ext cx="8207280" cy="433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 perturbation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41128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17236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81200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02144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3152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95492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380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831528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95492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81200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8172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46144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867744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846144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738036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37948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68360" y="5229360"/>
            <a:ext cx="6476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227960" y="515772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, BCA, Soc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68360" y="5805360"/>
            <a:ext cx="647640" cy="216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179360" y="573408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Physics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68360" y="6093000"/>
            <a:ext cx="64764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179360" y="6021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ELN, Electrical,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68360" y="5516640"/>
            <a:ext cx="647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183680" y="5445000"/>
            <a:ext cx="27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68360" y="6381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184040" y="631044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79600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94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22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51672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80400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09308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38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766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651640" y="5229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651640" y="551664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651640" y="5805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651640" y="6093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651640" y="638172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651640" y="6669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524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524720" y="623736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796000" y="623736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89084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29848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9848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89084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30836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30872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477560" y="58770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xe,y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948360" y="5661000"/>
            <a:ext cx="863640" cy="863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940360" y="5229360"/>
            <a:ext cx="1079640" cy="647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940360" y="6165720"/>
            <a:ext cx="100800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7524720" y="5229360"/>
            <a:ext cx="142920" cy="460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932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932360" y="37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93236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932360" y="5230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4932360" y="5591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5001840" y="3286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5001840" y="36464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5001840" y="4006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5001840" y="5157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5001840" y="5518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076720" y="350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076720" y="386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076720" y="501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076720" y="5373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076720" y="3141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997440" y="54468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853080" y="50864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85416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78216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7083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261080" y="4365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72724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72688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7261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797800" y="5446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797800" y="508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ystème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88080" y="177336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ur 32 bits MIPS R3000 simplifié + mémoire d’instructions et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572000" y="2852640"/>
            <a:ext cx="1440000" cy="3313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 de Mo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738440"/>
            <a:ext cx="691200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238608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238608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238608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382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19640" y="382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71636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13640" y="6438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8340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303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80360" y="3825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435640" y="2169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4920" y="21700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4920" y="21700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0" y="458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0160" y="3610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8292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720" y="6491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4920" y="50515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71640" y="50515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7440" y="573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3 SC_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tandard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tual Component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jà obsolète, mais les principes restent simultanément simples et puiss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mplacé par OCP (VCI/O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VCI/OCP en CABA: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ntérêt des auto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187280" y="1268280"/>
            <a:ext cx="208944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156360" y="1268280"/>
            <a:ext cx="230328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3276720" y="1846440"/>
            <a:ext cx="2879640" cy="337320"/>
            <a:chOff x="3276720" y="1846440"/>
            <a:chExt cx="2879640" cy="337320"/>
          </a:xfrm>
        </p:grpSpPr>
        <p:sp>
          <p:nvSpPr>
            <p:cNvPr id="1242" name=""/>
            <p:cNvSpPr/>
            <p:nvPr/>
          </p:nvSpPr>
          <p:spPr>
            <a:xfrm>
              <a:off x="3276720" y="213372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203000" y="18464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3276360" y="2708280"/>
            <a:ext cx="2879640" cy="337320"/>
            <a:chOff x="3276360" y="2708280"/>
            <a:chExt cx="2879640" cy="337320"/>
          </a:xfrm>
        </p:grpSpPr>
        <p:sp>
          <p:nvSpPr>
            <p:cNvPr id="1245" name=""/>
            <p:cNvSpPr/>
            <p:nvPr/>
          </p:nvSpPr>
          <p:spPr>
            <a:xfrm flipH="1">
              <a:off x="3276360" y="270828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03000" y="270828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3276720" y="2205000"/>
            <a:ext cx="2879640" cy="337320"/>
            <a:chOff x="3276720" y="2205000"/>
            <a:chExt cx="2879640" cy="337320"/>
          </a:xfrm>
        </p:grpSpPr>
        <p:sp>
          <p:nvSpPr>
            <p:cNvPr id="1248" name=""/>
            <p:cNvSpPr/>
            <p:nvPr/>
          </p:nvSpPr>
          <p:spPr>
            <a:xfrm>
              <a:off x="3276720" y="249228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357800" y="22050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3276720" y="3141720"/>
            <a:ext cx="2879640" cy="337320"/>
            <a:chOff x="3276720" y="3141720"/>
            <a:chExt cx="2879640" cy="337320"/>
          </a:xfrm>
        </p:grpSpPr>
        <p:sp>
          <p:nvSpPr>
            <p:cNvPr id="1251" name=""/>
            <p:cNvSpPr/>
            <p:nvPr/>
          </p:nvSpPr>
          <p:spPr>
            <a:xfrm>
              <a:off x="327672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202280" y="314172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3276360" y="4003560"/>
            <a:ext cx="2879640" cy="339120"/>
            <a:chOff x="3276360" y="4003560"/>
            <a:chExt cx="2879640" cy="339120"/>
          </a:xfrm>
        </p:grpSpPr>
        <p:sp>
          <p:nvSpPr>
            <p:cNvPr id="1254" name=""/>
            <p:cNvSpPr/>
            <p:nvPr/>
          </p:nvSpPr>
          <p:spPr>
            <a:xfrm flipH="1">
              <a:off x="3276360" y="400356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213080" y="400536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3276720" y="3500280"/>
            <a:ext cx="2879640" cy="337320"/>
            <a:chOff x="3276720" y="3500280"/>
            <a:chExt cx="2879640" cy="337320"/>
          </a:xfrm>
        </p:grpSpPr>
        <p:sp>
          <p:nvSpPr>
            <p:cNvPr id="1257" name=""/>
            <p:cNvSpPr/>
            <p:nvPr/>
          </p:nvSpPr>
          <p:spPr>
            <a:xfrm>
              <a:off x="3276720" y="378792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56720" y="35002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948360" y="3141720"/>
            <a:ext cx="936720" cy="953280"/>
            <a:chOff x="6948360" y="3141720"/>
            <a:chExt cx="936720" cy="953280"/>
          </a:xfrm>
        </p:grpSpPr>
        <p:sp>
          <p:nvSpPr>
            <p:cNvPr id="1260" name=""/>
            <p:cNvSpPr/>
            <p:nvPr/>
          </p:nvSpPr>
          <p:spPr>
            <a:xfrm>
              <a:off x="7308720" y="314172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669080" y="3646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48360" y="3646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3" name=""/>
            <p:cNvCxnSpPr>
              <a:stCxn id="1260" idx="6"/>
              <a:endCxn id="1261" idx="0"/>
            </p:cNvCxnSpPr>
            <p:nvPr/>
          </p:nvCxnSpPr>
          <p:spPr>
            <a:xfrm>
              <a:off x="7538760" y="3249720"/>
              <a:ext cx="23904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4" name=""/>
            <p:cNvCxnSpPr>
              <a:stCxn id="1261" idx="4"/>
              <a:endCxn id="1262" idx="5"/>
            </p:cNvCxnSpPr>
            <p:nvPr/>
          </p:nvCxnSpPr>
          <p:spPr>
            <a:xfrm flipV="1" rot="16200000">
              <a:off x="7438320" y="353772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5" name=""/>
            <p:cNvCxnSpPr>
              <a:stCxn id="1262" idx="0"/>
              <a:endCxn id="1260" idx="2"/>
            </p:cNvCxnSpPr>
            <p:nvPr/>
          </p:nvCxnSpPr>
          <p:spPr>
            <a:xfrm flipH="1" flipV="1" rot="5400000">
              <a:off x="6983640" y="3321360"/>
              <a:ext cx="383040" cy="2386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6" name=""/>
          <p:cNvGrpSpPr/>
          <p:nvPr/>
        </p:nvGrpSpPr>
        <p:grpSpPr>
          <a:xfrm>
            <a:off x="1908000" y="3141720"/>
            <a:ext cx="936360" cy="953280"/>
            <a:chOff x="1908000" y="3141720"/>
            <a:chExt cx="936360" cy="953280"/>
          </a:xfrm>
        </p:grpSpPr>
        <p:sp>
          <p:nvSpPr>
            <p:cNvPr id="1267" name=""/>
            <p:cNvSpPr/>
            <p:nvPr/>
          </p:nvSpPr>
          <p:spPr>
            <a:xfrm>
              <a:off x="2268360" y="3141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628720" y="36464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908000" y="36464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0" name=""/>
            <p:cNvCxnSpPr>
              <a:stCxn id="1267" idx="6"/>
              <a:endCxn id="1268" idx="0"/>
            </p:cNvCxnSpPr>
            <p:nvPr/>
          </p:nvCxnSpPr>
          <p:spPr>
            <a:xfrm>
              <a:off x="2498040" y="324972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1" name=""/>
            <p:cNvCxnSpPr>
              <a:stCxn id="1268" idx="4"/>
              <a:endCxn id="1269" idx="5"/>
            </p:cNvCxnSpPr>
            <p:nvPr/>
          </p:nvCxnSpPr>
          <p:spPr>
            <a:xfrm flipV="1" rot="16200000">
              <a:off x="2397600" y="353772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2" name=""/>
            <p:cNvCxnSpPr>
              <a:stCxn id="1269" idx="0"/>
              <a:endCxn id="1267" idx="2"/>
            </p:cNvCxnSpPr>
            <p:nvPr/>
          </p:nvCxnSpPr>
          <p:spPr>
            <a:xfrm flipH="1" flipV="1" rot="5400000">
              <a:off x="1943280" y="332136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73" name=""/>
          <p:cNvSpPr/>
          <p:nvPr/>
        </p:nvSpPr>
        <p:spPr>
          <a:xfrm>
            <a:off x="3060720" y="1916280"/>
            <a:ext cx="216000" cy="237636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56360" y="1916280"/>
            <a:ext cx="216000" cy="237636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utomates de VCI en CA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258920" y="148428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258920" y="3068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763640" y="241920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"/>
          <p:cNvCxnSpPr>
            <a:stCxn id="1277" idx="5"/>
            <a:endCxn id="1277" idx="6"/>
          </p:cNvCxnSpPr>
          <p:nvPr/>
        </p:nvCxnSpPr>
        <p:spPr>
          <a:xfrm flipH="1" flipV="1" rot="5400000">
            <a:off x="2027160" y="362844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0" name=""/>
          <p:cNvSpPr/>
          <p:nvPr/>
        </p:nvSpPr>
        <p:spPr>
          <a:xfrm>
            <a:off x="330120" y="3716280"/>
            <a:ext cx="1123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42160" y="306864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258920" y="515772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763640" y="400356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4" name=""/>
          <p:cNvCxnSpPr>
            <a:stCxn id="1282" idx="5"/>
            <a:endCxn id="1282" idx="6"/>
          </p:cNvCxnSpPr>
          <p:nvPr/>
        </p:nvCxnSpPr>
        <p:spPr>
          <a:xfrm flipH="1" flipV="1" rot="5400000">
            <a:off x="2026800" y="5717880"/>
            <a:ext cx="332640" cy="148320"/>
          </a:xfrm>
          <a:prstGeom prst="curvedConnector5">
            <a:avLst>
              <a:gd name="adj1" fmla="val -109967"/>
              <a:gd name="adj2" fmla="val 229440"/>
              <a:gd name="adj3" fmla="val -10996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5" name=""/>
          <p:cNvSpPr/>
          <p:nvPr/>
        </p:nvSpPr>
        <p:spPr>
          <a:xfrm>
            <a:off x="330840" y="5805360"/>
            <a:ext cx="1114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341440" y="51577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13080" y="421956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763640" y="609300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12720" y="630864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763640" y="479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549440" y="4437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084720" y="314172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"/>
          <p:cNvCxnSpPr>
            <a:stCxn id="1292" idx="5"/>
            <a:endCxn id="1292" idx="6"/>
          </p:cNvCxnSpPr>
          <p:nvPr/>
        </p:nvCxnSpPr>
        <p:spPr>
          <a:xfrm flipH="1" flipV="1" rot="5400000">
            <a:off x="6853320" y="370152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4" name=""/>
          <p:cNvSpPr/>
          <p:nvPr/>
        </p:nvSpPr>
        <p:spPr>
          <a:xfrm>
            <a:off x="5156640" y="3789360"/>
            <a:ext cx="1153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167240" y="31417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589800" y="407664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438520" y="4292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37560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364000" y="501336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0" name=""/>
          <p:cNvCxnSpPr>
            <a:stCxn id="1299" idx="5"/>
            <a:endCxn id="1299" idx="6"/>
          </p:cNvCxnSpPr>
          <p:nvPr/>
        </p:nvCxnSpPr>
        <p:spPr>
          <a:xfrm flipH="1" flipV="1" rot="5400000">
            <a:off x="6132600" y="557316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1" name=""/>
          <p:cNvSpPr/>
          <p:nvPr/>
        </p:nvSpPr>
        <p:spPr>
          <a:xfrm>
            <a:off x="4435920" y="5661000"/>
            <a:ext cx="1153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06160" y="602136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869080" y="5948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718520" y="616428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4211280" y="659772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4211640" y="2565000"/>
            <a:ext cx="0" cy="40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4211280" y="256536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58800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6156000" y="4869000"/>
            <a:ext cx="14436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ensibilité des automates (1)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tructure des modèles CABA de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4282920" y="30700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4282920" y="2565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6227640" y="30700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6227640" y="2565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282920" y="256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219640" y="2565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219640" y="3573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346560" y="35733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227640" y="256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4282920" y="3860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5219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979800" y="5537160"/>
            <a:ext cx="50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l de la SC_METHOD fonction de tran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auto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718880" y="472428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l de la SC_METHOD foncti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 des sorties 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4160" y="3860640"/>
            <a:ext cx="37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écu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tes les SC_METHOD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54520" y="4797360"/>
            <a:ext cx="38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écu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es les SC_METHOD gen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19564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195640" y="3429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195640" y="551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79280" y="342900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79280" y="342900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79280" y="62373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13760" y="6308640"/>
            <a:ext cx="36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 de simulation « canonique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2 SC_METHOD d’un composant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ition(valeurs courantes des registres, entré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sensible au front montant de l’horloge calcule la prochaine valeur des regist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Moore(valeurs courantes des registr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sensible au front descendant de l’horloge, calcule les valeurs des sor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Mealy(valeurs courantes des registres, entré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1 à N fonctions), sensible au front descendant et à certaines entrées, calcule les valeurs des sorties de Mea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bilité des automat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226836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226836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421308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21308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26836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20508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20508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332000" y="263700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15636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615636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21164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14836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14836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810108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810108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15636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09308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09308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810108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87840" y="330516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F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340000" y="3284640"/>
            <a:ext cx="1942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4284720" y="3284640"/>
            <a:ext cx="1942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REQ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227640" y="3284640"/>
            <a:ext cx="194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RSP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203640" y="3789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VAL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148360" y="3789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09440" y="378936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94040" y="503388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F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40000" y="5084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284720" y="5084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227640" y="508464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20364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14836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15640" y="55180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09308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518520" y="649116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t d’un mot 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15636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10108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421164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26836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ne Simulation SocLib CABA, c’es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ensemble d’automates synchrones communic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2986200" y="3429000"/>
            <a:ext cx="936360" cy="953280"/>
            <a:chOff x="2986200" y="3429000"/>
            <a:chExt cx="936360" cy="953280"/>
          </a:xfrm>
        </p:grpSpPr>
        <p:sp>
          <p:nvSpPr>
            <p:cNvPr id="1378" name=""/>
            <p:cNvSpPr/>
            <p:nvPr/>
          </p:nvSpPr>
          <p:spPr>
            <a:xfrm>
              <a:off x="334656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70692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8620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1" name=""/>
            <p:cNvCxnSpPr>
              <a:stCxn id="1378" idx="6"/>
              <a:endCxn id="1379" idx="0"/>
            </p:cNvCxnSpPr>
            <p:nvPr/>
          </p:nvCxnSpPr>
          <p:spPr>
            <a:xfrm>
              <a:off x="357624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2" name=""/>
            <p:cNvCxnSpPr>
              <a:stCxn id="1379" idx="4"/>
              <a:endCxn id="1380" idx="5"/>
            </p:cNvCxnSpPr>
            <p:nvPr/>
          </p:nvCxnSpPr>
          <p:spPr>
            <a:xfrm flipV="1" rot="16200000">
              <a:off x="347580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3" name=""/>
            <p:cNvCxnSpPr>
              <a:stCxn id="1380" idx="0"/>
              <a:endCxn id="1378" idx="2"/>
            </p:cNvCxnSpPr>
            <p:nvPr/>
          </p:nvCxnSpPr>
          <p:spPr>
            <a:xfrm flipH="1" flipV="1" rot="5400000">
              <a:off x="302148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84" name=""/>
          <p:cNvGrpSpPr/>
          <p:nvPr/>
        </p:nvGrpSpPr>
        <p:grpSpPr>
          <a:xfrm>
            <a:off x="4211640" y="3429000"/>
            <a:ext cx="936360" cy="953280"/>
            <a:chOff x="4211640" y="3429000"/>
            <a:chExt cx="936360" cy="953280"/>
          </a:xfrm>
        </p:grpSpPr>
        <p:sp>
          <p:nvSpPr>
            <p:cNvPr id="1385" name=""/>
            <p:cNvSpPr/>
            <p:nvPr/>
          </p:nvSpPr>
          <p:spPr>
            <a:xfrm>
              <a:off x="457200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93236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1164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8" name=""/>
            <p:cNvCxnSpPr>
              <a:stCxn id="1385" idx="6"/>
              <a:endCxn id="1386" idx="0"/>
            </p:cNvCxnSpPr>
            <p:nvPr/>
          </p:nvCxnSpPr>
          <p:spPr>
            <a:xfrm>
              <a:off x="480168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9" name=""/>
            <p:cNvCxnSpPr>
              <a:stCxn id="1386" idx="4"/>
              <a:endCxn id="1387" idx="5"/>
            </p:cNvCxnSpPr>
            <p:nvPr/>
          </p:nvCxnSpPr>
          <p:spPr>
            <a:xfrm flipV="1" rot="16200000">
              <a:off x="470124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0" name=""/>
            <p:cNvCxnSpPr>
              <a:stCxn id="1387" idx="0"/>
              <a:endCxn id="1385" idx="2"/>
            </p:cNvCxnSpPr>
            <p:nvPr/>
          </p:nvCxnSpPr>
          <p:spPr>
            <a:xfrm flipH="1" flipV="1" rot="5400000">
              <a:off x="424692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1" name=""/>
          <p:cNvGrpSpPr/>
          <p:nvPr/>
        </p:nvGrpSpPr>
        <p:grpSpPr>
          <a:xfrm>
            <a:off x="5435640" y="3429000"/>
            <a:ext cx="936360" cy="953280"/>
            <a:chOff x="5435640" y="3429000"/>
            <a:chExt cx="936360" cy="953280"/>
          </a:xfrm>
        </p:grpSpPr>
        <p:sp>
          <p:nvSpPr>
            <p:cNvPr id="1392" name=""/>
            <p:cNvSpPr/>
            <p:nvPr/>
          </p:nvSpPr>
          <p:spPr>
            <a:xfrm>
              <a:off x="579600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15636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43564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5" name=""/>
            <p:cNvCxnSpPr>
              <a:stCxn id="1392" idx="6"/>
              <a:endCxn id="1393" idx="0"/>
            </p:cNvCxnSpPr>
            <p:nvPr/>
          </p:nvCxnSpPr>
          <p:spPr>
            <a:xfrm>
              <a:off x="602568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6" name=""/>
            <p:cNvCxnSpPr>
              <a:stCxn id="1393" idx="4"/>
              <a:endCxn id="1394" idx="5"/>
            </p:cNvCxnSpPr>
            <p:nvPr/>
          </p:nvCxnSpPr>
          <p:spPr>
            <a:xfrm flipV="1" rot="16200000">
              <a:off x="592524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7" name=""/>
            <p:cNvCxnSpPr>
              <a:stCxn id="1394" idx="0"/>
              <a:endCxn id="1392" idx="2"/>
            </p:cNvCxnSpPr>
            <p:nvPr/>
          </p:nvCxnSpPr>
          <p:spPr>
            <a:xfrm flipH="1" flipV="1" rot="5400000">
              <a:off x="547092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8" name=""/>
          <p:cNvGrpSpPr/>
          <p:nvPr/>
        </p:nvGrpSpPr>
        <p:grpSpPr>
          <a:xfrm>
            <a:off x="2195640" y="5013360"/>
            <a:ext cx="936360" cy="953280"/>
            <a:chOff x="2195640" y="5013360"/>
            <a:chExt cx="936360" cy="953280"/>
          </a:xfrm>
        </p:grpSpPr>
        <p:sp>
          <p:nvSpPr>
            <p:cNvPr id="1399" name=""/>
            <p:cNvSpPr/>
            <p:nvPr/>
          </p:nvSpPr>
          <p:spPr>
            <a:xfrm>
              <a:off x="2556000" y="5013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916360" y="551808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195640" y="551808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2" name=""/>
            <p:cNvCxnSpPr>
              <a:stCxn id="1399" idx="6"/>
              <a:endCxn id="1400" idx="0"/>
            </p:cNvCxnSpPr>
            <p:nvPr/>
          </p:nvCxnSpPr>
          <p:spPr>
            <a:xfrm>
              <a:off x="2785680" y="512136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3" name=""/>
            <p:cNvCxnSpPr>
              <a:stCxn id="1400" idx="4"/>
              <a:endCxn id="1401" idx="5"/>
            </p:cNvCxnSpPr>
            <p:nvPr/>
          </p:nvCxnSpPr>
          <p:spPr>
            <a:xfrm flipV="1" rot="16200000">
              <a:off x="2685240" y="540936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4" name=""/>
            <p:cNvCxnSpPr>
              <a:stCxn id="1401" idx="0"/>
              <a:endCxn id="1399" idx="2"/>
            </p:cNvCxnSpPr>
            <p:nvPr/>
          </p:nvCxnSpPr>
          <p:spPr>
            <a:xfrm flipH="1" flipV="1" rot="5400000">
              <a:off x="2230920" y="519300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05" name=""/>
          <p:cNvGrpSpPr/>
          <p:nvPr/>
        </p:nvGrpSpPr>
        <p:grpSpPr>
          <a:xfrm>
            <a:off x="3708360" y="5084640"/>
            <a:ext cx="936360" cy="953280"/>
            <a:chOff x="3708360" y="5084640"/>
            <a:chExt cx="936360" cy="953280"/>
          </a:xfrm>
        </p:grpSpPr>
        <p:sp>
          <p:nvSpPr>
            <p:cNvPr id="1406" name=""/>
            <p:cNvSpPr/>
            <p:nvPr/>
          </p:nvSpPr>
          <p:spPr>
            <a:xfrm>
              <a:off x="4068720" y="50846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2908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70836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9" name=""/>
            <p:cNvCxnSpPr>
              <a:stCxn id="1406" idx="6"/>
              <a:endCxn id="1407" idx="0"/>
            </p:cNvCxnSpPr>
            <p:nvPr/>
          </p:nvCxnSpPr>
          <p:spPr>
            <a:xfrm>
              <a:off x="4298400" y="519264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0" name=""/>
            <p:cNvCxnSpPr>
              <a:stCxn id="1407" idx="4"/>
              <a:endCxn id="1408" idx="5"/>
            </p:cNvCxnSpPr>
            <p:nvPr/>
          </p:nvCxnSpPr>
          <p:spPr>
            <a:xfrm flipV="1" rot="16200000">
              <a:off x="4197960" y="548064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1" name=""/>
            <p:cNvCxnSpPr>
              <a:stCxn id="1408" idx="0"/>
              <a:endCxn id="1406" idx="2"/>
            </p:cNvCxnSpPr>
            <p:nvPr/>
          </p:nvCxnSpPr>
          <p:spPr>
            <a:xfrm flipH="1" flipV="1" rot="5400000">
              <a:off x="3743640" y="526428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12" name=""/>
          <p:cNvGrpSpPr/>
          <p:nvPr/>
        </p:nvGrpSpPr>
        <p:grpSpPr>
          <a:xfrm>
            <a:off x="5148360" y="5084640"/>
            <a:ext cx="936360" cy="953280"/>
            <a:chOff x="5148360" y="5084640"/>
            <a:chExt cx="936360" cy="953280"/>
          </a:xfrm>
        </p:grpSpPr>
        <p:sp>
          <p:nvSpPr>
            <p:cNvPr id="1413" name=""/>
            <p:cNvSpPr/>
            <p:nvPr/>
          </p:nvSpPr>
          <p:spPr>
            <a:xfrm>
              <a:off x="5508720" y="50846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6908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4836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6" name=""/>
            <p:cNvCxnSpPr>
              <a:stCxn id="1413" idx="6"/>
              <a:endCxn id="1414" idx="0"/>
            </p:cNvCxnSpPr>
            <p:nvPr/>
          </p:nvCxnSpPr>
          <p:spPr>
            <a:xfrm>
              <a:off x="5738400" y="519264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7" name=""/>
            <p:cNvCxnSpPr>
              <a:stCxn id="1414" idx="4"/>
              <a:endCxn id="1415" idx="5"/>
            </p:cNvCxnSpPr>
            <p:nvPr/>
          </p:nvCxnSpPr>
          <p:spPr>
            <a:xfrm flipV="1" rot="16200000">
              <a:off x="5637960" y="548064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8" name=""/>
            <p:cNvCxnSpPr>
              <a:stCxn id="1415" idx="0"/>
              <a:endCxn id="1413" idx="2"/>
            </p:cNvCxnSpPr>
            <p:nvPr/>
          </p:nvCxnSpPr>
          <p:spPr>
            <a:xfrm flipH="1" flipV="1" rot="5400000">
              <a:off x="5183640" y="526428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hamps dans CM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332440" y="292572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_size = 4 * 8 = 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335320" y="3284640"/>
            <a:ext cx="18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len_size = 64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334960" y="3645000"/>
            <a:ext cx="16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r_size = 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336400" y="400536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2336040" y="436572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len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2334960" y="472608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rcid_size = 8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335680" y="508644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ktid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335680" y="54468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did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337840" y="22050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p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855680" y="2925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 size fo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852440" y="3284640"/>
            <a:ext cx="24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ximum packet length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4857120" y="364500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res s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858200" y="40053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or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856040" y="43657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iguous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4856040" y="472608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855680" y="508644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cket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856400" y="544680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read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856040" y="220500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d of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" descr=""/>
          <p:cNvPicPr/>
          <p:nvPr/>
        </p:nvPicPr>
        <p:blipFill>
          <a:blip r:embed="rId1"/>
          <a:stretch/>
        </p:blipFill>
        <p:spPr>
          <a:xfrm>
            <a:off x="100080" y="1552680"/>
            <a:ext cx="6353280" cy="269532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CASS: simulateur CAB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m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" descr=""/>
          <p:cNvPicPr/>
          <p:nvPr/>
        </p:nvPicPr>
        <p:blipFill>
          <a:blip r:embed="rId2"/>
          <a:stretch/>
        </p:blipFill>
        <p:spPr>
          <a:xfrm>
            <a:off x="7164360" y="260280"/>
            <a:ext cx="1628640" cy="3963960"/>
          </a:xfrm>
          <a:prstGeom prst="rect">
            <a:avLst/>
          </a:prstGeom>
          <a:ln w="0">
            <a:noFill/>
          </a:ln>
        </p:spPr>
      </p:pic>
      <p:sp>
        <p:nvSpPr>
          <p:cNvPr id="1441" name=""/>
          <p:cNvSpPr/>
          <p:nvPr/>
        </p:nvSpPr>
        <p:spPr>
          <a:xfrm>
            <a:off x="2465280" y="5445000"/>
            <a:ext cx="1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337000" y="4976640"/>
            <a:ext cx="17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25360" y="4419720"/>
            <a:ext cx="8747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ion du graphe dual de l’architecture (états=signaux, composants=trans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donnancement stati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) Processus de type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) Processus de type Génération 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3) Processus de type Génération de Mealy dans l'ordre défini p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 graphe de dépendance combinatoire entre sig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751360" y="2736720"/>
            <a:ext cx="1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267000" y="4094280"/>
            <a:ext cx="180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821280" y="2979720"/>
            <a:ext cx="157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fndef SOCLIB_VCI_SIMPLEINITIATOR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OCLIB_VCI_SIMPLEINITIATOR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c_register sc_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DD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ELL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RC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RD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LIB_VCI_SIMPLEINITIATOR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_VCI_INITIATOR&lt;ADDRSIZE, CELLSIZE, ERRSIZE, PLENSIZE, CLENSIZE, SRCIDSIZE, TRDIDSIZE, PKTIDSIZE&gt; VCI_INITIATOR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HAS_PROCESS (SOCLIB_VCI_SIMPLEINITIA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50920" y="1413000"/>
            <a:ext cx="8569080" cy="1944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50920" y="4365720"/>
            <a:ext cx="8569080" cy="431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50920" y="5013360"/>
            <a:ext cx="8569080" cy="431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ddr; sc_out&lt;sc_uint&lt;32&gt; &gt; d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in; sc_in&lt;sc_uint&lt;2&gt; &gt; memrw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amContents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a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 &lt;&lt; memr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0]=0x2001008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1]=0x8C220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2]=0x8C23000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2]=0x00000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3]=0x00000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out.write(ramContents[addr.read()&gt;&gt;2]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addr.read()&gt;&gt;2]=din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initiator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IDLE  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REQ_WRITE  =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RSP_WRITE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_VCI_SIMPLEINITIATOR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_name insname // nom de l'inst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(char*) strdup(ins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AME =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OCLIB_VCI_SIMPLEINITIATOR instanciated with name %s\n",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50920" y="3716280"/>
            <a:ext cx="8569080" cy="936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50920" y="1557360"/>
            <a:ext cx="8569080" cy="1150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ransi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RESETN == fals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ID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INITIATOR_FS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ID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REQ_WRIT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EQ_WRI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INITIATOR.CMDACK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RSP_WRIT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SP_WRI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INITIATOR.RSPVAL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REG1 +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50920" y="1197000"/>
            <a:ext cx="8569080" cy="863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50920" y="2492280"/>
            <a:ext cx="8569080" cy="381636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INITIATOR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EQ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ADDRESS = 0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WDATA = (sc_uint&lt;32&gt;)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 = VCI_CMD_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EOP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BE = 0x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PLEN = 1 &lt;&lt;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SP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50920" y="1628640"/>
            <a:ext cx="8569080" cy="863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50920" y="2492280"/>
            <a:ext cx="8569080" cy="208908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4581360"/>
            <a:ext cx="8569080" cy="86364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DD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ELL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RC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RD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LIB_VCI_SIMPLETARGET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_VCI_TARGET&lt;ADDRSIZE, CELLSIZE, ERRSIZE, PLENSIZE, CLENSIZE, SRCIDSIZE, TRDIDSIZE, PKTIDSIZE &gt; VCI_TAR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HAS_PROCESS (SOCLIB_VCI_SIMPLETARG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50920" y="1197000"/>
            <a:ext cx="8569080" cy="1944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250920" y="4221000"/>
            <a:ext cx="8569080" cy="43200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50920" y="5013360"/>
            <a:ext cx="8569080" cy="431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IDLE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RSP      =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EOP    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_VCI_SIMPLETARGET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_name insnam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(char*) strdup(ins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AME =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OCLIB_VCI_SIMPLETARGET instanciated with name %s\n",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24000" y="1268280"/>
            <a:ext cx="8569080" cy="1150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24000" y="3141720"/>
            <a:ext cx="8569080" cy="934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target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ransi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TARGET_FS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ID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CMDVAL == tru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EOP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RS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(VCI_TARGET.CMD.read() =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CMD_WRITE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(VCI_TARGET.ADDRESS.read() &amp; 0xC) 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_ADR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c_uint&lt;32&gt;)VCI_TARGET.WDAT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RSP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RSPACK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EOP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RSPACK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24000" y="1557360"/>
            <a:ext cx="8569080" cy="295128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24000" y="4508640"/>
            <a:ext cx="8569080" cy="863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24000" y="5373720"/>
            <a:ext cx="8569080" cy="86364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TARGET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RS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OP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EO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OP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24000" y="2421000"/>
            <a:ext cx="8569080" cy="936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24000" y="4797360"/>
            <a:ext cx="8569080" cy="151128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24000" y="3357720"/>
            <a:ext cx="8569080" cy="1439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261440" y="4365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 MINIMIPS avec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932360" y="458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4920" y="186516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S = Instruction Set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 du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wiki/cou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main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ystem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ilink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084720" y="3141720"/>
            <a:ext cx="288144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723780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36400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536400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692360" y="2924280"/>
            <a:ext cx="698508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/OCP 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1692360" y="1052640"/>
            <a:ext cx="1584360" cy="1871640"/>
            <a:chOff x="1692360" y="1052640"/>
            <a:chExt cx="1584360" cy="1871640"/>
          </a:xfrm>
        </p:grpSpPr>
        <p:sp>
          <p:nvSpPr>
            <p:cNvPr id="1523" name=""/>
            <p:cNvSpPr/>
            <p:nvPr/>
          </p:nvSpPr>
          <p:spPr>
            <a:xfrm>
              <a:off x="248436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692360" y="1628640"/>
              <a:ext cx="1584360" cy="649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69236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1692360" y="3716280"/>
            <a:ext cx="1584360" cy="1513080"/>
            <a:chOff x="1692360" y="3716280"/>
            <a:chExt cx="1584360" cy="1513080"/>
          </a:xfrm>
        </p:grpSpPr>
        <p:sp>
          <p:nvSpPr>
            <p:cNvPr id="1527" name=""/>
            <p:cNvSpPr/>
            <p:nvPr/>
          </p:nvSpPr>
          <p:spPr>
            <a:xfrm>
              <a:off x="248436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92360" y="4365720"/>
              <a:ext cx="1584360" cy="863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3492360" y="3716280"/>
            <a:ext cx="1584360" cy="2378160"/>
            <a:chOff x="3492360" y="3716280"/>
            <a:chExt cx="1584360" cy="2378160"/>
          </a:xfrm>
        </p:grpSpPr>
        <p:sp>
          <p:nvSpPr>
            <p:cNvPr id="1530" name=""/>
            <p:cNvSpPr/>
            <p:nvPr/>
          </p:nvSpPr>
          <p:spPr>
            <a:xfrm>
              <a:off x="3492360" y="4365720"/>
              <a:ext cx="1584360" cy="1728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28472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1330200" y="765000"/>
            <a:ext cx="505080" cy="3743640"/>
            <a:chOff x="1330200" y="765000"/>
            <a:chExt cx="505080" cy="3743640"/>
          </a:xfrm>
        </p:grpSpPr>
        <p:sp>
          <p:nvSpPr>
            <p:cNvPr id="1533" name=""/>
            <p:cNvSpPr/>
            <p:nvPr/>
          </p:nvSpPr>
          <p:spPr>
            <a:xfrm>
              <a:off x="18352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1332000" y="76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330200" y="765000"/>
              <a:ext cx="1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133164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1258560" y="692280"/>
            <a:ext cx="2376720" cy="3889080"/>
            <a:chOff x="1258560" y="692280"/>
            <a:chExt cx="2376720" cy="3889080"/>
          </a:xfrm>
        </p:grpSpPr>
        <p:sp>
          <p:nvSpPr>
            <p:cNvPr id="1538" name=""/>
            <p:cNvSpPr/>
            <p:nvPr/>
          </p:nvSpPr>
          <p:spPr>
            <a:xfrm>
              <a:off x="3635280" y="692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1258560" y="692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258920" y="692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1258920" y="4581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1186920" y="620640"/>
            <a:ext cx="4248720" cy="4032360"/>
            <a:chOff x="1186920" y="620640"/>
            <a:chExt cx="4248720" cy="4032360"/>
          </a:xfrm>
        </p:grpSpPr>
        <p:sp>
          <p:nvSpPr>
            <p:cNvPr id="1543" name=""/>
            <p:cNvSpPr/>
            <p:nvPr/>
          </p:nvSpPr>
          <p:spPr>
            <a:xfrm>
              <a:off x="5435640" y="62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1186920" y="62064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187280" y="62064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118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1115640" y="549360"/>
            <a:ext cx="6120360" cy="4174920"/>
            <a:chOff x="1115640" y="549360"/>
            <a:chExt cx="6120360" cy="4174920"/>
          </a:xfrm>
        </p:grpSpPr>
        <p:sp>
          <p:nvSpPr>
            <p:cNvPr id="1548" name=""/>
            <p:cNvSpPr/>
            <p:nvPr/>
          </p:nvSpPr>
          <p:spPr>
            <a:xfrm>
              <a:off x="7236000" y="54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1116000" y="54936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116000" y="549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111564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3492360" y="1052640"/>
            <a:ext cx="1584360" cy="1871640"/>
            <a:chOff x="3492360" y="1052640"/>
            <a:chExt cx="1584360" cy="1871640"/>
          </a:xfrm>
        </p:grpSpPr>
        <p:sp>
          <p:nvSpPr>
            <p:cNvPr id="1553" name=""/>
            <p:cNvSpPr/>
            <p:nvPr/>
          </p:nvSpPr>
          <p:spPr>
            <a:xfrm>
              <a:off x="428472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492360" y="1628640"/>
              <a:ext cx="1584360" cy="649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49236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5292720" y="1052640"/>
            <a:ext cx="1584360" cy="1871640"/>
            <a:chOff x="5292720" y="1052640"/>
            <a:chExt cx="1584360" cy="1871640"/>
          </a:xfrm>
        </p:grpSpPr>
        <p:sp>
          <p:nvSpPr>
            <p:cNvPr id="1557" name=""/>
            <p:cNvSpPr/>
            <p:nvPr/>
          </p:nvSpPr>
          <p:spPr>
            <a:xfrm>
              <a:off x="608472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292720" y="1628640"/>
              <a:ext cx="1584360" cy="649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29272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093080" y="1052640"/>
            <a:ext cx="1584360" cy="1871640"/>
            <a:chOff x="7093080" y="1052640"/>
            <a:chExt cx="1584360" cy="1871640"/>
          </a:xfrm>
        </p:grpSpPr>
        <p:sp>
          <p:nvSpPr>
            <p:cNvPr id="1561" name=""/>
            <p:cNvSpPr/>
            <p:nvPr/>
          </p:nvSpPr>
          <p:spPr>
            <a:xfrm>
              <a:off x="788508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93080" y="1628640"/>
              <a:ext cx="1584360" cy="649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9308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5292720" y="3716280"/>
            <a:ext cx="3497400" cy="2610000"/>
            <a:chOff x="5292720" y="3716280"/>
            <a:chExt cx="3497400" cy="2610000"/>
          </a:xfrm>
        </p:grpSpPr>
        <p:sp>
          <p:nvSpPr>
            <p:cNvPr id="1565" name=""/>
            <p:cNvSpPr/>
            <p:nvPr/>
          </p:nvSpPr>
          <p:spPr>
            <a:xfrm>
              <a:off x="702000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292720" y="4365720"/>
              <a:ext cx="3382920" cy="8636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7" name="" descr=""/>
            <p:cNvPicPr/>
            <p:nvPr/>
          </p:nvPicPr>
          <p:blipFill>
            <a:blip r:embed="rId9"/>
            <a:stretch/>
          </p:blipFill>
          <p:spPr>
            <a:xfrm>
              <a:off x="529272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10"/>
            <a:stretch/>
          </p:blipFill>
          <p:spPr>
            <a:xfrm>
              <a:off x="615636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" descr=""/>
            <p:cNvPicPr/>
            <p:nvPr/>
          </p:nvPicPr>
          <p:blipFill>
            <a:blip r:embed="rId11"/>
            <a:stretch/>
          </p:blipFill>
          <p:spPr>
            <a:xfrm>
              <a:off x="7093080" y="5516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" descr=""/>
            <p:cNvPicPr/>
            <p:nvPr/>
          </p:nvPicPr>
          <p:blipFill>
            <a:blip r:embed="rId12"/>
            <a:stretch/>
          </p:blipFill>
          <p:spPr>
            <a:xfrm>
              <a:off x="802800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1" name=""/>
            <p:cNvSpPr/>
            <p:nvPr/>
          </p:nvSpPr>
          <p:spPr>
            <a:xfrm>
              <a:off x="56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51672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4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31708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3564000" y="443700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/>
          <p:nvPr/>
        </p:nvSpPr>
        <p:spPr>
          <a:xfrm>
            <a:off x="611280" y="1628640"/>
            <a:ext cx="799308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118728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924360" y="162864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147636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1042920" y="692280"/>
            <a:ext cx="246240" cy="936360"/>
            <a:chOff x="1042920" y="692280"/>
            <a:chExt cx="246240" cy="936360"/>
          </a:xfrm>
        </p:grpSpPr>
        <p:sp>
          <p:nvSpPr>
            <p:cNvPr id="1592" name=""/>
            <p:cNvSpPr/>
            <p:nvPr/>
          </p:nvSpPr>
          <p:spPr>
            <a:xfrm>
              <a:off x="12589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rot="16200000">
              <a:off x="87516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1258920" y="5084280"/>
            <a:ext cx="1150920" cy="360720"/>
            <a:chOff x="1258920" y="5084280"/>
            <a:chExt cx="1150920" cy="360720"/>
          </a:xfrm>
        </p:grpSpPr>
        <p:sp>
          <p:nvSpPr>
            <p:cNvPr id="1595" name=""/>
            <p:cNvSpPr/>
            <p:nvPr/>
          </p:nvSpPr>
          <p:spPr>
            <a:xfrm>
              <a:off x="1258920" y="5084640"/>
              <a:ext cx="1150920" cy="360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258920" y="508464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1833480" y="508428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1474560" y="1666800"/>
            <a:ext cx="1800" cy="3417840"/>
            <a:chOff x="1474560" y="1666800"/>
            <a:chExt cx="1800" cy="3417840"/>
          </a:xfrm>
        </p:grpSpPr>
        <p:sp>
          <p:nvSpPr>
            <p:cNvPr id="1599" name=""/>
            <p:cNvSpPr/>
            <p:nvPr/>
          </p:nvSpPr>
          <p:spPr>
            <a:xfrm>
              <a:off x="147492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0" name=""/>
            <p:cNvCxnSpPr>
              <a:stCxn id="1590" idx="0"/>
              <a:endCxn id="1599" idx="0"/>
            </p:cNvCxnSpPr>
            <p:nvPr/>
          </p:nvCxnSpPr>
          <p:spPr>
            <a:xfrm rot="5400000">
              <a:off x="-34920" y="3175920"/>
              <a:ext cx="3020400" cy="2160"/>
            </a:xfrm>
            <a:prstGeom prst="curvedConnector5">
              <a:avLst>
                <a:gd name="adj1" fmla="val 49994"/>
                <a:gd name="adj2" fmla="val 40000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grpSp>
        <p:nvGrpSpPr>
          <p:cNvPr id="1601" name=""/>
          <p:cNvGrpSpPr/>
          <p:nvPr/>
        </p:nvGrpSpPr>
        <p:grpSpPr>
          <a:xfrm>
            <a:off x="2556000" y="5086440"/>
            <a:ext cx="1438200" cy="576000"/>
            <a:chOff x="2556000" y="5086440"/>
            <a:chExt cx="1438200" cy="576000"/>
          </a:xfrm>
        </p:grpSpPr>
        <p:sp>
          <p:nvSpPr>
            <p:cNvPr id="1602" name=""/>
            <p:cNvSpPr/>
            <p:nvPr/>
          </p:nvSpPr>
          <p:spPr>
            <a:xfrm>
              <a:off x="3201840" y="5086440"/>
              <a:ext cx="7923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201840" y="5373720"/>
              <a:ext cx="792360" cy="28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700360" y="5086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56000" y="5373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6" name=""/>
          <p:cNvSpPr/>
          <p:nvPr/>
        </p:nvSpPr>
        <p:spPr>
          <a:xfrm>
            <a:off x="435600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3922560" y="692280"/>
            <a:ext cx="246240" cy="936360"/>
            <a:chOff x="3922560" y="692280"/>
            <a:chExt cx="246240" cy="936360"/>
          </a:xfrm>
        </p:grpSpPr>
        <p:sp>
          <p:nvSpPr>
            <p:cNvPr id="1608" name=""/>
            <p:cNvSpPr/>
            <p:nvPr/>
          </p:nvSpPr>
          <p:spPr>
            <a:xfrm>
              <a:off x="41385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rot="16200000">
              <a:off x="375480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730872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6875640" y="692280"/>
            <a:ext cx="246240" cy="936360"/>
            <a:chOff x="6875640" y="692280"/>
            <a:chExt cx="246240" cy="936360"/>
          </a:xfrm>
        </p:grpSpPr>
        <p:sp>
          <p:nvSpPr>
            <p:cNvPr id="1612" name=""/>
            <p:cNvSpPr/>
            <p:nvPr/>
          </p:nvSpPr>
          <p:spPr>
            <a:xfrm>
              <a:off x="709128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rot="16200000">
              <a:off x="670788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694836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2589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5087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1832760" y="1666800"/>
            <a:ext cx="2522880" cy="3417840"/>
            <a:chOff x="1832760" y="1666800"/>
            <a:chExt cx="2522880" cy="3417840"/>
          </a:xfrm>
        </p:grpSpPr>
        <p:sp>
          <p:nvSpPr>
            <p:cNvPr id="1618" name=""/>
            <p:cNvSpPr/>
            <p:nvPr/>
          </p:nvSpPr>
          <p:spPr>
            <a:xfrm>
              <a:off x="183348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9" name=""/>
            <p:cNvCxnSpPr>
              <a:stCxn id="1606" idx="0"/>
              <a:endCxn id="1618" idx="0"/>
            </p:cNvCxnSpPr>
            <p:nvPr/>
          </p:nvCxnSpPr>
          <p:spPr>
            <a:xfrm rot="5400000">
              <a:off x="1584000" y="1915200"/>
              <a:ext cx="3020400" cy="252324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grpSp>
        <p:nvGrpSpPr>
          <p:cNvPr id="1620" name=""/>
          <p:cNvGrpSpPr/>
          <p:nvPr/>
        </p:nvGrpSpPr>
        <p:grpSpPr>
          <a:xfrm>
            <a:off x="2193480" y="1666800"/>
            <a:ext cx="5115240" cy="3417840"/>
            <a:chOff x="2193480" y="1666800"/>
            <a:chExt cx="5115240" cy="3417840"/>
          </a:xfrm>
        </p:grpSpPr>
        <p:sp>
          <p:nvSpPr>
            <p:cNvPr id="1621" name=""/>
            <p:cNvSpPr/>
            <p:nvPr/>
          </p:nvSpPr>
          <p:spPr>
            <a:xfrm>
              <a:off x="219384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2" name=""/>
            <p:cNvCxnSpPr>
              <a:stCxn id="1610" idx="0"/>
              <a:endCxn id="1621" idx="0"/>
            </p:cNvCxnSpPr>
            <p:nvPr/>
          </p:nvCxnSpPr>
          <p:spPr>
            <a:xfrm rot="5400000">
              <a:off x="3240720" y="619200"/>
              <a:ext cx="3020400" cy="5115600"/>
            </a:xfrm>
            <a:prstGeom prst="curvedConnector5">
              <a:avLst>
                <a:gd name="adj1" fmla="val 49994"/>
                <a:gd name="adj2" fmla="val 49996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sp>
        <p:nvSpPr>
          <p:cNvPr id="1623" name=""/>
          <p:cNvSpPr/>
          <p:nvPr/>
        </p:nvSpPr>
        <p:spPr>
          <a:xfrm>
            <a:off x="1835280" y="5445000"/>
            <a:ext cx="0" cy="107964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1257840" y="1628280"/>
            <a:ext cx="1874160" cy="2521440"/>
            <a:chOff x="1257840" y="1628280"/>
            <a:chExt cx="1874160" cy="2521440"/>
          </a:xfrm>
        </p:grpSpPr>
        <p:sp>
          <p:nvSpPr>
            <p:cNvPr id="1625" name=""/>
            <p:cNvSpPr/>
            <p:nvPr/>
          </p:nvSpPr>
          <p:spPr>
            <a:xfrm>
              <a:off x="313200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6" name=""/>
            <p:cNvCxnSpPr>
              <a:stCxn id="1592" idx="0"/>
              <a:endCxn id="1625" idx="0"/>
            </p:cNvCxnSpPr>
            <p:nvPr/>
          </p:nvCxnSpPr>
          <p:spPr>
            <a:xfrm flipH="1" rot="16200000">
              <a:off x="1042200" y="1843920"/>
              <a:ext cx="2305440" cy="1873800"/>
            </a:xfrm>
            <a:prstGeom prst="curvedConnector5">
              <a:avLst>
                <a:gd name="adj1" fmla="val 58269"/>
                <a:gd name="adj2" fmla="val 50000"/>
                <a:gd name="adj3" fmla="val 58269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27" name=""/>
          <p:cNvGrpSpPr/>
          <p:nvPr/>
        </p:nvGrpSpPr>
        <p:grpSpPr>
          <a:xfrm>
            <a:off x="3491640" y="1628640"/>
            <a:ext cx="646560" cy="2519640"/>
            <a:chOff x="3491640" y="1628640"/>
            <a:chExt cx="646560" cy="2519640"/>
          </a:xfrm>
        </p:grpSpPr>
        <p:sp>
          <p:nvSpPr>
            <p:cNvPr id="1628" name=""/>
            <p:cNvSpPr/>
            <p:nvPr/>
          </p:nvSpPr>
          <p:spPr>
            <a:xfrm>
              <a:off x="349236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9" name=""/>
            <p:cNvCxnSpPr>
              <a:stCxn id="1608" idx="0"/>
              <a:endCxn id="1628" idx="0"/>
            </p:cNvCxnSpPr>
            <p:nvPr/>
          </p:nvCxnSpPr>
          <p:spPr>
            <a:xfrm rot="5400000">
              <a:off x="2698560" y="2421360"/>
              <a:ext cx="2232720" cy="64692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30" name=""/>
          <p:cNvGrpSpPr/>
          <p:nvPr/>
        </p:nvGrpSpPr>
        <p:grpSpPr>
          <a:xfrm>
            <a:off x="3850920" y="1628280"/>
            <a:ext cx="3240360" cy="2521440"/>
            <a:chOff x="3850920" y="1628280"/>
            <a:chExt cx="3240360" cy="2521440"/>
          </a:xfrm>
        </p:grpSpPr>
        <p:sp>
          <p:nvSpPr>
            <p:cNvPr id="1631" name=""/>
            <p:cNvSpPr/>
            <p:nvPr/>
          </p:nvSpPr>
          <p:spPr>
            <a:xfrm>
              <a:off x="385128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2" name=""/>
            <p:cNvCxnSpPr>
              <a:stCxn id="1612" idx="0"/>
              <a:endCxn id="1631" idx="0"/>
            </p:cNvCxnSpPr>
            <p:nvPr/>
          </p:nvCxnSpPr>
          <p:spPr>
            <a:xfrm rot="5400000">
              <a:off x="4318200" y="1160640"/>
              <a:ext cx="2305440" cy="3240720"/>
            </a:xfrm>
            <a:prstGeom prst="curvedConnector5">
              <a:avLst>
                <a:gd name="adj1" fmla="val 49992"/>
                <a:gd name="adj2" fmla="val 49994"/>
                <a:gd name="adj3" fmla="val 4999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33" name=""/>
          <p:cNvGrpSpPr/>
          <p:nvPr/>
        </p:nvGrpSpPr>
        <p:grpSpPr>
          <a:xfrm>
            <a:off x="3132000" y="5734080"/>
            <a:ext cx="246240" cy="719280"/>
            <a:chOff x="3132000" y="5734080"/>
            <a:chExt cx="246240" cy="719280"/>
          </a:xfrm>
        </p:grpSpPr>
        <p:sp>
          <p:nvSpPr>
            <p:cNvPr id="1634" name=""/>
            <p:cNvSpPr/>
            <p:nvPr/>
          </p:nvSpPr>
          <p:spPr>
            <a:xfrm>
              <a:off x="3348000" y="57340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16200000">
              <a:off x="2964240" y="59752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1476360" y="692280"/>
            <a:ext cx="246240" cy="936360"/>
            <a:chOff x="1476360" y="692280"/>
            <a:chExt cx="246240" cy="936360"/>
          </a:xfrm>
        </p:grpSpPr>
        <p:sp>
          <p:nvSpPr>
            <p:cNvPr id="1637" name=""/>
            <p:cNvSpPr/>
            <p:nvPr/>
          </p:nvSpPr>
          <p:spPr>
            <a:xfrm>
              <a:off x="16923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rot="16200000">
              <a:off x="140400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4356000" y="692280"/>
            <a:ext cx="246240" cy="936360"/>
            <a:chOff x="4356000" y="692280"/>
            <a:chExt cx="246240" cy="936360"/>
          </a:xfrm>
        </p:grpSpPr>
        <p:sp>
          <p:nvSpPr>
            <p:cNvPr id="1640" name=""/>
            <p:cNvSpPr/>
            <p:nvPr/>
          </p:nvSpPr>
          <p:spPr>
            <a:xfrm>
              <a:off x="457200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rot="16200000">
              <a:off x="428364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7308720" y="692280"/>
            <a:ext cx="398520" cy="936360"/>
            <a:chOff x="7308720" y="692280"/>
            <a:chExt cx="398520" cy="936360"/>
          </a:xfrm>
        </p:grpSpPr>
        <p:sp>
          <p:nvSpPr>
            <p:cNvPr id="1643" name=""/>
            <p:cNvSpPr/>
            <p:nvPr/>
          </p:nvSpPr>
          <p:spPr>
            <a:xfrm>
              <a:off x="75247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16200000">
              <a:off x="7312320" y="978480"/>
              <a:ext cx="39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1691280" y="1628640"/>
            <a:ext cx="1585440" cy="2521080"/>
            <a:chOff x="1691280" y="1628640"/>
            <a:chExt cx="1585440" cy="2521080"/>
          </a:xfrm>
        </p:grpSpPr>
        <p:sp>
          <p:nvSpPr>
            <p:cNvPr id="1646" name=""/>
            <p:cNvSpPr/>
            <p:nvPr/>
          </p:nvSpPr>
          <p:spPr>
            <a:xfrm>
              <a:off x="327672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7" name=""/>
            <p:cNvCxnSpPr>
              <a:stCxn id="1637" idx="0"/>
              <a:endCxn id="1646" idx="0"/>
            </p:cNvCxnSpPr>
            <p:nvPr/>
          </p:nvCxnSpPr>
          <p:spPr>
            <a:xfrm flipH="1" rot="16200000">
              <a:off x="1295280" y="2024640"/>
              <a:ext cx="2377440" cy="1585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48" name=""/>
          <p:cNvGrpSpPr/>
          <p:nvPr/>
        </p:nvGrpSpPr>
        <p:grpSpPr>
          <a:xfrm>
            <a:off x="3634920" y="1628640"/>
            <a:ext cx="937080" cy="2521080"/>
            <a:chOff x="3634920" y="1628640"/>
            <a:chExt cx="937080" cy="2521080"/>
          </a:xfrm>
        </p:grpSpPr>
        <p:sp>
          <p:nvSpPr>
            <p:cNvPr id="1649" name=""/>
            <p:cNvSpPr/>
            <p:nvPr/>
          </p:nvSpPr>
          <p:spPr>
            <a:xfrm>
              <a:off x="363528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0" name=""/>
            <p:cNvCxnSpPr>
              <a:stCxn id="1640" idx="0"/>
              <a:endCxn id="1649" idx="0"/>
            </p:cNvCxnSpPr>
            <p:nvPr/>
          </p:nvCxnSpPr>
          <p:spPr>
            <a:xfrm rot="5400000">
              <a:off x="2914560" y="2348640"/>
              <a:ext cx="2377440" cy="937440"/>
            </a:xfrm>
            <a:prstGeom prst="curvedConnector5">
              <a:avLst>
                <a:gd name="adj1" fmla="val 49962"/>
                <a:gd name="adj2" fmla="val 4998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51" name=""/>
          <p:cNvGrpSpPr/>
          <p:nvPr/>
        </p:nvGrpSpPr>
        <p:grpSpPr>
          <a:xfrm>
            <a:off x="3994920" y="1628640"/>
            <a:ext cx="3529440" cy="2521080"/>
            <a:chOff x="3994920" y="1628640"/>
            <a:chExt cx="3529440" cy="2521080"/>
          </a:xfrm>
        </p:grpSpPr>
        <p:sp>
          <p:nvSpPr>
            <p:cNvPr id="1652" name=""/>
            <p:cNvSpPr/>
            <p:nvPr/>
          </p:nvSpPr>
          <p:spPr>
            <a:xfrm>
              <a:off x="399564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3" name=""/>
            <p:cNvCxnSpPr>
              <a:stCxn id="1643" idx="0"/>
              <a:endCxn id="1652" idx="0"/>
            </p:cNvCxnSpPr>
            <p:nvPr/>
          </p:nvCxnSpPr>
          <p:spPr>
            <a:xfrm rot="5400000">
              <a:off x="4570920" y="1052280"/>
              <a:ext cx="2377440" cy="352980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54" name=""/>
          <p:cNvGrpSpPr/>
          <p:nvPr/>
        </p:nvGrpSpPr>
        <p:grpSpPr>
          <a:xfrm>
            <a:off x="2411280" y="4149720"/>
            <a:ext cx="1729080" cy="1584360"/>
            <a:chOff x="2411280" y="4149720"/>
            <a:chExt cx="1729080" cy="1584360"/>
          </a:xfrm>
        </p:grpSpPr>
        <p:grpSp>
          <p:nvGrpSpPr>
            <p:cNvPr id="1655" name=""/>
            <p:cNvGrpSpPr/>
            <p:nvPr/>
          </p:nvGrpSpPr>
          <p:grpSpPr>
            <a:xfrm>
              <a:off x="3276720" y="4196880"/>
              <a:ext cx="792000" cy="744840"/>
              <a:chOff x="3276720" y="4196880"/>
              <a:chExt cx="792000" cy="744840"/>
            </a:xfrm>
          </p:grpSpPr>
          <p:sp>
            <p:nvSpPr>
              <p:cNvPr id="1656" name=""/>
              <p:cNvSpPr/>
              <p:nvPr/>
            </p:nvSpPr>
            <p:spPr>
              <a:xfrm>
                <a:off x="327672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492360" y="4653000"/>
                <a:ext cx="2890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78144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59" name=""/>
              <p:cNvCxnSpPr>
                <a:stCxn id="1656" idx="7"/>
                <a:endCxn id="1658" idx="1"/>
              </p:cNvCxnSpPr>
              <p:nvPr/>
            </p:nvCxnSpPr>
            <p:spPr>
              <a:xfrm flipH="1" rot="16200000">
                <a:off x="3672000" y="4184280"/>
                <a:ext cx="2160" cy="303840"/>
              </a:xfrm>
              <a:prstGeom prst="curvedConnector5">
                <a:avLst>
                  <a:gd name="adj1" fmla="val -7700000"/>
                  <a:gd name="adj2" fmla="val 49940"/>
                  <a:gd name="adj3" fmla="val -77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0" name=""/>
              <p:cNvCxnSpPr>
                <a:stCxn id="1658" idx="4"/>
                <a:endCxn id="1657" idx="6"/>
              </p:cNvCxnSpPr>
              <p:nvPr/>
            </p:nvCxnSpPr>
            <p:spPr>
              <a:xfrm rot="5400000">
                <a:off x="3744720" y="4617360"/>
                <a:ext cx="216720" cy="144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1" name=""/>
              <p:cNvCxnSpPr>
                <a:stCxn id="1657" idx="2"/>
                <a:endCxn id="1656" idx="4"/>
              </p:cNvCxnSpPr>
              <p:nvPr/>
            </p:nvCxnSpPr>
            <p:spPr>
              <a:xfrm rot="10800000">
                <a:off x="3420360" y="4580640"/>
                <a:ext cx="72000" cy="216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662" name=""/>
            <p:cNvSpPr/>
            <p:nvPr/>
          </p:nvSpPr>
          <p:spPr>
            <a:xfrm>
              <a:off x="2627280" y="4149720"/>
              <a:ext cx="151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2411280" y="530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634120" y="4149720"/>
              <a:ext cx="694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M(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codage d’adresse,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4284720" y="3284640"/>
            <a:ext cx="3497040" cy="2609640"/>
            <a:chOff x="4284720" y="3284640"/>
            <a:chExt cx="3497040" cy="2609640"/>
          </a:xfrm>
        </p:grpSpPr>
        <p:sp>
          <p:nvSpPr>
            <p:cNvPr id="1680" name=""/>
            <p:cNvSpPr/>
            <p:nvPr/>
          </p:nvSpPr>
          <p:spPr>
            <a:xfrm>
              <a:off x="601200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284720" y="3933720"/>
              <a:ext cx="3382920" cy="86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2" name="" descr=""/>
            <p:cNvPicPr/>
            <p:nvPr/>
          </p:nvPicPr>
          <p:blipFill>
            <a:blip r:embed="rId2"/>
            <a:stretch/>
          </p:blipFill>
          <p:spPr>
            <a:xfrm>
              <a:off x="42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3" name="" descr=""/>
            <p:cNvPicPr/>
            <p:nvPr/>
          </p:nvPicPr>
          <p:blipFill>
            <a:blip r:embed="rId3"/>
            <a:stretch/>
          </p:blipFill>
          <p:spPr>
            <a:xfrm>
              <a:off x="514836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4" name="" descr=""/>
            <p:cNvPicPr/>
            <p:nvPr/>
          </p:nvPicPr>
          <p:blipFill>
            <a:blip r:embed="rId4"/>
            <a:stretch/>
          </p:blipFill>
          <p:spPr>
            <a:xfrm>
              <a:off x="60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5"/>
            <a:stretch/>
          </p:blipFill>
          <p:spPr>
            <a:xfrm>
              <a:off x="702000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6" name=""/>
            <p:cNvSpPr/>
            <p:nvPr/>
          </p:nvSpPr>
          <p:spPr>
            <a:xfrm>
              <a:off x="464328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5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4436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51640" y="4581360"/>
              <a:ext cx="216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684360" y="3284640"/>
            <a:ext cx="1726920" cy="1512720"/>
            <a:chOff x="684360" y="3284640"/>
            <a:chExt cx="1726920" cy="1512720"/>
          </a:xfrm>
        </p:grpSpPr>
        <p:sp>
          <p:nvSpPr>
            <p:cNvPr id="1692" name=""/>
            <p:cNvSpPr/>
            <p:nvPr/>
          </p:nvSpPr>
          <p:spPr>
            <a:xfrm>
              <a:off x="147636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4360" y="3933720"/>
              <a:ext cx="1726920" cy="863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195640" y="4581360"/>
              <a:ext cx="21564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2484360" y="3284640"/>
            <a:ext cx="1727280" cy="3384360"/>
            <a:chOff x="2484360" y="3284640"/>
            <a:chExt cx="1727280" cy="3384360"/>
          </a:xfrm>
        </p:grpSpPr>
        <p:sp>
          <p:nvSpPr>
            <p:cNvPr id="1699" name=""/>
            <p:cNvSpPr/>
            <p:nvPr/>
          </p:nvSpPr>
          <p:spPr>
            <a:xfrm>
              <a:off x="2484360" y="3933720"/>
              <a:ext cx="1727280" cy="27352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27672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1702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1707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1712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1717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1722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1725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1728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1731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1734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6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1737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egments, address decoding and cacheability m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F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11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1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r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 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sk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x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  = 0000 0000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rot="5400000">
            <a:off x="3060720" y="328428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rot="5400000">
            <a:off x="3924360" y="3644640"/>
            <a:ext cx="215640" cy="216000"/>
          </a:xfrm>
          <a:custGeom>
            <a:avLst/>
            <a:gdLst>
              <a:gd name="textAreaLeft" fmla="*/ 0 w 215640"/>
              <a:gd name="textAreaRight" fmla="*/ 77760 w 215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630880" y="3933720"/>
            <a:ext cx="11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854520" y="3933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cach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7451640" y="1916280"/>
            <a:ext cx="115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687852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7451640" y="2492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6878520" y="2492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7451640" y="1700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878520" y="1700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7451640" y="321300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exc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878520" y="321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7451640" y="414972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878520" y="4149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451640" y="479736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6878520" y="4797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7451640" y="1125360"/>
            <a:ext cx="115272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878520" y="1125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7451640" y="1125360"/>
            <a:ext cx="1441440" cy="5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451640" y="2133720"/>
            <a:ext cx="1441440" cy="35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451640" y="2708280"/>
            <a:ext cx="144144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451640" y="3429000"/>
            <a:ext cx="144144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1640" y="4365720"/>
            <a:ext cx="144144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5940360" y="5157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tform address spac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8604360" y="1700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8604360" y="1916280"/>
            <a:ext cx="28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8604360" y="321300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8604360" y="414972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8604360" y="479736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8604360" y="2492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476360" y="328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2484360" y="3933720"/>
            <a:ext cx="1727280" cy="273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75564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84360" y="3933720"/>
            <a:ext cx="1726920" cy="863640"/>
          </a:xfrm>
          <a:prstGeom prst="rect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276720" y="328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2556000" y="693720"/>
            <a:ext cx="143964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435600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615636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1800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1805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1810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1815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4284720" y="3284640"/>
            <a:ext cx="3496680" cy="2609280"/>
            <a:chOff x="4284720" y="3284640"/>
            <a:chExt cx="3496680" cy="2609280"/>
          </a:xfrm>
        </p:grpSpPr>
        <p:sp>
          <p:nvSpPr>
            <p:cNvPr id="1820" name=""/>
            <p:cNvSpPr/>
            <p:nvPr/>
          </p:nvSpPr>
          <p:spPr>
            <a:xfrm>
              <a:off x="6011640" y="3284640"/>
              <a:ext cx="0" cy="64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284720" y="3933720"/>
              <a:ext cx="3382560" cy="8632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2" name="" descr=""/>
            <p:cNvPicPr/>
            <p:nvPr/>
          </p:nvPicPr>
          <p:blipFill>
            <a:blip r:embed="rId9"/>
            <a:stretch/>
          </p:blipFill>
          <p:spPr>
            <a:xfrm>
              <a:off x="428472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" descr=""/>
            <p:cNvPicPr/>
            <p:nvPr/>
          </p:nvPicPr>
          <p:blipFill>
            <a:blip r:embed="rId10"/>
            <a:stretch/>
          </p:blipFill>
          <p:spPr>
            <a:xfrm>
              <a:off x="514800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" descr=""/>
            <p:cNvPicPr/>
            <p:nvPr/>
          </p:nvPicPr>
          <p:blipFill>
            <a:blip r:embed="rId11"/>
            <a:stretch/>
          </p:blipFill>
          <p:spPr>
            <a:xfrm>
              <a:off x="6084720" y="5084640"/>
              <a:ext cx="76140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12"/>
            <a:stretch/>
          </p:blipFill>
          <p:spPr>
            <a:xfrm>
              <a:off x="701964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464328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50836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44328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30872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0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195640" y="4581360"/>
            <a:ext cx="2156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451640" y="458136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7164360" y="1484280"/>
            <a:ext cx="1979640" cy="4897440"/>
          </a:xfrm>
          <a:prstGeom prst="rect">
            <a:avLst/>
          </a:pr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apping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1839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1842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1845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1848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1851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1854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6" name=""/>
          <p:cNvSpPr/>
          <p:nvPr/>
        </p:nvSpPr>
        <p:spPr>
          <a:xfrm>
            <a:off x="8820000" y="177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8820000" y="234936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8820000" y="2997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8820000" y="364500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8820000" y="429264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8820000" y="4941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5185E-006 L 0.5118 -0.35162 E">
                                      <p:cBhvr>
                                        <p:cTn id="364" dur="2000" fill="hold"/>
                                        <p:tgtEl>
                                          <p:spTgt spid="1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7 L 0.5118 -0.3412 E">
                                      <p:cBhvr>
                                        <p:cTn id="375" dur="2000" fill="hold"/>
                                        <p:tgtEl>
                                          <p:spTgt spid="1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5118 -0.33056 E">
                                      <p:cBhvr>
                                        <p:cTn id="386" dur="2000" fill="hold"/>
                                        <p:tgtEl>
                                          <p:spTgt spid="1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L 0.5118 -0.32014 E">
                                      <p:cBhvr>
                                        <p:cTn id="397" dur="2000" fill="hold"/>
                                        <p:tgtEl>
                                          <p:spTgt spid="1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70868 0.02639 E">
                                      <p:cBhvr>
                                        <p:cTn id="408" dur="2000" fill="hold"/>
                                        <p:tgtEl>
                                          <p:spTgt spid="1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31493 0.12084 E">
                                      <p:cBhvr>
                                        <p:cTn id="419" dur="2000" fill="hold"/>
                                        <p:tgtEl>
                                          <p:spTgt spid="1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 de Moore modif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1738440"/>
            <a:ext cx="691200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238608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238608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238608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382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19640" y="382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71636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13640" y="6438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48340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303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80360" y="3825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435640" y="2169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4920" y="21700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74920" y="21700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" y="458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30160" y="3610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28292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720" y="6491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4920" y="50515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571640" y="50515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7440" y="573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2 SC_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989000"/>
            <a:ext cx="3673440" cy="360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1989000"/>
            <a:ext cx="1944720" cy="360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2144520" y="2736720"/>
            <a:ext cx="70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oclib::caba::VciParams&lt;4,6,32,1,1,1,8,1,1,1&gt; vci_par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1495800" y="3024360"/>
            <a:ext cx="4184280" cy="596160"/>
            <a:chOff x="1495800" y="3024360"/>
            <a:chExt cx="4184280" cy="596160"/>
          </a:xfrm>
        </p:grpSpPr>
        <p:grpSp>
          <p:nvGrpSpPr>
            <p:cNvPr id="1864" name=""/>
            <p:cNvGrpSpPr/>
            <p:nvPr/>
          </p:nvGrpSpPr>
          <p:grpSpPr>
            <a:xfrm>
              <a:off x="3664080" y="3024360"/>
              <a:ext cx="2016000" cy="504720"/>
              <a:chOff x="3664080" y="3024360"/>
              <a:chExt cx="2016000" cy="504720"/>
            </a:xfrm>
          </p:grpSpPr>
          <p:sp>
            <p:nvSpPr>
              <p:cNvPr id="1865" name=""/>
              <p:cNvSpPr/>
              <p:nvPr/>
            </p:nvSpPr>
            <p:spPr>
              <a:xfrm flipV="1">
                <a:off x="5680080" y="3024360"/>
                <a:ext cx="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3664080" y="3529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7" name=""/>
            <p:cNvSpPr/>
            <p:nvPr/>
          </p:nvSpPr>
          <p:spPr>
            <a:xfrm>
              <a:off x="1495800" y="331344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ell_size = 4 * 8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1499040" y="3024000"/>
            <a:ext cx="4396680" cy="954720"/>
            <a:chOff x="1499040" y="3024000"/>
            <a:chExt cx="4396680" cy="954720"/>
          </a:xfrm>
        </p:grpSpPr>
        <p:grpSp>
          <p:nvGrpSpPr>
            <p:cNvPr id="1869" name=""/>
            <p:cNvGrpSpPr/>
            <p:nvPr/>
          </p:nvGrpSpPr>
          <p:grpSpPr>
            <a:xfrm>
              <a:off x="3663720" y="3024000"/>
              <a:ext cx="2232000" cy="863280"/>
              <a:chOff x="3663720" y="3024000"/>
              <a:chExt cx="2232000" cy="863280"/>
            </a:xfrm>
          </p:grpSpPr>
          <p:sp>
            <p:nvSpPr>
              <p:cNvPr id="1870" name=""/>
              <p:cNvSpPr/>
              <p:nvPr/>
            </p:nvSpPr>
            <p:spPr>
              <a:xfrm flipV="1">
                <a:off x="5895720" y="3024000"/>
                <a:ext cx="0" cy="86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3663720" y="3887280"/>
                <a:ext cx="22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2" name=""/>
            <p:cNvSpPr/>
            <p:nvPr/>
          </p:nvSpPr>
          <p:spPr>
            <a:xfrm>
              <a:off x="1499040" y="367164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len_size = 64 wor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1498320" y="3024000"/>
            <a:ext cx="4686120" cy="1315080"/>
            <a:chOff x="1498320" y="3024000"/>
            <a:chExt cx="4686120" cy="1315080"/>
          </a:xfrm>
        </p:grpSpPr>
        <p:grpSp>
          <p:nvGrpSpPr>
            <p:cNvPr id="1874" name=""/>
            <p:cNvGrpSpPr/>
            <p:nvPr/>
          </p:nvGrpSpPr>
          <p:grpSpPr>
            <a:xfrm>
              <a:off x="3663720" y="3024000"/>
              <a:ext cx="2520720" cy="1223280"/>
              <a:chOff x="3663720" y="3024000"/>
              <a:chExt cx="2520720" cy="1223280"/>
            </a:xfrm>
          </p:grpSpPr>
          <p:sp>
            <p:nvSpPr>
              <p:cNvPr id="1875" name=""/>
              <p:cNvSpPr/>
              <p:nvPr/>
            </p:nvSpPr>
            <p:spPr>
              <a:xfrm flipV="1">
                <a:off x="6184440" y="3024000"/>
                <a:ext cx="0" cy="122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3663720" y="4247280"/>
                <a:ext cx="252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1498320" y="4032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dr_size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1498680" y="3024000"/>
            <a:ext cx="4974840" cy="1675440"/>
            <a:chOff x="1498680" y="3024000"/>
            <a:chExt cx="4974840" cy="1675440"/>
          </a:xfrm>
        </p:grpSpPr>
        <p:grpSp>
          <p:nvGrpSpPr>
            <p:cNvPr id="1879" name=""/>
            <p:cNvGrpSpPr/>
            <p:nvPr/>
          </p:nvGrpSpPr>
          <p:grpSpPr>
            <a:xfrm>
              <a:off x="3664080" y="3024000"/>
              <a:ext cx="2809440" cy="1583280"/>
              <a:chOff x="3664080" y="3024000"/>
              <a:chExt cx="2809440" cy="1583280"/>
            </a:xfrm>
          </p:grpSpPr>
          <p:sp>
            <p:nvSpPr>
              <p:cNvPr id="1880" name=""/>
              <p:cNvSpPr/>
              <p:nvPr/>
            </p:nvSpPr>
            <p:spPr>
              <a:xfrm flipV="1">
                <a:off x="6473520" y="3024000"/>
                <a:ext cx="0" cy="158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>
                <a:off x="3664080" y="4607280"/>
                <a:ext cx="280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2" name=""/>
            <p:cNvSpPr/>
            <p:nvPr/>
          </p:nvSpPr>
          <p:spPr>
            <a:xfrm>
              <a:off x="1498680" y="439236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rror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499400" y="3024360"/>
            <a:ext cx="5190120" cy="2035440"/>
            <a:chOff x="1499400" y="3024360"/>
            <a:chExt cx="5190120" cy="2035440"/>
          </a:xfrm>
        </p:grpSpPr>
        <p:grpSp>
          <p:nvGrpSpPr>
            <p:cNvPr id="1884" name=""/>
            <p:cNvGrpSpPr/>
            <p:nvPr/>
          </p:nvGrpSpPr>
          <p:grpSpPr>
            <a:xfrm>
              <a:off x="3664080" y="3024360"/>
              <a:ext cx="3025440" cy="1943280"/>
              <a:chOff x="3664080" y="3024360"/>
              <a:chExt cx="3025440" cy="1943280"/>
            </a:xfrm>
          </p:grpSpPr>
          <p:sp>
            <p:nvSpPr>
              <p:cNvPr id="1885" name=""/>
              <p:cNvSpPr/>
              <p:nvPr/>
            </p:nvSpPr>
            <p:spPr>
              <a:xfrm flipV="1">
                <a:off x="6689520" y="3024360"/>
                <a:ext cx="0" cy="19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>
                <a:off x="3664080" y="4967640"/>
                <a:ext cx="30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7" name=""/>
            <p:cNvSpPr/>
            <p:nvPr/>
          </p:nvSpPr>
          <p:spPr>
            <a:xfrm>
              <a:off x="1499400" y="475272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499040" y="3024360"/>
            <a:ext cx="5406120" cy="2395800"/>
            <a:chOff x="1499040" y="3024360"/>
            <a:chExt cx="5406120" cy="2395800"/>
          </a:xfrm>
        </p:grpSpPr>
        <p:grpSp>
          <p:nvGrpSpPr>
            <p:cNvPr id="1889" name=""/>
            <p:cNvGrpSpPr/>
            <p:nvPr/>
          </p:nvGrpSpPr>
          <p:grpSpPr>
            <a:xfrm>
              <a:off x="3663720" y="3024360"/>
              <a:ext cx="3241440" cy="2303280"/>
              <a:chOff x="3663720" y="3024360"/>
              <a:chExt cx="3241440" cy="2303280"/>
            </a:xfrm>
          </p:grpSpPr>
          <p:sp>
            <p:nvSpPr>
              <p:cNvPr id="1890" name=""/>
              <p:cNvSpPr/>
              <p:nvPr/>
            </p:nvSpPr>
            <p:spPr>
              <a:xfrm flipV="1">
                <a:off x="6905160" y="302436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3663720" y="5327640"/>
                <a:ext cx="324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2" name=""/>
            <p:cNvSpPr/>
            <p:nvPr/>
          </p:nvSpPr>
          <p:spPr>
            <a:xfrm>
              <a:off x="1499040" y="51130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flag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1498320" y="3024360"/>
            <a:ext cx="5622840" cy="2754720"/>
            <a:chOff x="1498320" y="3024360"/>
            <a:chExt cx="5622840" cy="2754720"/>
          </a:xfrm>
        </p:grpSpPr>
        <p:grpSp>
          <p:nvGrpSpPr>
            <p:cNvPr id="1894" name=""/>
            <p:cNvGrpSpPr/>
            <p:nvPr/>
          </p:nvGrpSpPr>
          <p:grpSpPr>
            <a:xfrm>
              <a:off x="3663720" y="3024360"/>
              <a:ext cx="3457440" cy="2661840"/>
              <a:chOff x="3663720" y="3024360"/>
              <a:chExt cx="3457440" cy="2661840"/>
            </a:xfrm>
          </p:grpSpPr>
          <p:sp>
            <p:nvSpPr>
              <p:cNvPr id="1895" name=""/>
              <p:cNvSpPr/>
              <p:nvPr/>
            </p:nvSpPr>
            <p:spPr>
              <a:xfrm flipV="1">
                <a:off x="7121160" y="3024360"/>
                <a:ext cx="0" cy="266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3663720" y="5686200"/>
                <a:ext cx="345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1498320" y="547200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rcid_size = 8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1499040" y="3024000"/>
            <a:ext cx="5838120" cy="3115440"/>
            <a:chOff x="1499040" y="3024000"/>
            <a:chExt cx="5838120" cy="3115440"/>
          </a:xfrm>
        </p:grpSpPr>
        <p:grpSp>
          <p:nvGrpSpPr>
            <p:cNvPr id="1899" name=""/>
            <p:cNvGrpSpPr/>
            <p:nvPr/>
          </p:nvGrpSpPr>
          <p:grpSpPr>
            <a:xfrm>
              <a:off x="3663720" y="3024000"/>
              <a:ext cx="3673440" cy="3022560"/>
              <a:chOff x="3663720" y="3024000"/>
              <a:chExt cx="3673440" cy="3022560"/>
            </a:xfrm>
          </p:grpSpPr>
          <p:sp>
            <p:nvSpPr>
              <p:cNvPr id="1900" name=""/>
              <p:cNvSpPr/>
              <p:nvPr/>
            </p:nvSpPr>
            <p:spPr>
              <a:xfrm flipV="1">
                <a:off x="7337160" y="3024000"/>
                <a:ext cx="0" cy="30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3663720" y="6046560"/>
                <a:ext cx="367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2" name=""/>
            <p:cNvSpPr/>
            <p:nvPr/>
          </p:nvSpPr>
          <p:spPr>
            <a:xfrm>
              <a:off x="1499040" y="583236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kt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1499040" y="3024000"/>
            <a:ext cx="6053400" cy="3475800"/>
            <a:chOff x="1499040" y="3024000"/>
            <a:chExt cx="6053400" cy="3475800"/>
          </a:xfrm>
        </p:grpSpPr>
        <p:grpSp>
          <p:nvGrpSpPr>
            <p:cNvPr id="1904" name=""/>
            <p:cNvGrpSpPr/>
            <p:nvPr/>
          </p:nvGrpSpPr>
          <p:grpSpPr>
            <a:xfrm>
              <a:off x="3663720" y="3024000"/>
              <a:ext cx="3888720" cy="3382560"/>
              <a:chOff x="3663720" y="3024000"/>
              <a:chExt cx="3888720" cy="3382560"/>
            </a:xfrm>
          </p:grpSpPr>
          <p:sp>
            <p:nvSpPr>
              <p:cNvPr id="1905" name=""/>
              <p:cNvSpPr/>
              <p:nvPr/>
            </p:nvSpPr>
            <p:spPr>
              <a:xfrm flipV="1">
                <a:off x="7552440" y="3024000"/>
                <a:ext cx="0" cy="338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3663720" y="6406560"/>
                <a:ext cx="38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7" name=""/>
            <p:cNvSpPr/>
            <p:nvPr/>
          </p:nvSpPr>
          <p:spPr>
            <a:xfrm>
              <a:off x="1499040" y="61927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d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1499760" y="3024000"/>
            <a:ext cx="6268680" cy="3836160"/>
            <a:chOff x="1499760" y="3024000"/>
            <a:chExt cx="6268680" cy="3836160"/>
          </a:xfrm>
        </p:grpSpPr>
        <p:grpSp>
          <p:nvGrpSpPr>
            <p:cNvPr id="1909" name=""/>
            <p:cNvGrpSpPr/>
            <p:nvPr/>
          </p:nvGrpSpPr>
          <p:grpSpPr>
            <a:xfrm>
              <a:off x="3663720" y="3024000"/>
              <a:ext cx="4104720" cy="3742560"/>
              <a:chOff x="3663720" y="3024000"/>
              <a:chExt cx="4104720" cy="3742560"/>
            </a:xfrm>
          </p:grpSpPr>
          <p:sp>
            <p:nvSpPr>
              <p:cNvPr id="1910" name=""/>
              <p:cNvSpPr/>
              <p:nvPr/>
            </p:nvSpPr>
            <p:spPr>
              <a:xfrm flipV="1">
                <a:off x="7768440" y="3024000"/>
                <a:ext cx="0" cy="37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3663720" y="6766560"/>
                <a:ext cx="410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2" name=""/>
            <p:cNvSpPr/>
            <p:nvPr/>
          </p:nvSpPr>
          <p:spPr>
            <a:xfrm>
              <a:off x="1499760" y="65530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wrp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468360" y="90792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08000" y="1557360"/>
            <a:ext cx="172728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"/>
          <p:cNvGrpSpPr/>
          <p:nvPr/>
        </p:nvGrpSpPr>
        <p:grpSpPr>
          <a:xfrm>
            <a:off x="179280" y="1628640"/>
            <a:ext cx="1584360" cy="503280"/>
            <a:chOff x="179280" y="1628640"/>
            <a:chExt cx="1584360" cy="503280"/>
          </a:xfrm>
        </p:grpSpPr>
        <p:sp>
          <p:nvSpPr>
            <p:cNvPr id="1916" name=""/>
            <p:cNvSpPr/>
            <p:nvPr/>
          </p:nvSpPr>
          <p:spPr>
            <a:xfrm>
              <a:off x="179280" y="162864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547640" y="177300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8" name=""/>
          <p:cNvSpPr/>
          <p:nvPr/>
        </p:nvSpPr>
        <p:spPr>
          <a:xfrm>
            <a:off x="108000" y="115920"/>
            <a:ext cx="172728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46480" y="105264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::caba::VciSignals&lt;vci_param&gt; signal_vci_vcitimer("signal_vci_vcitim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uilding the embedd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1258920" y="1628640"/>
            <a:ext cx="720720" cy="57636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85800" y="177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262728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32 *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24000" y="2708280"/>
            <a:ext cx="244764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g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219744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1619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442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1619280" y="3141720"/>
            <a:ext cx="1224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H="1">
            <a:off x="3347640" y="3141720"/>
            <a:ext cx="1079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132000" y="422100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724360" y="3573360"/>
            <a:ext cx="648000" cy="4320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4718880" y="36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d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5219280" y="407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50072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211640" y="5373720"/>
            <a:ext cx="647640" cy="43164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2845080" y="53737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n.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lf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140360" y="1628640"/>
            <a:ext cx="720720" cy="576360"/>
          </a:xfrm>
          <a:prstGeom prst="flowChartMultidocumen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2700360" y="3573360"/>
            <a:ext cx="720720" cy="576360"/>
          </a:xfrm>
          <a:prstGeom prst="flowChartMultidocumen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203640" y="2708280"/>
            <a:ext cx="2448000" cy="3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3348000" y="4508640"/>
            <a:ext cx="2448000" cy="35856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948360" y="3500280"/>
            <a:ext cx="1944720" cy="792360"/>
          </a:xfrm>
          <a:prstGeom prst="rect">
            <a:avLst/>
          </a:pr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BFC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948360" y="4292640"/>
            <a:ext cx="194472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ce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8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948360" y="5084640"/>
            <a:ext cx="194472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004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6948360" y="5877000"/>
            <a:ext cx="1944720" cy="792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1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871680" y="2852640"/>
            <a:ext cx="19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jet de plateforme supporté par l’ANR (Agence Nationale pour la Recherch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 partenaires industri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 laborato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www.soclib.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bliothèqu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open-sour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modè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interopérab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multi-niveau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composants matériels e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ystem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la modélisation et la simulation de plateformes multiprocess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chaque composant (Intellectual Property, IP) de la plateforme, il doit exister un chemin vers le silic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ode VHDL (entrée de la synthèse ASIC ou sur FPGA)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n’est pas contenu dans SoCLib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sé pour l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rototypage virtuel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Tout se fait par simulation (pas d’émulation de matériel, pas de FPGA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Lib est conçu pour êtr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erforma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pa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édag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 utilisé pour ce cours, pédagogique et obsolè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vrai SocLib, utilisé pour les cours procha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Attention à la confus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aux d’abst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522936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ter Transfer Level, synthét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393372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ycle-Accurate Bit-Accurate (C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263700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with Time (TLM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20720" y="1341360"/>
            <a:ext cx="358920" cy="3745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1240" y="3068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5080" y="1341360"/>
            <a:ext cx="0" cy="4969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9240" y="620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1600" y="6308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134136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(T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128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ycle-Accurate Bit-accu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4000" y="522936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ter Transfer Level, synthét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3933720"/>
            <a:ext cx="4753080" cy="1152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ycle-Accurate Bit-Accurate (C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3700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with Time (TLM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20720" y="1341360"/>
            <a:ext cx="358920" cy="3745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240" y="3068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85080" y="1341360"/>
            <a:ext cx="0" cy="4969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9240" y="620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1600" y="6308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134136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(T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tt</cp:lastModifiedBy>
  <dcterms:modified xsi:type="dcterms:W3CDTF">2009-10-07T18:33:31Z</dcterms:modified>
  <cp:revision>238</cp:revision>
  <dc:subject/>
  <dc:title>Diapositive 1</dc:title>
</cp:coreProperties>
</file>