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5BDC-5CA1-4266-8BF2-A7B4D2416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081F-FEB6-4057-B294-33463B65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5D72-16E0-4E9A-AB4E-BB25B85B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CBC-1A3E-488E-85C7-00C40810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541-BAAC-4CC4-BD74-EAA4AA78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2F45-A43D-49F5-BCD9-0A1773D3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2EC-E969-4A1B-BF34-6E3A91FF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D81-AE1E-46F3-A1D0-D66AA1B9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C4F-EE13-434C-86F2-5890BC13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7765-677E-466A-A164-6DDA43BF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01F4-5571-43EE-9861-896DFFB9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57F-DBCA-46BD-8252-D4A4622B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A730-B323-446F-B351-64681F2C2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Francois.pecheux@lip6.fr" TargetMode="External"/><Relationship Id="rId2" Type="http://schemas.openxmlformats.org/officeDocument/2006/relationships/hyperlink" Target="mailto:Francois.pecheux@lip6.fr" TargetMode="External"/><Relationship Id="rId3" Type="http://schemas.openxmlformats.org/officeDocument/2006/relationships/hyperlink" Target="mailto:Julien.denoulet@lip6.fr" TargetMode="External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7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285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E SYSTEMC – Cours 3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bibliothèqu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ancois.pecheux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Julien.denoulet@lip6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 platform examples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nd research pro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AR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SC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M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ASABI, ANR ARF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B-DREAMS, Catrene/Medea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E H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ff"/>
                </a:solidFill>
                <a:latin typeface="Arial"/>
              </a:rPr>
              <a:t>Targeted architecture: 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TSAR (C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22320" y="1273320"/>
            <a:ext cx="8214840" cy="4748040"/>
            <a:chOff x="922320" y="1273320"/>
            <a:chExt cx="8214840" cy="4748040"/>
          </a:xfrm>
        </p:grpSpPr>
        <p:sp>
          <p:nvSpPr>
            <p:cNvPr id="121" name=""/>
            <p:cNvSpPr/>
            <p:nvPr/>
          </p:nvSpPr>
          <p:spPr>
            <a:xfrm>
              <a:off x="7765920" y="4264200"/>
              <a:ext cx="105048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65200" y="558324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65200" y="4575240"/>
              <a:ext cx="299196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763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9636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723760" y="3490920"/>
              <a:ext cx="4095360" cy="290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icro- network</a:t>
              </a: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65200" y="518004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79480" y="518004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2960" y="5560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71360" y="50371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72280" y="4903920"/>
              <a:ext cx="10220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5800" y="4575240"/>
              <a:ext cx="298404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06960" y="5184720"/>
              <a:ext cx="558360" cy="824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594200" y="5195880"/>
              <a:ext cx="501480" cy="816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017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37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368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14144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2440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4824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56360" y="49039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65920" y="49039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0520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0520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82520" y="4297320"/>
              <a:ext cx="156960" cy="270000"/>
            </a:xfrm>
            <a:prstGeom prst="upDownArrow">
              <a:avLst>
                <a:gd name="adj1" fmla="val 50000"/>
                <a:gd name="adj2" fmla="val 342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82520" y="37609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23760" y="4029120"/>
              <a:ext cx="47304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0520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0520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82520" y="32227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82520" y="2684520"/>
              <a:ext cx="156960" cy="268200"/>
            </a:xfrm>
            <a:prstGeom prst="upDownArrow">
              <a:avLst>
                <a:gd name="adj1" fmla="val 50000"/>
                <a:gd name="adj2" fmla="val 34016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65200" y="2357280"/>
              <a:ext cx="2991960" cy="327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2680" y="2023920"/>
              <a:ext cx="110448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3560" rIns="43560" tIns="22680" bIns="22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CI/OC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87520" y="2347920"/>
              <a:ext cx="2992320" cy="328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ocal Interconne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568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17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237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3368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4144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76360" y="1273320"/>
              <a:ext cx="55836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65200" y="1273320"/>
              <a:ext cx="6296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65200" y="1698480"/>
              <a:ext cx="31392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794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2720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2720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7296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38240" y="34909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2498760" y="3467880"/>
              <a:ext cx="135000" cy="313920"/>
            </a:xfrm>
            <a:prstGeom prst="upDownArrow">
              <a:avLst>
                <a:gd name="adj1" fmla="val 50000"/>
                <a:gd name="adj2" fmla="val 46291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22320" y="3222720"/>
              <a:ext cx="69984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5400000">
              <a:off x="1712160" y="3467160"/>
              <a:ext cx="135000" cy="315720"/>
            </a:xfrm>
            <a:prstGeom prst="upDownArrow">
              <a:avLst>
                <a:gd name="adj1" fmla="val 50000"/>
                <a:gd name="adj2" fmla="val 4655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22880" y="3222720"/>
              <a:ext cx="596520" cy="873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t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tr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34120" y="3490920"/>
              <a:ext cx="4726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7697160" y="3467160"/>
              <a:ext cx="135000" cy="315360"/>
            </a:xfrm>
            <a:prstGeom prst="upDownArrow">
              <a:avLst>
                <a:gd name="adj1" fmla="val 50000"/>
                <a:gd name="adj2" fmla="val 4650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6908760" y="3467880"/>
              <a:ext cx="135000" cy="314280"/>
            </a:xfrm>
            <a:prstGeom prst="upDownArrow">
              <a:avLst>
                <a:gd name="adj1" fmla="val 50000"/>
                <a:gd name="adj2" fmla="val 4634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348240" y="4029120"/>
              <a:ext cx="470880" cy="2682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723760" y="2952720"/>
              <a:ext cx="47304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48240" y="2952720"/>
              <a:ext cx="470880" cy="270000"/>
            </a:xfrm>
            <a:prstGeom prst="rect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NI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9480" y="2819520"/>
              <a:ext cx="5986080" cy="1612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78360" y="1273320"/>
              <a:ext cx="501480" cy="8157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im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r>
                <a:rPr b="1" lang="fr-FR" sz="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C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2440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4824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056360" y="2079720"/>
              <a:ext cx="158400" cy="268200"/>
            </a:xfrm>
            <a:prstGeom prst="upDownArrow">
              <a:avLst>
                <a:gd name="adj1" fmla="val 50000"/>
                <a:gd name="adj2" fmla="val 33707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65920" y="2079720"/>
              <a:ext cx="156600" cy="268200"/>
            </a:xfrm>
            <a:prstGeom prst="upDownArrow">
              <a:avLst>
                <a:gd name="adj1" fmla="val 50000"/>
                <a:gd name="adj2" fmla="val 34094"/>
              </a:avLst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99040" y="1273320"/>
              <a:ext cx="556920" cy="8236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2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7440" y="1676520"/>
              <a:ext cx="2343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71360" y="2214720"/>
              <a:ext cx="70876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6520" y="56023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46520" y="4781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646520" y="24559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6520" y="16351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4292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12800" y="5595840"/>
              <a:ext cx="62028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04880" y="518796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19160" y="518796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87520" y="127332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87520" y="1698480"/>
              <a:ext cx="31428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0216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49880" y="1273320"/>
              <a:ext cx="63144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49880" y="1698480"/>
              <a:ext cx="315360" cy="4035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95640" y="167652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465600" y="169560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84640" y="5580000"/>
              <a:ext cx="629640" cy="425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84640" y="517680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98920" y="5176800"/>
              <a:ext cx="31536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792400" y="5557680"/>
              <a:ext cx="2361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124320" y="5592960"/>
              <a:ext cx="630000" cy="4251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P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PU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320" y="5184720"/>
              <a:ext cx="3139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38600" y="5184720"/>
              <a:ext cx="315720" cy="403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4280" rIns="4428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1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817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1) : Generic tile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NPU - Computing tile – clust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74640" y="2543040"/>
            <a:ext cx="3304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 (MIPS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DU: Test &amp; Decision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MU: Voltage Management U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CG: Local Clock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IC:Network Interface Contro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A-AS: Synchronous/Async conver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63640" y="2492280"/>
            <a:ext cx="4103640" cy="3095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06560" y="256536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06560" y="3645000"/>
            <a:ext cx="288108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66920" y="4726080"/>
            <a:ext cx="720720" cy="71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2220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68360" y="43639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382920" y="436572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014560" y="256536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06560" y="32846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40360" y="3824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40360" y="260028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140360" y="3211560"/>
            <a:ext cx="720720" cy="35856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48000" y="436392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3800" y="26719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69840" y="4726080"/>
            <a:ext cx="93816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16000" y="4724280"/>
            <a:ext cx="104328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52720" y="3895560"/>
            <a:ext cx="287640" cy="252720"/>
          </a:xfrm>
          <a:prstGeom prst="leftRightArrow">
            <a:avLst>
              <a:gd name="adj1" fmla="val 50000"/>
              <a:gd name="adj2" fmla="val 226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295920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357192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64000" y="511956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9440" y="512136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8900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1428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2560" y="35100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2560" y="89064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3640" y="14302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90560" y="70956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6364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871640" y="125100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87280" y="35100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82560" y="70956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9640" y="97956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49640" y="368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49640" y="673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3280" y="124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5280" y="14302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87280" y="143028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06720" y="101592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57280" y="547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57280" y="85392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162720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124000" y="16286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0560" y="1904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0920" y="31608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6220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220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64328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7020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4328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51280" y="125244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35244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6256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2928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2928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2920" y="12510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4920" y="143208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6728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86360" y="101772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37280" y="549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37280" y="85572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128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30560" y="191772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03640" y="163044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12000" y="1904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31608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43640" y="35244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43640" y="89208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24720" y="143208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1640" y="71136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472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632720" y="125244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5244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43640" y="71136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10360" y="9810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10360" y="3697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10360" y="674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4360" y="12510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26360" y="143208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948360" y="143208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867800" y="101772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118360" y="549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118360" y="85572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16286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2000" y="191772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885080" y="163044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34792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247320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2560" y="250992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82560" y="304956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63640" y="35892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" y="286848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6364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871640" y="340992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87280" y="250992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582560" y="286848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49640" y="31384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49640" y="252720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49640" y="28321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403280" y="34084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280" y="35892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358920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106720" y="317484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57280" y="27068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357280" y="30132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37861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2052000" y="299448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24000" y="3787920"/>
            <a:ext cx="287280" cy="142560"/>
          </a:xfrm>
          <a:prstGeom prst="leftRightArrow">
            <a:avLst>
              <a:gd name="adj1" fmla="val 37019"/>
              <a:gd name="adj2" fmla="val 46199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493128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12000" y="2349360"/>
            <a:ext cx="288108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372360" y="2475000"/>
            <a:ext cx="205236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443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443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524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51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247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3272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948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4364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10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010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10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164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26360" y="359100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48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67800" y="3176640"/>
            <a:ext cx="142560" cy="125280"/>
          </a:xfrm>
          <a:prstGeom prst="leftRightArrow">
            <a:avLst>
              <a:gd name="adj1" fmla="val 50000"/>
              <a:gd name="adj2" fmla="val 2265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11836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11836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72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12000" y="407664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7812720" y="299628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885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0920" y="450864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12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8256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256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76364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90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636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7164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8256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2496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496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2496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40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2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18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1067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728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5728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41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rot="16200000">
            <a:off x="205164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2400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30560" y="451008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90920" y="4635360"/>
            <a:ext cx="205272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56220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56220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4328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67020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74328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751280" y="557208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67280" y="4672080"/>
            <a:ext cx="936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46256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2928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2928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12928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82920" y="557064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544920" y="575136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06728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86360" y="5337000"/>
            <a:ext cx="142920" cy="125640"/>
          </a:xfrm>
          <a:prstGeom prst="leftRightArrow">
            <a:avLst>
              <a:gd name="adj1" fmla="val 50000"/>
              <a:gd name="adj2" fmla="val 226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237280" y="486900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237280" y="517536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29128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0560" y="623736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93164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59500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012000" y="4510080"/>
            <a:ext cx="288108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72360" y="4635360"/>
            <a:ext cx="2052360" cy="154800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43640" y="4672080"/>
            <a:ext cx="36036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443640" y="521172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24720" y="575136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551640" y="50306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2472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32720" y="557208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948360" y="4672080"/>
            <a:ext cx="936720" cy="3585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43640" y="50306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10360" y="53006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10360" y="46893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010360" y="499428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164360" y="557064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26360" y="5751360"/>
            <a:ext cx="46800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948360" y="575136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67800" y="5337000"/>
            <a:ext cx="142560" cy="125640"/>
          </a:xfrm>
          <a:prstGeom prst="leftRightArrow">
            <a:avLst>
              <a:gd name="adj1" fmla="val 50000"/>
              <a:gd name="adj2" fmla="val 225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8118360" y="486900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18360" y="517536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172360" y="594828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6237360"/>
            <a:ext cx="2160360" cy="144360"/>
          </a:xfrm>
          <a:prstGeom prst="leftRightArrow">
            <a:avLst>
              <a:gd name="adj1" fmla="val 32593"/>
              <a:gd name="adj2" fmla="val 48914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7813080" y="5156640"/>
            <a:ext cx="1439640" cy="142920"/>
          </a:xfrm>
          <a:prstGeom prst="leftRightArrow">
            <a:avLst>
              <a:gd name="adj1" fmla="val 37019"/>
              <a:gd name="adj2" fmla="val 53676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85080" y="59500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ADAM (2):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highly multithreaded embedded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727280" y="2384280"/>
            <a:ext cx="6462360" cy="1487520"/>
            <a:chOff x="1727280" y="2384280"/>
            <a:chExt cx="6462360" cy="1487520"/>
          </a:xfrm>
        </p:grpSpPr>
        <p:sp>
          <p:nvSpPr>
            <p:cNvPr id="435" name=""/>
            <p:cNvSpPr/>
            <p:nvPr/>
          </p:nvSpPr>
          <p:spPr>
            <a:xfrm>
              <a:off x="172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71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MU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65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L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69692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QZZ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8728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D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677640" y="2784240"/>
              <a:ext cx="52164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LIB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68360" y="2784240"/>
              <a:ext cx="521280" cy="57276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AMD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2352240" y="2955600"/>
              <a:ext cx="260280" cy="228600"/>
              <a:chOff x="2352240" y="2955600"/>
              <a:chExt cx="260280" cy="228600"/>
            </a:xfrm>
          </p:grpSpPr>
          <p:sp>
            <p:nvSpPr>
              <p:cNvPr id="443" name=""/>
              <p:cNvSpPr/>
              <p:nvPr/>
            </p:nvSpPr>
            <p:spPr>
              <a:xfrm>
                <a:off x="240480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4048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566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084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5610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235224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235224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0" name=""/>
            <p:cNvGrpSpPr/>
            <p:nvPr/>
          </p:nvGrpSpPr>
          <p:grpSpPr>
            <a:xfrm>
              <a:off x="3342600" y="2955600"/>
              <a:ext cx="260280" cy="228600"/>
              <a:chOff x="3342600" y="2955600"/>
              <a:chExt cx="260280" cy="228600"/>
            </a:xfrm>
          </p:grpSpPr>
          <p:sp>
            <p:nvSpPr>
              <p:cNvPr id="451" name=""/>
              <p:cNvSpPr/>
              <p:nvPr/>
            </p:nvSpPr>
            <p:spPr>
              <a:xfrm>
                <a:off x="339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9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44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49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55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334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334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3342600" y="2384280"/>
              <a:ext cx="260280" cy="228240"/>
              <a:chOff x="3342600" y="2384280"/>
              <a:chExt cx="260280" cy="228240"/>
            </a:xfrm>
          </p:grpSpPr>
          <p:sp>
            <p:nvSpPr>
              <p:cNvPr id="459" name=""/>
              <p:cNvSpPr/>
              <p:nvPr/>
            </p:nvSpPr>
            <p:spPr>
              <a:xfrm>
                <a:off x="3395160" y="249768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39516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4470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49884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551400" y="2384280"/>
                <a:ext cx="51480" cy="22824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3342600" y="238428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3342600" y="261252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3811320" y="3528360"/>
              <a:ext cx="260280" cy="228600"/>
              <a:chOff x="3811320" y="3528360"/>
              <a:chExt cx="260280" cy="228600"/>
            </a:xfrm>
          </p:grpSpPr>
          <p:sp>
            <p:nvSpPr>
              <p:cNvPr id="467" name=""/>
              <p:cNvSpPr/>
              <p:nvPr/>
            </p:nvSpPr>
            <p:spPr>
              <a:xfrm>
                <a:off x="3863880" y="364212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6388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9157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96756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020120" y="352836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811320" y="35283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811320" y="375696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4332960" y="2955600"/>
              <a:ext cx="260280" cy="228600"/>
              <a:chOff x="4332960" y="2955600"/>
              <a:chExt cx="260280" cy="228600"/>
            </a:xfrm>
          </p:grpSpPr>
          <p:sp>
            <p:nvSpPr>
              <p:cNvPr id="475" name=""/>
              <p:cNvSpPr/>
              <p:nvPr/>
            </p:nvSpPr>
            <p:spPr>
              <a:xfrm>
                <a:off x="438552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3855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4373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4892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5417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433296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433296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5323320" y="2955600"/>
              <a:ext cx="260280" cy="228600"/>
              <a:chOff x="5323320" y="2955600"/>
              <a:chExt cx="260280" cy="228600"/>
            </a:xfrm>
          </p:grpSpPr>
          <p:sp>
            <p:nvSpPr>
              <p:cNvPr id="483" name=""/>
              <p:cNvSpPr/>
              <p:nvPr/>
            </p:nvSpPr>
            <p:spPr>
              <a:xfrm>
                <a:off x="537588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37588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4277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4795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53212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32332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32332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6312600" y="2955600"/>
              <a:ext cx="260280" cy="228600"/>
              <a:chOff x="6312600" y="2955600"/>
              <a:chExt cx="260280" cy="228600"/>
            </a:xfrm>
          </p:grpSpPr>
          <p:sp>
            <p:nvSpPr>
              <p:cNvPr id="491" name=""/>
              <p:cNvSpPr/>
              <p:nvPr/>
            </p:nvSpPr>
            <p:spPr>
              <a:xfrm>
                <a:off x="636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36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41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46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52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631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631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"/>
            <p:cNvGrpSpPr/>
            <p:nvPr/>
          </p:nvGrpSpPr>
          <p:grpSpPr>
            <a:xfrm>
              <a:off x="7302600" y="2955600"/>
              <a:ext cx="260280" cy="228600"/>
              <a:chOff x="7302600" y="2955600"/>
              <a:chExt cx="260280" cy="228600"/>
            </a:xfrm>
          </p:grpSpPr>
          <p:sp>
            <p:nvSpPr>
              <p:cNvPr id="499" name=""/>
              <p:cNvSpPr/>
              <p:nvPr/>
            </p:nvSpPr>
            <p:spPr>
              <a:xfrm>
                <a:off x="7355160" y="3069360"/>
                <a:ext cx="2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5516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4070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45884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511400" y="2955600"/>
                <a:ext cx="51480" cy="2286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7302600" y="29556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7302600" y="3184200"/>
                <a:ext cx="5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506" name=""/>
            <p:cNvCxnSpPr>
              <a:stCxn id="435" idx="6"/>
              <a:endCxn id="444" idx="1"/>
            </p:cNvCxnSpPr>
            <p:nvPr/>
          </p:nvCxnSpPr>
          <p:spPr>
            <a:xfrm>
              <a:off x="225504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"/>
            <p:cNvCxnSpPr>
              <a:stCxn id="447" idx="3"/>
              <a:endCxn id="436" idx="2"/>
            </p:cNvCxnSpPr>
            <p:nvPr/>
          </p:nvCxnSpPr>
          <p:spPr>
            <a:xfrm>
              <a:off x="2619720" y="3070080"/>
              <a:ext cx="9144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8" name=""/>
            <p:cNvCxnSpPr>
              <a:stCxn id="436" idx="6"/>
              <a:endCxn id="452" idx="1"/>
            </p:cNvCxnSpPr>
            <p:nvPr/>
          </p:nvCxnSpPr>
          <p:spPr>
            <a:xfrm>
              <a:off x="324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9" name=""/>
            <p:cNvCxnSpPr>
              <a:stCxn id="455" idx="3"/>
              <a:endCxn id="437" idx="2"/>
            </p:cNvCxnSpPr>
            <p:nvPr/>
          </p:nvCxnSpPr>
          <p:spPr>
            <a:xfrm>
              <a:off x="361044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0" name=""/>
            <p:cNvCxnSpPr>
              <a:stCxn id="436" idx="0"/>
              <a:endCxn id="460" idx="1"/>
            </p:cNvCxnSpPr>
            <p:nvPr/>
          </p:nvCxnSpPr>
          <p:spPr>
            <a:xfrm flipH="1" flipV="1" rot="5400000">
              <a:off x="3044160" y="2431800"/>
              <a:ext cx="277920" cy="410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1" name=""/>
            <p:cNvCxnSpPr>
              <a:stCxn id="463" idx="3"/>
              <a:endCxn id="437" idx="0"/>
            </p:cNvCxnSpPr>
            <p:nvPr/>
          </p:nvCxnSpPr>
          <p:spPr>
            <a:xfrm>
              <a:off x="3610440" y="2498760"/>
              <a:ext cx="357840" cy="2779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2" name=""/>
            <p:cNvCxnSpPr>
              <a:stCxn id="437" idx="6"/>
              <a:endCxn id="476" idx="1"/>
            </p:cNvCxnSpPr>
            <p:nvPr/>
          </p:nvCxnSpPr>
          <p:spPr>
            <a:xfrm>
              <a:off x="4234680" y="3070080"/>
              <a:ext cx="14436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3" name=""/>
            <p:cNvCxnSpPr>
              <a:stCxn id="479" idx="3"/>
              <a:endCxn id="438" idx="2"/>
            </p:cNvCxnSpPr>
            <p:nvPr/>
          </p:nvCxnSpPr>
          <p:spPr>
            <a:xfrm>
              <a:off x="460080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4" name=""/>
            <p:cNvCxnSpPr>
              <a:stCxn id="436" idx="4"/>
              <a:endCxn id="468" idx="1"/>
            </p:cNvCxnSpPr>
            <p:nvPr/>
          </p:nvCxnSpPr>
          <p:spPr>
            <a:xfrm flipH="1" rot="16200000">
              <a:off x="3277440" y="3063960"/>
              <a:ext cx="279360" cy="879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471" idx="3"/>
              <a:endCxn id="438" idx="4"/>
            </p:cNvCxnSpPr>
            <p:nvPr/>
          </p:nvCxnSpPr>
          <p:spPr>
            <a:xfrm flipV="1">
              <a:off x="4078800" y="3363840"/>
              <a:ext cx="879480" cy="2793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438" idx="6"/>
              <a:endCxn id="484" idx="1"/>
            </p:cNvCxnSpPr>
            <p:nvPr/>
          </p:nvCxnSpPr>
          <p:spPr>
            <a:xfrm>
              <a:off x="5225760" y="3070080"/>
              <a:ext cx="144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487" idx="3"/>
              <a:endCxn id="439" idx="2"/>
            </p:cNvCxnSpPr>
            <p:nvPr/>
          </p:nvCxnSpPr>
          <p:spPr>
            <a:xfrm>
              <a:off x="5591160" y="3070080"/>
              <a:ext cx="9000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8" name=""/>
            <p:cNvCxnSpPr>
              <a:stCxn id="439" idx="6"/>
              <a:endCxn id="492" idx="1"/>
            </p:cNvCxnSpPr>
            <p:nvPr/>
          </p:nvCxnSpPr>
          <p:spPr>
            <a:xfrm>
              <a:off x="621576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"/>
            <p:cNvCxnSpPr>
              <a:stCxn id="495" idx="3"/>
              <a:endCxn id="440" idx="2"/>
            </p:cNvCxnSpPr>
            <p:nvPr/>
          </p:nvCxnSpPr>
          <p:spPr>
            <a:xfrm>
              <a:off x="658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0" name=""/>
            <p:cNvCxnSpPr>
              <a:stCxn id="440" idx="6"/>
              <a:endCxn id="500" idx="1"/>
            </p:cNvCxnSpPr>
            <p:nvPr/>
          </p:nvCxnSpPr>
          <p:spPr>
            <a:xfrm>
              <a:off x="7206120" y="3070080"/>
              <a:ext cx="14292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03" idx="3"/>
              <a:endCxn id="441" idx="2"/>
            </p:cNvCxnSpPr>
            <p:nvPr/>
          </p:nvCxnSpPr>
          <p:spPr>
            <a:xfrm>
              <a:off x="7570080" y="3070080"/>
              <a:ext cx="91080" cy="10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5325120" y="3625560"/>
              <a:ext cx="199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xample TCG, MJPEG Deco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2592360" y="4005360"/>
            <a:ext cx="6191280" cy="2733480"/>
            <a:chOff x="2592360" y="4005360"/>
            <a:chExt cx="6191280" cy="2733480"/>
          </a:xfrm>
        </p:grpSpPr>
        <p:sp>
          <p:nvSpPr>
            <p:cNvPr id="524" name=""/>
            <p:cNvSpPr/>
            <p:nvPr/>
          </p:nvSpPr>
          <p:spPr>
            <a:xfrm>
              <a:off x="2592360" y="400536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504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012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012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759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9786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12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533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630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636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2408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02408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2408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178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8900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630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18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011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011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400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9340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655160" y="40064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913280" y="40856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6440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96440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387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418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0940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161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26200" y="410868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0952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8724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8724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8724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806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52160" y="47919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2620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984640" y="45295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64640" y="423324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64640" y="44272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0316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65516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97240" y="491724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719400" y="40064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977520" y="40856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028640" y="410868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028640" y="44503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803360" y="47919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0604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5860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880760" y="46785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390440" y="410868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73400" y="43358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51120" y="45064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151120" y="41198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151120" y="43128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45240" y="467712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6400" y="47919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390440" y="47919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48880" y="45295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228520" y="423324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28520" y="44272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267400" y="49165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19400" y="50994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061480" y="491724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9236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504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9012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12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59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86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312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533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2630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54636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2408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2408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02408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4178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88900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2630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218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011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11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400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39427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9340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55160" y="5372640"/>
              <a:ext cx="206424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13280" y="5451840"/>
              <a:ext cx="147060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96440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96440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7387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418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940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161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26200" y="5475240"/>
              <a:ext cx="67068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60952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8724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8724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08724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4806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952160" y="6158160"/>
              <a:ext cx="33552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32620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84640" y="5895720"/>
              <a:ext cx="102240" cy="79200"/>
            </a:xfrm>
            <a:prstGeom prst="leftRightArrow">
              <a:avLst>
                <a:gd name="adj1" fmla="val 50000"/>
                <a:gd name="adj2" fmla="val 2569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64640" y="559980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64640" y="5793480"/>
              <a:ext cx="64440" cy="79200"/>
            </a:xfrm>
            <a:prstGeom prst="upDownArrow">
              <a:avLst>
                <a:gd name="adj1" fmla="val 50000"/>
                <a:gd name="adj2" fmla="val 2446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316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65516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6200000">
              <a:off x="600588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97240" y="6283800"/>
              <a:ext cx="205920" cy="90360"/>
            </a:xfrm>
            <a:prstGeom prst="leftRightArrow">
              <a:avLst>
                <a:gd name="adj1" fmla="val 37019"/>
                <a:gd name="adj2" fmla="val 52245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719400" y="5372640"/>
              <a:ext cx="2063880" cy="1366200"/>
            </a:xfrm>
            <a:prstGeom prst="rect">
              <a:avLst/>
            </a:prstGeom>
            <a:solidFill>
              <a:srgbClr val="bbe0e3">
                <a:alpha val="2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977520" y="5451840"/>
              <a:ext cx="1470240" cy="979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8640" y="5475240"/>
              <a:ext cx="25812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28640" y="5816520"/>
              <a:ext cx="1032480" cy="22680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3360" y="6158160"/>
              <a:ext cx="258120" cy="227880"/>
            </a:xfrm>
            <a:prstGeom prst="rect">
              <a:avLst/>
            </a:prstGeom>
            <a:solidFill>
              <a:srgbClr val="ccff66"/>
            </a:solidFill>
            <a:ln w="28440">
              <a:solidFill>
                <a:srgbClr val="33cc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0604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860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880760" y="6044760"/>
              <a:ext cx="103320" cy="113400"/>
            </a:xfrm>
            <a:prstGeom prst="upDownArrow">
              <a:avLst>
                <a:gd name="adj1" fmla="val 50000"/>
                <a:gd name="adj2" fmla="val 21850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90440" y="5475240"/>
              <a:ext cx="671040" cy="2268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99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73400" y="5702040"/>
              <a:ext cx="103320" cy="114480"/>
            </a:xfrm>
            <a:prstGeom prst="upDownArrow">
              <a:avLst>
                <a:gd name="adj1" fmla="val 50000"/>
                <a:gd name="adj2" fmla="val 22057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51120" y="587268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151120" y="548604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51120" y="5679000"/>
              <a:ext cx="258120" cy="113400"/>
            </a:xfrm>
            <a:prstGeom prst="rect">
              <a:avLst/>
            </a:prstGeom>
            <a:solidFill>
              <a:srgbClr val="ff66cc"/>
            </a:solidFill>
            <a:ln w="28440">
              <a:solidFill>
                <a:srgbClr val="9900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45240" y="6043680"/>
              <a:ext cx="103320" cy="114120"/>
            </a:xfrm>
            <a:prstGeom prst="upDownArrow">
              <a:avLst>
                <a:gd name="adj1" fmla="val 50000"/>
                <a:gd name="adj2" fmla="val 21988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016400" y="6158160"/>
              <a:ext cx="335160" cy="22788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390440" y="6158160"/>
              <a:ext cx="374040" cy="226800"/>
            </a:xfrm>
            <a:prstGeom prst="rect">
              <a:avLst/>
            </a:prstGeom>
            <a:solidFill>
              <a:srgbClr val="ffcc00"/>
            </a:solidFill>
            <a:ln w="28440">
              <a:solidFill>
                <a:srgbClr val="ff9933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48880" y="5895720"/>
              <a:ext cx="101880" cy="79200"/>
            </a:xfrm>
            <a:prstGeom prst="leftRightArrow">
              <a:avLst>
                <a:gd name="adj1" fmla="val 50000"/>
                <a:gd name="adj2" fmla="val 256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228520" y="559980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228520" y="5793480"/>
              <a:ext cx="64800" cy="79200"/>
            </a:xfrm>
            <a:prstGeom prst="upDownArrow">
              <a:avLst>
                <a:gd name="adj1" fmla="val 50000"/>
                <a:gd name="adj2" fmla="val 24331"/>
              </a:avLst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267400" y="6282720"/>
              <a:ext cx="516240" cy="455760"/>
            </a:xfrm>
            <a:prstGeom prst="rect">
              <a:avLst/>
            </a:prstGeom>
            <a:solidFill>
              <a:srgbClr val="ccff66"/>
            </a:solidFill>
            <a:ln w="19080">
              <a:solidFill>
                <a:srgbClr val="80808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719400" y="6465600"/>
              <a:ext cx="1547640" cy="91080"/>
            </a:xfrm>
            <a:prstGeom prst="leftRightArrow">
              <a:avLst>
                <a:gd name="adj1" fmla="val 32593"/>
                <a:gd name="adj2" fmla="val 55539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8070120" y="5775840"/>
              <a:ext cx="910800" cy="102240"/>
            </a:xfrm>
            <a:prstGeom prst="leftRightArrow">
              <a:avLst>
                <a:gd name="adj1" fmla="val 37019"/>
                <a:gd name="adj2" fmla="val 47470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61480" y="6283800"/>
              <a:ext cx="205560" cy="90360"/>
            </a:xfrm>
            <a:prstGeom prst="leftRightArrow">
              <a:avLst>
                <a:gd name="adj1" fmla="val 37019"/>
                <a:gd name="adj2" fmla="val 52154"/>
              </a:avLst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444120" y="40968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2927520" y="4825080"/>
              <a:ext cx="258120" cy="181800"/>
              <a:chOff x="2927520" y="4825080"/>
              <a:chExt cx="258120" cy="181800"/>
            </a:xfrm>
          </p:grpSpPr>
          <p:sp>
            <p:nvSpPr>
              <p:cNvPr id="659" name=""/>
              <p:cNvSpPr/>
              <p:nvPr/>
            </p:nvSpPr>
            <p:spPr>
              <a:xfrm>
                <a:off x="29800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9800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0312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0823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1345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9275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9275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197320" y="4825080"/>
              <a:ext cx="258120" cy="181800"/>
              <a:chOff x="5197320" y="4825080"/>
              <a:chExt cx="258120" cy="181800"/>
            </a:xfrm>
          </p:grpSpPr>
          <p:sp>
            <p:nvSpPr>
              <p:cNvPr id="667" name=""/>
              <p:cNvSpPr/>
              <p:nvPr/>
            </p:nvSpPr>
            <p:spPr>
              <a:xfrm>
                <a:off x="5249880" y="491544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24988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30100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352120" y="482508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404320" y="482508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5197320" y="48250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5197320" y="500688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914000" y="4916520"/>
              <a:ext cx="258120" cy="181800"/>
              <a:chOff x="4914000" y="4916520"/>
              <a:chExt cx="258120" cy="181800"/>
            </a:xfrm>
          </p:grpSpPr>
          <p:sp>
            <p:nvSpPr>
              <p:cNvPr id="675" name=""/>
              <p:cNvSpPr/>
              <p:nvPr/>
            </p:nvSpPr>
            <p:spPr>
              <a:xfrm>
                <a:off x="4966560" y="50068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96656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01768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68800" y="49165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121000" y="49165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491400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914000" y="5098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5042880" y="6123960"/>
              <a:ext cx="258120" cy="181800"/>
              <a:chOff x="5042880" y="6123960"/>
              <a:chExt cx="258120" cy="181800"/>
            </a:xfrm>
          </p:grpSpPr>
          <p:sp>
            <p:nvSpPr>
              <p:cNvPr id="683" name=""/>
              <p:cNvSpPr/>
              <p:nvPr/>
            </p:nvSpPr>
            <p:spPr>
              <a:xfrm>
                <a:off x="5095440" y="6214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9544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14656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197680" y="6123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249880" y="6123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5042880" y="6123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5042880" y="6305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888080" y="4734720"/>
              <a:ext cx="258120" cy="181800"/>
              <a:chOff x="4888080" y="4734720"/>
              <a:chExt cx="258120" cy="181800"/>
            </a:xfrm>
          </p:grpSpPr>
          <p:sp>
            <p:nvSpPr>
              <p:cNvPr id="691" name=""/>
              <p:cNvSpPr/>
              <p:nvPr/>
            </p:nvSpPr>
            <p:spPr>
              <a:xfrm>
                <a:off x="494064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94064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917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4288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9508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88808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88808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7054560" y="5007960"/>
              <a:ext cx="258120" cy="181800"/>
              <a:chOff x="7054560" y="5007960"/>
              <a:chExt cx="258120" cy="181800"/>
            </a:xfrm>
          </p:grpSpPr>
          <p:sp>
            <p:nvSpPr>
              <p:cNvPr id="699" name=""/>
              <p:cNvSpPr/>
              <p:nvPr/>
            </p:nvSpPr>
            <p:spPr>
              <a:xfrm>
                <a:off x="7107120" y="509832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10712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15824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09360" y="500796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61560" y="500796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7054560" y="50079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7054560" y="518976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7054560" y="4734720"/>
              <a:ext cx="258120" cy="181800"/>
              <a:chOff x="7054560" y="4734720"/>
              <a:chExt cx="258120" cy="181800"/>
            </a:xfrm>
          </p:grpSpPr>
          <p:sp>
            <p:nvSpPr>
              <p:cNvPr id="707" name=""/>
              <p:cNvSpPr/>
              <p:nvPr/>
            </p:nvSpPr>
            <p:spPr>
              <a:xfrm>
                <a:off x="7107120" y="48250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10712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15824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209360" y="47347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261560" y="47347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7054560" y="47347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7054560" y="49165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7080840" y="6169320"/>
              <a:ext cx="258120" cy="181800"/>
              <a:chOff x="7080840" y="6169320"/>
              <a:chExt cx="258120" cy="181800"/>
            </a:xfrm>
          </p:grpSpPr>
          <p:sp>
            <p:nvSpPr>
              <p:cNvPr id="715" name=""/>
              <p:cNvSpPr/>
              <p:nvPr/>
            </p:nvSpPr>
            <p:spPr>
              <a:xfrm>
                <a:off x="7133400" y="6259680"/>
                <a:ext cx="20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13340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18452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235640" y="6169320"/>
                <a:ext cx="5076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87840" y="6169320"/>
                <a:ext cx="51120" cy="181800"/>
              </a:xfrm>
              <a:prstGeom prst="rect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7080840" y="61693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7080840" y="6351120"/>
                <a:ext cx="52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2" name=""/>
            <p:cNvSpPr/>
            <p:nvPr/>
          </p:nvSpPr>
          <p:spPr>
            <a:xfrm>
              <a:off x="4965840" y="405036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28640" y="402732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28640" y="4233240"/>
              <a:ext cx="25704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96584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71520" y="5463000"/>
              <a:ext cx="256680" cy="227880"/>
            </a:xfrm>
            <a:prstGeom prst="ellipse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ADAM (3)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ower and thermal management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V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8000" y="2206800"/>
            <a:ext cx="4103640" cy="309528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0920" y="2279520"/>
            <a:ext cx="72072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50920" y="3359160"/>
            <a:ext cx="288108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 interconn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411280" y="4440240"/>
            <a:ext cx="720720" cy="71928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-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6656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2720" y="407844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627280" y="407988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58920" y="2279520"/>
            <a:ext cx="1873080" cy="719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puting 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50920" y="2998800"/>
            <a:ext cx="289080" cy="360360"/>
          </a:xfrm>
          <a:prstGeom prst="upDownArrow">
            <a:avLst>
              <a:gd name="adj1" fmla="val 50000"/>
              <a:gd name="adj2" fmla="val 24816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384720" y="3538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384720" y="231444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384720" y="2925720"/>
            <a:ext cx="720720" cy="35892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692360" y="4078440"/>
            <a:ext cx="288720" cy="360360"/>
          </a:xfrm>
          <a:prstGeom prst="upDownArrow">
            <a:avLst>
              <a:gd name="adj1" fmla="val 50000"/>
              <a:gd name="adj2" fmla="val 24847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38160" y="2386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4200" y="4440240"/>
            <a:ext cx="938160" cy="7192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260360" y="4438800"/>
            <a:ext cx="1043280" cy="71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ip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97080" y="3610080"/>
            <a:ext cx="287640" cy="252360"/>
          </a:xfrm>
          <a:prstGeom prst="leftRightArrow">
            <a:avLst>
              <a:gd name="adj1" fmla="val 50000"/>
              <a:gd name="adj2" fmla="val 226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00360" y="267336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00360" y="3286080"/>
            <a:ext cx="181080" cy="252360"/>
          </a:xfrm>
          <a:prstGeom prst="upDownArrow">
            <a:avLst>
              <a:gd name="adj1" fmla="val 50000"/>
              <a:gd name="adj2" fmla="val 2774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708360" y="4834080"/>
            <a:ext cx="1440000" cy="144144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33800" y="4835520"/>
            <a:ext cx="574560" cy="287280"/>
          </a:xfrm>
          <a:prstGeom prst="leftRightArrow">
            <a:avLst>
              <a:gd name="adj1" fmla="val 37019"/>
              <a:gd name="adj2" fmla="val 4585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5440" y="267480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908000" y="267480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3754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33440" y="4870440"/>
            <a:ext cx="53964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512720" y="4870440"/>
            <a:ext cx="540000" cy="21600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2484360" y="2782440"/>
            <a:ext cx="865440" cy="863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99640" y="2782800"/>
            <a:ext cx="97308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85800" y="2890800"/>
            <a:ext cx="971640" cy="75564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20720" y="4006800"/>
            <a:ext cx="1044720" cy="82728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01800" y="5014800"/>
            <a:ext cx="574560" cy="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2089080" y="3898440"/>
            <a:ext cx="1295640" cy="1042920"/>
          </a:xfrm>
          <a:prstGeom prst="line">
            <a:avLst/>
          </a:prstGeom>
          <a:ln w="38160">
            <a:solidFill>
              <a:srgbClr val="99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4862520" y="2349360"/>
            <a:ext cx="42940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ns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ctuating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 local adap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ower consumption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ed for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ocal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Neighbors, Preventive, Measure aggreg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1"/>
          <a:stretch/>
        </p:blipFill>
        <p:spPr>
          <a:xfrm>
            <a:off x="7056360" y="6154560"/>
            <a:ext cx="190836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(4)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0620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6656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8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8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619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46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19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72728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04292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3820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10492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10492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0492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25892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2056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4292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6200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212920" y="270828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212920" y="3014640"/>
            <a:ext cx="90720" cy="125280"/>
          </a:xfrm>
          <a:prstGeom prst="upDownArrow">
            <a:avLst>
              <a:gd name="adj1" fmla="val 50000"/>
              <a:gd name="adj2" fmla="val 2749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6692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8764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4800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41964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41964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50072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52728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60036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0836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92436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1964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498636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98636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8636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14036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40200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92436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84344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509436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9436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514836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8764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6108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0620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56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8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8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619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46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9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72728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04292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43820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0492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0492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210492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25892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2056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4292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96200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12920" y="486720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212920" y="5173560"/>
            <a:ext cx="90720" cy="125640"/>
          </a:xfrm>
          <a:prstGeom prst="upDownArrow">
            <a:avLst>
              <a:gd name="adj1" fmla="val 50000"/>
              <a:gd name="adj2" fmla="val 2757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6692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 rot="16200000">
            <a:off x="1907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97964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98764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34800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41964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41964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450072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52728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0036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460836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92436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31964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98636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98636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98636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14036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40200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84344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09436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09436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14836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98764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6200000">
            <a:off x="478836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86108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863280" y="3643200"/>
            <a:ext cx="360720" cy="287280"/>
            <a:chOff x="863280" y="3643200"/>
            <a:chExt cx="360720" cy="287280"/>
          </a:xfrm>
        </p:grpSpPr>
        <p:sp>
          <p:nvSpPr>
            <p:cNvPr id="852" name=""/>
            <p:cNvSpPr/>
            <p:nvPr/>
          </p:nvSpPr>
          <p:spPr>
            <a:xfrm>
              <a:off x="93672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3672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00800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15236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86328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86328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468000" y="3787920"/>
            <a:ext cx="360720" cy="287280"/>
            <a:chOff x="468000" y="3787920"/>
            <a:chExt cx="360720" cy="287280"/>
          </a:xfrm>
        </p:grpSpPr>
        <p:sp>
          <p:nvSpPr>
            <p:cNvPr id="860" name=""/>
            <p:cNvSpPr/>
            <p:nvPr/>
          </p:nvSpPr>
          <p:spPr>
            <a:xfrm>
              <a:off x="54144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144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272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708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6800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46800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7" name=""/>
          <p:cNvGrpSpPr/>
          <p:nvPr/>
        </p:nvGrpSpPr>
        <p:grpSpPr>
          <a:xfrm>
            <a:off x="647280" y="5695920"/>
            <a:ext cx="360720" cy="287280"/>
            <a:chOff x="647280" y="5695920"/>
            <a:chExt cx="360720" cy="287280"/>
          </a:xfrm>
        </p:grpSpPr>
        <p:sp>
          <p:nvSpPr>
            <p:cNvPr id="868" name=""/>
            <p:cNvSpPr/>
            <p:nvPr/>
          </p:nvSpPr>
          <p:spPr>
            <a:xfrm>
              <a:off x="72072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72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9200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3636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64728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64728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431280" y="3500280"/>
            <a:ext cx="360720" cy="287280"/>
            <a:chOff x="431280" y="3500280"/>
            <a:chExt cx="360720" cy="287280"/>
          </a:xfrm>
        </p:grpSpPr>
        <p:sp>
          <p:nvSpPr>
            <p:cNvPr id="876" name=""/>
            <p:cNvSpPr/>
            <p:nvPr/>
          </p:nvSpPr>
          <p:spPr>
            <a:xfrm>
              <a:off x="50472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47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7600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43128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43128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3455640" y="3932280"/>
            <a:ext cx="360720" cy="287280"/>
            <a:chOff x="3455640" y="3932280"/>
            <a:chExt cx="360720" cy="287280"/>
          </a:xfrm>
        </p:grpSpPr>
        <p:sp>
          <p:nvSpPr>
            <p:cNvPr id="884" name=""/>
            <p:cNvSpPr/>
            <p:nvPr/>
          </p:nvSpPr>
          <p:spPr>
            <a:xfrm>
              <a:off x="352908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52908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60036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4472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45564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45564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3455640" y="3500280"/>
            <a:ext cx="360720" cy="287280"/>
            <a:chOff x="3455640" y="3500280"/>
            <a:chExt cx="360720" cy="287280"/>
          </a:xfrm>
        </p:grpSpPr>
        <p:sp>
          <p:nvSpPr>
            <p:cNvPr id="892" name=""/>
            <p:cNvSpPr/>
            <p:nvPr/>
          </p:nvSpPr>
          <p:spPr>
            <a:xfrm>
              <a:off x="352908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52908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0036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447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345564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45564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3492000" y="5767560"/>
            <a:ext cx="360720" cy="287280"/>
            <a:chOff x="3492000" y="5767560"/>
            <a:chExt cx="360720" cy="287280"/>
          </a:xfrm>
        </p:grpSpPr>
        <p:sp>
          <p:nvSpPr>
            <p:cNvPr id="900" name=""/>
            <p:cNvSpPr/>
            <p:nvPr/>
          </p:nvSpPr>
          <p:spPr>
            <a:xfrm>
              <a:off x="356544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544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63672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8108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349200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349200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53964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419640" y="238284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419640" y="270828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53964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7672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cessor lo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Immedi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ine-Grain Neighbor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arse-Grain, Global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ven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635280" y="2095560"/>
            <a:ext cx="1476360" cy="576360"/>
          </a:xfrm>
          <a:prstGeom prst="wedgeRectCallout">
            <a:avLst>
              <a:gd name="adj1" fmla="val -46023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332000" y="2851200"/>
            <a:ext cx="1476360" cy="57636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1"/>
          <a:stretch/>
        </p:blipFill>
        <p:spPr>
          <a:xfrm>
            <a:off x="7020000" y="1268280"/>
            <a:ext cx="197964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DAM (5):Re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4912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0948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112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112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76220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89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6184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870200" y="3411360"/>
            <a:ext cx="144360" cy="179640"/>
          </a:xfrm>
          <a:prstGeom prst="upDownArrow">
            <a:avLst>
              <a:gd name="adj1" fmla="val 50000"/>
              <a:gd name="adj2" fmla="val 24772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185840" y="251136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158112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24784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4784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24784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40184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6348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8584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10492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35584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35584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40984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122560" y="378936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130560" y="2349360"/>
            <a:ext cx="2881440" cy="215928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3490920" y="247500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62200" y="251136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3562200" y="3051000"/>
            <a:ext cx="1441440" cy="35892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4643280" y="359100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3670200" y="2870280"/>
            <a:ext cx="144720" cy="180720"/>
          </a:xfrm>
          <a:prstGeom prst="upDownArrow">
            <a:avLst>
              <a:gd name="adj1" fmla="val 50000"/>
              <a:gd name="adj2" fmla="val 2485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3743280" y="340992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4751280" y="3411360"/>
            <a:ext cx="144720" cy="179640"/>
          </a:xfrm>
          <a:prstGeom prst="upDownArrow">
            <a:avLst>
              <a:gd name="adj1" fmla="val 50000"/>
              <a:gd name="adj2" fmla="val 2471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067280" y="251136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62560" y="2870280"/>
            <a:ext cx="144360" cy="180720"/>
          </a:xfrm>
          <a:prstGeom prst="upDownArrow">
            <a:avLst>
              <a:gd name="adj1" fmla="val 50000"/>
              <a:gd name="adj2" fmla="val 2492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129280" y="313992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129280" y="25290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129280" y="2833560"/>
            <a:ext cx="360360" cy="17964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282920" y="340992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544920" y="359100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67280" y="3591000"/>
            <a:ext cx="522360" cy="3585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86360" y="317664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237280" y="270828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237280" y="3014640"/>
            <a:ext cx="90360" cy="125280"/>
          </a:xfrm>
          <a:prstGeom prst="upDownArrow">
            <a:avLst>
              <a:gd name="adj1" fmla="val 50000"/>
              <a:gd name="adj2" fmla="val 2760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291280" y="378792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30560" y="4076640"/>
            <a:ext cx="2160720" cy="144360"/>
          </a:xfrm>
          <a:prstGeom prst="leftRightArrow">
            <a:avLst>
              <a:gd name="adj1" fmla="val 32593"/>
              <a:gd name="adj2" fmla="val 4892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003640" y="378936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24912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0948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112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8112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76220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89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86184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1870200" y="5570640"/>
            <a:ext cx="144360" cy="179280"/>
          </a:xfrm>
          <a:prstGeom prst="upDownArrow">
            <a:avLst>
              <a:gd name="adj1" fmla="val 50000"/>
              <a:gd name="adj2" fmla="val 24723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185840" y="4670280"/>
            <a:ext cx="93672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8112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24784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4784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24784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40184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6348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18584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0492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35584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35584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240984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rot="16200000">
            <a:off x="2050200" y="5155560"/>
            <a:ext cx="1440000" cy="142560"/>
          </a:xfrm>
          <a:prstGeom prst="leftRightArrow">
            <a:avLst>
              <a:gd name="adj1" fmla="val 37019"/>
              <a:gd name="adj2" fmla="val 53825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2122560" y="5948280"/>
            <a:ext cx="287280" cy="142920"/>
          </a:xfrm>
          <a:prstGeom prst="leftRightArrow">
            <a:avLst>
              <a:gd name="adj1" fmla="val 37019"/>
              <a:gd name="adj2" fmla="val 460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30560" y="4508640"/>
            <a:ext cx="2881440" cy="2158920"/>
          </a:xfrm>
          <a:prstGeom prst="rect">
            <a:avLst/>
          </a:prstGeom>
          <a:solidFill>
            <a:srgbClr val="bbe0e3">
              <a:alpha val="2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490920" y="4633920"/>
            <a:ext cx="2052720" cy="1547640"/>
          </a:xfrm>
          <a:prstGeom prst="rect">
            <a:avLst/>
          </a:prstGeom>
          <a:solidFill>
            <a:srgbClr val="dddddd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562200" y="4670280"/>
            <a:ext cx="360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562200" y="5210280"/>
            <a:ext cx="1441440" cy="3585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643280" y="5749920"/>
            <a:ext cx="360360" cy="360360"/>
          </a:xfrm>
          <a:prstGeom prst="rect">
            <a:avLst/>
          </a:prstGeom>
          <a:solidFill>
            <a:srgbClr val="ccff66"/>
          </a:solidFill>
          <a:ln w="28440">
            <a:solidFill>
              <a:srgbClr val="33cc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670200" y="502920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743280" y="556884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751280" y="5570640"/>
            <a:ext cx="144720" cy="179280"/>
          </a:xfrm>
          <a:prstGeom prst="upDownArrow">
            <a:avLst>
              <a:gd name="adj1" fmla="val 50000"/>
              <a:gd name="adj2" fmla="val 2466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067280" y="4670280"/>
            <a:ext cx="936360" cy="3589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462560" y="5029200"/>
            <a:ext cx="144360" cy="181080"/>
          </a:xfrm>
          <a:prstGeom prst="upDownArrow">
            <a:avLst>
              <a:gd name="adj1" fmla="val 50000"/>
              <a:gd name="adj2" fmla="val 24971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129280" y="529920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129280" y="468792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129280" y="4992840"/>
            <a:ext cx="360360" cy="179280"/>
          </a:xfrm>
          <a:prstGeom prst="rect">
            <a:avLst/>
          </a:prstGeom>
          <a:solidFill>
            <a:srgbClr val="ff66cc"/>
          </a:solidFill>
          <a:ln w="28440">
            <a:solidFill>
              <a:srgbClr val="9900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282920" y="5568840"/>
            <a:ext cx="144720" cy="181080"/>
          </a:xfrm>
          <a:prstGeom prst="upDownArrow">
            <a:avLst>
              <a:gd name="adj1" fmla="val 50000"/>
              <a:gd name="adj2" fmla="val 24909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544920" y="5749920"/>
            <a:ext cx="468360" cy="36036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4067280" y="5749920"/>
            <a:ext cx="522360" cy="358920"/>
          </a:xfrm>
          <a:prstGeom prst="rect">
            <a:avLst/>
          </a:prstGeom>
          <a:solidFill>
            <a:srgbClr val="ffcc00"/>
          </a:solidFill>
          <a:ln w="28440">
            <a:solidFill>
              <a:srgbClr val="ff9933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986360" y="5335560"/>
            <a:ext cx="142920" cy="125280"/>
          </a:xfrm>
          <a:prstGeom prst="leftRightArrow">
            <a:avLst>
              <a:gd name="adj1" fmla="val 50000"/>
              <a:gd name="adj2" fmla="val 227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5237280" y="486720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5237280" y="5173560"/>
            <a:ext cx="90360" cy="125640"/>
          </a:xfrm>
          <a:prstGeom prst="upDownArrow">
            <a:avLst>
              <a:gd name="adj1" fmla="val 50000"/>
              <a:gd name="adj2" fmla="val 27680"/>
            </a:avLst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291280" y="5946840"/>
            <a:ext cx="720720" cy="720720"/>
          </a:xfrm>
          <a:prstGeom prst="rect">
            <a:avLst/>
          </a:prstGeom>
          <a:solidFill>
            <a:srgbClr val="ccff66"/>
          </a:solidFill>
          <a:ln w="1908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3130560" y="6235560"/>
            <a:ext cx="2160720" cy="144720"/>
          </a:xfrm>
          <a:prstGeom prst="leftRightArrow">
            <a:avLst>
              <a:gd name="adj1" fmla="val 32593"/>
              <a:gd name="adj2" fmla="val 4880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 rot="16200000">
            <a:off x="4931280" y="5155200"/>
            <a:ext cx="1440000" cy="142920"/>
          </a:xfrm>
          <a:prstGeom prst="leftRightArrow">
            <a:avLst>
              <a:gd name="adj1" fmla="val 37019"/>
              <a:gd name="adj2" fmla="val 5369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003640" y="5948280"/>
            <a:ext cx="287640" cy="142920"/>
          </a:xfrm>
          <a:prstGeom prst="leftRightArrow">
            <a:avLst>
              <a:gd name="adj1" fmla="val 37019"/>
              <a:gd name="adj2" fmla="val 46140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006200" y="3643200"/>
            <a:ext cx="360720" cy="287280"/>
            <a:chOff x="1006200" y="3643200"/>
            <a:chExt cx="360720" cy="287280"/>
          </a:xfrm>
        </p:grpSpPr>
        <p:sp>
          <p:nvSpPr>
            <p:cNvPr id="1006" name=""/>
            <p:cNvSpPr/>
            <p:nvPr/>
          </p:nvSpPr>
          <p:spPr>
            <a:xfrm>
              <a:off x="1079640" y="378612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07964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15092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22560" y="364320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95280" y="364320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1006200" y="364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1006200" y="39304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610920" y="3787920"/>
            <a:ext cx="360720" cy="287280"/>
            <a:chOff x="610920" y="3787920"/>
            <a:chExt cx="360720" cy="287280"/>
          </a:xfrm>
        </p:grpSpPr>
        <p:sp>
          <p:nvSpPr>
            <p:cNvPr id="1014" name=""/>
            <p:cNvSpPr/>
            <p:nvPr/>
          </p:nvSpPr>
          <p:spPr>
            <a:xfrm>
              <a:off x="684360" y="3930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8436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5564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27280" y="3787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900000" y="3787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610920" y="3787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610920" y="4075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90200" y="5695920"/>
            <a:ext cx="360720" cy="287280"/>
            <a:chOff x="790200" y="5695920"/>
            <a:chExt cx="360720" cy="287280"/>
          </a:xfrm>
        </p:grpSpPr>
        <p:sp>
          <p:nvSpPr>
            <p:cNvPr id="1022" name=""/>
            <p:cNvSpPr/>
            <p:nvPr/>
          </p:nvSpPr>
          <p:spPr>
            <a:xfrm>
              <a:off x="863640" y="583884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6364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93492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006560" y="569592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79280" y="569592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90200" y="569592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790200" y="598320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574200" y="3500280"/>
            <a:ext cx="360720" cy="287280"/>
            <a:chOff x="574200" y="3500280"/>
            <a:chExt cx="360720" cy="287280"/>
          </a:xfrm>
        </p:grpSpPr>
        <p:sp>
          <p:nvSpPr>
            <p:cNvPr id="1030" name=""/>
            <p:cNvSpPr/>
            <p:nvPr/>
          </p:nvSpPr>
          <p:spPr>
            <a:xfrm>
              <a:off x="64764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4764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1892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9056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6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57420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7420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"/>
          <p:cNvGrpSpPr/>
          <p:nvPr/>
        </p:nvGrpSpPr>
        <p:grpSpPr>
          <a:xfrm>
            <a:off x="3598560" y="3932280"/>
            <a:ext cx="360720" cy="287280"/>
            <a:chOff x="3598560" y="3932280"/>
            <a:chExt cx="360720" cy="287280"/>
          </a:xfrm>
        </p:grpSpPr>
        <p:sp>
          <p:nvSpPr>
            <p:cNvPr id="1038" name=""/>
            <p:cNvSpPr/>
            <p:nvPr/>
          </p:nvSpPr>
          <p:spPr>
            <a:xfrm>
              <a:off x="3672000" y="4075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7200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74328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14920" y="3932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87640" y="3932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598560" y="3932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3598560" y="4219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"/>
          <p:cNvGrpSpPr/>
          <p:nvPr/>
        </p:nvGrpSpPr>
        <p:grpSpPr>
          <a:xfrm>
            <a:off x="3598560" y="3500280"/>
            <a:ext cx="360720" cy="287280"/>
            <a:chOff x="3598560" y="3500280"/>
            <a:chExt cx="360720" cy="287280"/>
          </a:xfrm>
        </p:grpSpPr>
        <p:sp>
          <p:nvSpPr>
            <p:cNvPr id="1046" name=""/>
            <p:cNvSpPr/>
            <p:nvPr/>
          </p:nvSpPr>
          <p:spPr>
            <a:xfrm>
              <a:off x="3672000" y="36432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67200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4328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814920" y="350028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887640" y="350028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3598560" y="350028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3598560" y="378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3634920" y="5767560"/>
            <a:ext cx="360720" cy="287280"/>
            <a:chOff x="3634920" y="5767560"/>
            <a:chExt cx="360720" cy="287280"/>
          </a:xfrm>
        </p:grpSpPr>
        <p:sp>
          <p:nvSpPr>
            <p:cNvPr id="1054" name=""/>
            <p:cNvSpPr/>
            <p:nvPr/>
          </p:nvSpPr>
          <p:spPr>
            <a:xfrm>
              <a:off x="3708360" y="59104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70836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77964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51280" y="5767560"/>
              <a:ext cx="7128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924000" y="5767560"/>
              <a:ext cx="71640" cy="287280"/>
            </a:xfrm>
            <a:prstGeom prst="rect">
              <a:avLst/>
            </a:prstGeom>
            <a:solidFill>
              <a:srgbClr val="b2b2b2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3634920" y="576756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3634920" y="6054840"/>
              <a:ext cx="73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1" name=""/>
          <p:cNvSpPr/>
          <p:nvPr/>
        </p:nvSpPr>
        <p:spPr>
          <a:xfrm>
            <a:off x="682560" y="2419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562200" y="238284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562200" y="270828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82560" y="4651200"/>
            <a:ext cx="35892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4319640" y="4651200"/>
            <a:ext cx="358560" cy="36036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12000" y="233208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ens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W actu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ccuring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ven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=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ivity cou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W Fifo usag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 level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of respons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cal, Reactiv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asure aggreg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eighbors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lobal, Rea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3743280" y="3211560"/>
            <a:ext cx="1835280" cy="576360"/>
          </a:xfrm>
          <a:prstGeom prst="wedgeRectCallout">
            <a:avLst>
              <a:gd name="adj1" fmla="val -46800"/>
              <a:gd name="adj2" fmla="val 7121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AM segment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1835280" y="1808280"/>
            <a:ext cx="1476360" cy="576000"/>
          </a:xfrm>
          <a:prstGeom prst="wedgeRectCallout">
            <a:avLst>
              <a:gd name="adj1" fmla="val -63009"/>
              <a:gd name="adj2" fmla="val 103444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ile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73280" y="4040280"/>
            <a:ext cx="1834920" cy="576000"/>
          </a:xfrm>
          <a:prstGeom prst="wedgeRectCallout">
            <a:avLst>
              <a:gd name="adj1" fmla="val -45416"/>
              <a:gd name="adj2" fmla="val 8416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o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" descr=""/>
          <p:cNvPicPr/>
          <p:nvPr/>
        </p:nvPicPr>
        <p:blipFill>
          <a:blip r:embed="rId1"/>
          <a:stretch/>
        </p:blipFill>
        <p:spPr>
          <a:xfrm>
            <a:off x="7920000" y="260280"/>
            <a:ext cx="936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/>
          <p:nvPr/>
        </p:nvSpPr>
        <p:spPr>
          <a:xfrm>
            <a:off x="395280" y="2206800"/>
            <a:ext cx="3384720" cy="20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ETER : Seismic perturbation WS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468360" y="1557360"/>
            <a:ext cx="8207280" cy="433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 GHz communication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6836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8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26036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052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84472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68360" y="3286080"/>
            <a:ext cx="302400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320364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4328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26036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5272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6843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000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82692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19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241128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20364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34656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98620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619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41128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4656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98620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284328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20364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 flipH="1">
            <a:off x="2771280" y="2854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277164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1618920" y="256536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61928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226836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176364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6364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V="1">
            <a:off x="1332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111600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349236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V="1">
            <a:off x="370836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349236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68360" y="4510080"/>
            <a:ext cx="8207280" cy="4334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 perturbation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41128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37080" y="2278080"/>
            <a:ext cx="64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3708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229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2144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7813800" y="2782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437080" y="3286080"/>
            <a:ext cx="302436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conn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17236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7812000" y="2278080"/>
            <a:ext cx="287280" cy="431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29440" y="3790800"/>
            <a:ext cx="64764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2144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ism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5653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8690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796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8800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7380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8172360" y="321480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831528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954920" y="2709720"/>
            <a:ext cx="0" cy="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58800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380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31528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954920" y="1990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7812000" y="3790800"/>
            <a:ext cx="647640" cy="432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99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t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8172360" y="3718080"/>
            <a:ext cx="0" cy="7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740720" y="28544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 flipV="1">
            <a:off x="7740720" y="256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6588000" y="25653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58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237440" y="2638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 flipH="1">
            <a:off x="6732720" y="26384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732720" y="26384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630072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608472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461440" y="400680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8677440" y="2494080"/>
            <a:ext cx="0" cy="1512720"/>
          </a:xfrm>
          <a:prstGeom prst="line">
            <a:avLst/>
          </a:prstGeom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461440" y="2494080"/>
            <a:ext cx="216000" cy="0"/>
          </a:xfrm>
          <a:prstGeom prst="line">
            <a:avLst/>
          </a:prstGeom>
          <a:ln w="38160">
            <a:solidFill>
              <a:srgbClr val="ff99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7380360" y="42228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1076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379480" y="40068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432320" y="307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68360" y="5229360"/>
            <a:ext cx="6476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227960" y="5157720"/>
            <a:ext cx="178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gital, BCA, SocLi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468360" y="5805360"/>
            <a:ext cx="647640" cy="2160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1179360" y="5734080"/>
            <a:ext cx="34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Physics,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Σ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68360" y="6093000"/>
            <a:ext cx="647640" cy="215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179360" y="6021360"/>
            <a:ext cx="36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ELN, Electrical,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68360" y="5516640"/>
            <a:ext cx="647640" cy="216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183680" y="5445000"/>
            <a:ext cx="273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alog, SystemC-AMS TDF, R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68360" y="6381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184040" y="631044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mbedded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187280" y="4149720"/>
            <a:ext cx="648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156360" y="4149720"/>
            <a:ext cx="64764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5796000" y="5084640"/>
            <a:ext cx="28872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94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622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651672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80400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709308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738036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7667640" y="5013360"/>
            <a:ext cx="0" cy="184464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5651640" y="5229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5651640" y="551664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651640" y="580536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651640" y="6093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5651640" y="638172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5651640" y="6669000"/>
            <a:ext cx="2305080" cy="0"/>
          </a:xfrm>
          <a:prstGeom prst="line">
            <a:avLst/>
          </a:prstGeom>
          <a:ln w="9360">
            <a:solidFill>
              <a:srgbClr val="808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524720" y="5084640"/>
            <a:ext cx="28908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524720" y="6237360"/>
            <a:ext cx="28908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5796000" y="6237360"/>
            <a:ext cx="288720" cy="28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789084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298480" y="508464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9848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890840" y="623736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30836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308720" y="602136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7477560" y="587700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xe,y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6948360" y="5661000"/>
            <a:ext cx="863640" cy="86364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940360" y="5229360"/>
            <a:ext cx="1079640" cy="647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5940360" y="6165720"/>
            <a:ext cx="1008000" cy="216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7524720" y="5229360"/>
            <a:ext cx="142920" cy="4600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932360" y="3357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4932360" y="37180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4932360" y="4078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4932360" y="52308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4932360" y="55911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 flipH="1">
            <a:off x="5001840" y="3286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5001840" y="364644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 flipH="1">
            <a:off x="5001840" y="4006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5001840" y="515772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5001840" y="551808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076720" y="3502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5076720" y="3862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076720" y="5014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5076720" y="5373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076720" y="31417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997440" y="544680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3853080" y="508644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385416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78216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37083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1261080" y="4365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727240" y="321480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726880" y="357336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726160" y="3933720"/>
            <a:ext cx="116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797800" y="5446800"/>
            <a:ext cx="10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797800" y="50864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ystème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88080" y="1773360"/>
            <a:ext cx="83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ur 32 bits MIPS R3000 simplifié + mémoire d’instructions et de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4572000" y="2852640"/>
            <a:ext cx="1440000" cy="3313080"/>
          </a:xfrm>
          <a:prstGeom prst="rect">
            <a:avLst/>
          </a:prstGeom>
          <a:noFill/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3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tandard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tual Component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jà obsolète, mais les principes restent simultanément simples et pui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mplacé par OCP (VCI/O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VCI/OCP en CABA: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intérêt des autom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187280" y="1268280"/>
            <a:ext cx="208944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iti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156360" y="1268280"/>
            <a:ext cx="2303280" cy="41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3276720" y="1846440"/>
            <a:ext cx="2879640" cy="337320"/>
            <a:chOff x="3276720" y="1846440"/>
            <a:chExt cx="2879640" cy="337320"/>
          </a:xfrm>
        </p:grpSpPr>
        <p:sp>
          <p:nvSpPr>
            <p:cNvPr id="1242" name=""/>
            <p:cNvSpPr/>
            <p:nvPr/>
          </p:nvSpPr>
          <p:spPr>
            <a:xfrm>
              <a:off x="3276720" y="213372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203000" y="18464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3276360" y="2708280"/>
            <a:ext cx="2879640" cy="337320"/>
            <a:chOff x="3276360" y="2708280"/>
            <a:chExt cx="2879640" cy="337320"/>
          </a:xfrm>
        </p:grpSpPr>
        <p:sp>
          <p:nvSpPr>
            <p:cNvPr id="1245" name=""/>
            <p:cNvSpPr/>
            <p:nvPr/>
          </p:nvSpPr>
          <p:spPr>
            <a:xfrm flipH="1">
              <a:off x="3276360" y="270828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203000" y="2708280"/>
              <a:ext cx="106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7" name=""/>
          <p:cNvGrpSpPr/>
          <p:nvPr/>
        </p:nvGrpSpPr>
        <p:grpSpPr>
          <a:xfrm>
            <a:off x="3276720" y="2205000"/>
            <a:ext cx="2879640" cy="337320"/>
            <a:chOff x="3276720" y="2205000"/>
            <a:chExt cx="2879640" cy="337320"/>
          </a:xfrm>
        </p:grpSpPr>
        <p:sp>
          <p:nvSpPr>
            <p:cNvPr id="1248" name=""/>
            <p:cNvSpPr/>
            <p:nvPr/>
          </p:nvSpPr>
          <p:spPr>
            <a:xfrm>
              <a:off x="3276720" y="249228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57800" y="2205000"/>
              <a:ext cx="64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M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0" name=""/>
          <p:cNvGrpSpPr/>
          <p:nvPr/>
        </p:nvGrpSpPr>
        <p:grpSpPr>
          <a:xfrm>
            <a:off x="3276720" y="3141720"/>
            <a:ext cx="2879640" cy="337320"/>
            <a:chOff x="3276720" y="3141720"/>
            <a:chExt cx="2879640" cy="337320"/>
          </a:xfrm>
        </p:grpSpPr>
        <p:sp>
          <p:nvSpPr>
            <p:cNvPr id="1251" name=""/>
            <p:cNvSpPr/>
            <p:nvPr/>
          </p:nvSpPr>
          <p:spPr>
            <a:xfrm>
              <a:off x="3276720" y="342900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202280" y="3141720"/>
              <a:ext cx="1015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3276360" y="4003560"/>
            <a:ext cx="2879640" cy="339120"/>
            <a:chOff x="3276360" y="4003560"/>
            <a:chExt cx="2879640" cy="339120"/>
          </a:xfrm>
        </p:grpSpPr>
        <p:sp>
          <p:nvSpPr>
            <p:cNvPr id="1254" name=""/>
            <p:cNvSpPr/>
            <p:nvPr/>
          </p:nvSpPr>
          <p:spPr>
            <a:xfrm flipH="1">
              <a:off x="3276360" y="4003560"/>
              <a:ext cx="287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213080" y="400536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3276720" y="3500280"/>
            <a:ext cx="2879640" cy="337320"/>
            <a:chOff x="3276720" y="3500280"/>
            <a:chExt cx="2879640" cy="337320"/>
          </a:xfrm>
        </p:grpSpPr>
        <p:sp>
          <p:nvSpPr>
            <p:cNvPr id="1257" name=""/>
            <p:cNvSpPr/>
            <p:nvPr/>
          </p:nvSpPr>
          <p:spPr>
            <a:xfrm>
              <a:off x="3276720" y="3787920"/>
              <a:ext cx="287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56720" y="3500280"/>
              <a:ext cx="59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S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6948360" y="3141720"/>
            <a:ext cx="936720" cy="953280"/>
            <a:chOff x="6948360" y="3141720"/>
            <a:chExt cx="936720" cy="953280"/>
          </a:xfrm>
        </p:grpSpPr>
        <p:sp>
          <p:nvSpPr>
            <p:cNvPr id="1260" name=""/>
            <p:cNvSpPr/>
            <p:nvPr/>
          </p:nvSpPr>
          <p:spPr>
            <a:xfrm>
              <a:off x="7308720" y="314172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66908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48360" y="3646440"/>
              <a:ext cx="21600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3" name=""/>
            <p:cNvCxnSpPr>
              <a:stCxn id="1260" idx="6"/>
              <a:endCxn id="1261" idx="0"/>
            </p:cNvCxnSpPr>
            <p:nvPr/>
          </p:nvCxnSpPr>
          <p:spPr>
            <a:xfrm>
              <a:off x="7538760" y="3249720"/>
              <a:ext cx="23904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4" name=""/>
            <p:cNvCxnSpPr>
              <a:stCxn id="1261" idx="4"/>
              <a:endCxn id="1262" idx="5"/>
            </p:cNvCxnSpPr>
            <p:nvPr/>
          </p:nvCxnSpPr>
          <p:spPr>
            <a:xfrm flipV="1" rot="16200000">
              <a:off x="743832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5" name=""/>
            <p:cNvCxnSpPr>
              <a:stCxn id="1262" idx="0"/>
              <a:endCxn id="1260" idx="2"/>
            </p:cNvCxnSpPr>
            <p:nvPr/>
          </p:nvCxnSpPr>
          <p:spPr>
            <a:xfrm flipH="1" flipV="1" rot="5400000">
              <a:off x="6983640" y="3321360"/>
              <a:ext cx="383040" cy="23868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266" name=""/>
          <p:cNvGrpSpPr/>
          <p:nvPr/>
        </p:nvGrpSpPr>
        <p:grpSpPr>
          <a:xfrm>
            <a:off x="1908000" y="3141720"/>
            <a:ext cx="936360" cy="953280"/>
            <a:chOff x="1908000" y="3141720"/>
            <a:chExt cx="936360" cy="953280"/>
          </a:xfrm>
        </p:grpSpPr>
        <p:sp>
          <p:nvSpPr>
            <p:cNvPr id="1267" name=""/>
            <p:cNvSpPr/>
            <p:nvPr/>
          </p:nvSpPr>
          <p:spPr>
            <a:xfrm>
              <a:off x="2268360" y="3141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62872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1908000" y="36464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0" name=""/>
            <p:cNvCxnSpPr>
              <a:stCxn id="1267" idx="6"/>
              <a:endCxn id="1268" idx="0"/>
            </p:cNvCxnSpPr>
            <p:nvPr/>
          </p:nvCxnSpPr>
          <p:spPr>
            <a:xfrm>
              <a:off x="2498040" y="324972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1" name=""/>
            <p:cNvCxnSpPr>
              <a:stCxn id="1268" idx="4"/>
              <a:endCxn id="1269" idx="5"/>
            </p:cNvCxnSpPr>
            <p:nvPr/>
          </p:nvCxnSpPr>
          <p:spPr>
            <a:xfrm flipV="1" rot="16200000">
              <a:off x="2397600" y="353772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2" name=""/>
            <p:cNvCxnSpPr>
              <a:stCxn id="1269" idx="0"/>
              <a:endCxn id="1267" idx="2"/>
            </p:cNvCxnSpPr>
            <p:nvPr/>
          </p:nvCxnSpPr>
          <p:spPr>
            <a:xfrm flipH="1" flipV="1" rot="5400000">
              <a:off x="1943280" y="332136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73" name=""/>
          <p:cNvSpPr/>
          <p:nvPr/>
        </p:nvSpPr>
        <p:spPr>
          <a:xfrm>
            <a:off x="306072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56360" y="1916280"/>
            <a:ext cx="216000" cy="2376360"/>
          </a:xfrm>
          <a:prstGeom prst="rect">
            <a:avLst/>
          </a:prstGeom>
          <a:solidFill>
            <a:srgbClr val="0099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automates de VCI en CA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1258920" y="148428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1258920" y="306864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1763640" y="241920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9" name=""/>
          <p:cNvCxnSpPr>
            <a:stCxn id="1277" idx="5"/>
            <a:endCxn id="1277" idx="6"/>
          </p:cNvCxnSpPr>
          <p:nvPr/>
        </p:nvCxnSpPr>
        <p:spPr>
          <a:xfrm flipH="1" flipV="1" rot="5400000">
            <a:off x="2027160" y="362844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0" name=""/>
          <p:cNvSpPr/>
          <p:nvPr/>
        </p:nvSpPr>
        <p:spPr>
          <a:xfrm>
            <a:off x="330120" y="3716280"/>
            <a:ext cx="112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42160" y="306864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1258920" y="5157720"/>
            <a:ext cx="100800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 WR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763640" y="400356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4" name=""/>
          <p:cNvCxnSpPr>
            <a:stCxn id="1282" idx="5"/>
            <a:endCxn id="1282" idx="6"/>
          </p:cNvCxnSpPr>
          <p:nvPr/>
        </p:nvCxnSpPr>
        <p:spPr>
          <a:xfrm flipH="1" flipV="1" rot="5400000">
            <a:off x="2026800" y="5717880"/>
            <a:ext cx="332640" cy="148320"/>
          </a:xfrm>
          <a:prstGeom prst="curvedConnector5">
            <a:avLst>
              <a:gd name="adj1" fmla="val -109967"/>
              <a:gd name="adj2" fmla="val 229440"/>
              <a:gd name="adj3" fmla="val -109967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5" name=""/>
          <p:cNvSpPr/>
          <p:nvPr/>
        </p:nvSpPr>
        <p:spPr>
          <a:xfrm>
            <a:off x="330840" y="5805360"/>
            <a:ext cx="1114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341440" y="515772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13080" y="42195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63640" y="6093000"/>
            <a:ext cx="0" cy="64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612720" y="6308640"/>
            <a:ext cx="108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763640" y="4797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549440" y="4437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084720" y="314172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3" name=""/>
          <p:cNvCxnSpPr>
            <a:stCxn id="1292" idx="5"/>
            <a:endCxn id="1292" idx="6"/>
          </p:cNvCxnSpPr>
          <p:nvPr/>
        </p:nvCxnSpPr>
        <p:spPr>
          <a:xfrm flipH="1" flipV="1" rot="5400000">
            <a:off x="6853320" y="370152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4" name=""/>
          <p:cNvSpPr/>
          <p:nvPr/>
        </p:nvSpPr>
        <p:spPr>
          <a:xfrm>
            <a:off x="5156640" y="378936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167240" y="31417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6589800" y="407664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438520" y="4292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37560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364000" y="5013360"/>
            <a:ext cx="1008360" cy="936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0" name=""/>
          <p:cNvCxnSpPr>
            <a:stCxn id="1299" idx="5"/>
            <a:endCxn id="1299" idx="6"/>
          </p:cNvCxnSpPr>
          <p:nvPr/>
        </p:nvCxnSpPr>
        <p:spPr>
          <a:xfrm flipH="1" flipV="1" rot="5400000">
            <a:off x="6132600" y="5573160"/>
            <a:ext cx="332280" cy="148320"/>
          </a:xfrm>
          <a:prstGeom prst="curvedConnector5">
            <a:avLst>
              <a:gd name="adj1" fmla="val -109978"/>
              <a:gd name="adj2" fmla="val 229440"/>
              <a:gd name="adj3" fmla="val -10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1" name=""/>
          <p:cNvSpPr/>
          <p:nvPr/>
        </p:nvSpPr>
        <p:spPr>
          <a:xfrm>
            <a:off x="4435920" y="5661000"/>
            <a:ext cx="11530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806160" y="602136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5869080" y="5948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718520" y="6164280"/>
            <a:ext cx="111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PACK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 flipH="1">
            <a:off x="4211280" y="659772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4211640" y="256500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4211280" y="256536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58800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6156000" y="4869000"/>
            <a:ext cx="14436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nsibilité des automates (1):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tructure des modèles CABA de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 flipV="1">
            <a:off x="428292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 flipV="1">
            <a:off x="428292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6227640" y="307008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flipV="1">
            <a:off x="6227640" y="256536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428292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5219640" y="256536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219640" y="357336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46560" y="357336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6227640" y="256536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4282920" y="3860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5219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3979800" y="5537160"/>
            <a:ext cx="505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tran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autom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718880" y="4724280"/>
            <a:ext cx="40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l de la SC_METHOD fonctio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 des sorties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4160" y="3860640"/>
            <a:ext cx="37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tes les SC_METHOD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54520" y="4797360"/>
            <a:ext cx="38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écution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s les SC_METHOD gen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195640" y="4581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2195640" y="3429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195640" y="5516640"/>
            <a:ext cx="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79280" y="3429000"/>
            <a:ext cx="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79280" y="342900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179280" y="623736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113760" y="6308640"/>
            <a:ext cx="36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 de simulation « canonique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es 2 SC_METHOD d’un composant SocLi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sition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montant de l’horloge calcule la prochaine valeur des regist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oore(valeurs courantes des registr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sensible au front descendant de l’horloge, calcule les valeurs des sor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genMealy(valeurs courantes des registres, entrée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1 à N fonctions), sensible au front descendant et à certaines entrées, calcule les valeurs des sorties de Mea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sibilité des automat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2268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2268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4213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213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268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3205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3205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332000" y="263700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615636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615636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21164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514836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514836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8101080" y="2133720"/>
            <a:ext cx="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8101080" y="1628280"/>
            <a:ext cx="0" cy="50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15636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7093080" y="1628640"/>
            <a:ext cx="0" cy="10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7093080" y="2637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8101080" y="162864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87840" y="3305160"/>
            <a:ext cx="12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34000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284720" y="3284640"/>
            <a:ext cx="19429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EQ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6227640" y="3284640"/>
            <a:ext cx="19432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RSP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20364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5148360" y="378936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VA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09440" y="378936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94040" y="503388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F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34000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4284720" y="5084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227640" y="5084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320364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514836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215640" y="55180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093080" y="5589720"/>
            <a:ext cx="194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DAC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6518520" y="6491160"/>
            <a:ext cx="247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t d’un mot 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6156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810108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421164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268360" y="2781360"/>
            <a:ext cx="0" cy="4076640"/>
          </a:xfrm>
          <a:prstGeom prst="line">
            <a:avLst/>
          </a:prstGeom>
          <a:ln w="2844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Une Simulation SocLib CABA, c’est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ensemble d’automates synchrones communic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986200" y="3429000"/>
            <a:ext cx="936360" cy="953280"/>
            <a:chOff x="2986200" y="3429000"/>
            <a:chExt cx="936360" cy="953280"/>
          </a:xfrm>
        </p:grpSpPr>
        <p:sp>
          <p:nvSpPr>
            <p:cNvPr id="1378" name=""/>
            <p:cNvSpPr/>
            <p:nvPr/>
          </p:nvSpPr>
          <p:spPr>
            <a:xfrm>
              <a:off x="334656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70692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98620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378" idx="6"/>
              <a:endCxn id="1379" idx="0"/>
            </p:cNvCxnSpPr>
            <p:nvPr/>
          </p:nvCxnSpPr>
          <p:spPr>
            <a:xfrm>
              <a:off x="357624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2" name=""/>
            <p:cNvCxnSpPr>
              <a:stCxn id="1379" idx="4"/>
              <a:endCxn id="1380" idx="5"/>
            </p:cNvCxnSpPr>
            <p:nvPr/>
          </p:nvCxnSpPr>
          <p:spPr>
            <a:xfrm flipV="1" rot="16200000">
              <a:off x="347580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3" name=""/>
            <p:cNvCxnSpPr>
              <a:stCxn id="1380" idx="0"/>
              <a:endCxn id="1378" idx="2"/>
            </p:cNvCxnSpPr>
            <p:nvPr/>
          </p:nvCxnSpPr>
          <p:spPr>
            <a:xfrm flipH="1" flipV="1" rot="5400000">
              <a:off x="302148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84" name=""/>
          <p:cNvGrpSpPr/>
          <p:nvPr/>
        </p:nvGrpSpPr>
        <p:grpSpPr>
          <a:xfrm>
            <a:off x="4211640" y="3429000"/>
            <a:ext cx="936360" cy="953280"/>
            <a:chOff x="4211640" y="3429000"/>
            <a:chExt cx="936360" cy="953280"/>
          </a:xfrm>
        </p:grpSpPr>
        <p:sp>
          <p:nvSpPr>
            <p:cNvPr id="1385" name=""/>
            <p:cNvSpPr/>
            <p:nvPr/>
          </p:nvSpPr>
          <p:spPr>
            <a:xfrm>
              <a:off x="4572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32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211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8" name=""/>
            <p:cNvCxnSpPr>
              <a:stCxn id="1385" idx="6"/>
              <a:endCxn id="1386" idx="0"/>
            </p:cNvCxnSpPr>
            <p:nvPr/>
          </p:nvCxnSpPr>
          <p:spPr>
            <a:xfrm>
              <a:off x="4801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9" name=""/>
            <p:cNvCxnSpPr>
              <a:stCxn id="1386" idx="4"/>
              <a:endCxn id="1387" idx="5"/>
            </p:cNvCxnSpPr>
            <p:nvPr/>
          </p:nvCxnSpPr>
          <p:spPr>
            <a:xfrm flipV="1" rot="16200000">
              <a:off x="4701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0" name=""/>
            <p:cNvCxnSpPr>
              <a:stCxn id="1387" idx="0"/>
              <a:endCxn id="1385" idx="2"/>
            </p:cNvCxnSpPr>
            <p:nvPr/>
          </p:nvCxnSpPr>
          <p:spPr>
            <a:xfrm flipH="1" flipV="1" rot="5400000">
              <a:off x="4246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1" name=""/>
          <p:cNvGrpSpPr/>
          <p:nvPr/>
        </p:nvGrpSpPr>
        <p:grpSpPr>
          <a:xfrm>
            <a:off x="5435640" y="3429000"/>
            <a:ext cx="936360" cy="953280"/>
            <a:chOff x="5435640" y="3429000"/>
            <a:chExt cx="936360" cy="953280"/>
          </a:xfrm>
        </p:grpSpPr>
        <p:sp>
          <p:nvSpPr>
            <p:cNvPr id="1392" name=""/>
            <p:cNvSpPr/>
            <p:nvPr/>
          </p:nvSpPr>
          <p:spPr>
            <a:xfrm>
              <a:off x="5796000" y="342900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5636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435640" y="393372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5" name=""/>
            <p:cNvCxnSpPr>
              <a:stCxn id="1392" idx="6"/>
              <a:endCxn id="1393" idx="0"/>
            </p:cNvCxnSpPr>
            <p:nvPr/>
          </p:nvCxnSpPr>
          <p:spPr>
            <a:xfrm>
              <a:off x="6025680" y="353700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6" name=""/>
            <p:cNvCxnSpPr>
              <a:stCxn id="1393" idx="4"/>
              <a:endCxn id="1394" idx="5"/>
            </p:cNvCxnSpPr>
            <p:nvPr/>
          </p:nvCxnSpPr>
          <p:spPr>
            <a:xfrm flipV="1" rot="16200000">
              <a:off x="5925240" y="382500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7" name=""/>
            <p:cNvCxnSpPr>
              <a:stCxn id="1394" idx="0"/>
              <a:endCxn id="1392" idx="2"/>
            </p:cNvCxnSpPr>
            <p:nvPr/>
          </p:nvCxnSpPr>
          <p:spPr>
            <a:xfrm flipH="1" flipV="1" rot="5400000">
              <a:off x="5470920" y="360864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98" name=""/>
          <p:cNvGrpSpPr/>
          <p:nvPr/>
        </p:nvGrpSpPr>
        <p:grpSpPr>
          <a:xfrm>
            <a:off x="2195640" y="5013360"/>
            <a:ext cx="936360" cy="953280"/>
            <a:chOff x="2195640" y="5013360"/>
            <a:chExt cx="936360" cy="953280"/>
          </a:xfrm>
        </p:grpSpPr>
        <p:sp>
          <p:nvSpPr>
            <p:cNvPr id="1399" name=""/>
            <p:cNvSpPr/>
            <p:nvPr/>
          </p:nvSpPr>
          <p:spPr>
            <a:xfrm>
              <a:off x="2556000" y="5013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1636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195640" y="551808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2" name=""/>
            <p:cNvCxnSpPr>
              <a:stCxn id="1399" idx="6"/>
              <a:endCxn id="1400" idx="0"/>
            </p:cNvCxnSpPr>
            <p:nvPr/>
          </p:nvCxnSpPr>
          <p:spPr>
            <a:xfrm>
              <a:off x="2785680" y="512136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3" name=""/>
            <p:cNvCxnSpPr>
              <a:stCxn id="1400" idx="4"/>
              <a:endCxn id="1401" idx="5"/>
            </p:cNvCxnSpPr>
            <p:nvPr/>
          </p:nvCxnSpPr>
          <p:spPr>
            <a:xfrm flipV="1" rot="16200000">
              <a:off x="2685240" y="540936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4" name=""/>
            <p:cNvCxnSpPr>
              <a:stCxn id="1401" idx="0"/>
              <a:endCxn id="1399" idx="2"/>
            </p:cNvCxnSpPr>
            <p:nvPr/>
          </p:nvCxnSpPr>
          <p:spPr>
            <a:xfrm flipH="1" flipV="1" rot="5400000">
              <a:off x="2230920" y="519300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05" name=""/>
          <p:cNvGrpSpPr/>
          <p:nvPr/>
        </p:nvGrpSpPr>
        <p:grpSpPr>
          <a:xfrm>
            <a:off x="3708360" y="5084640"/>
            <a:ext cx="936360" cy="953280"/>
            <a:chOff x="3708360" y="5084640"/>
            <a:chExt cx="936360" cy="953280"/>
          </a:xfrm>
        </p:grpSpPr>
        <p:sp>
          <p:nvSpPr>
            <p:cNvPr id="1406" name=""/>
            <p:cNvSpPr/>
            <p:nvPr/>
          </p:nvSpPr>
          <p:spPr>
            <a:xfrm>
              <a:off x="406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42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0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09" name=""/>
            <p:cNvCxnSpPr>
              <a:stCxn id="1406" idx="6"/>
              <a:endCxn id="1407" idx="0"/>
            </p:cNvCxnSpPr>
            <p:nvPr/>
          </p:nvCxnSpPr>
          <p:spPr>
            <a:xfrm>
              <a:off x="429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0" name=""/>
            <p:cNvCxnSpPr>
              <a:stCxn id="1407" idx="4"/>
              <a:endCxn id="1408" idx="5"/>
            </p:cNvCxnSpPr>
            <p:nvPr/>
          </p:nvCxnSpPr>
          <p:spPr>
            <a:xfrm flipV="1" rot="16200000">
              <a:off x="419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1" name=""/>
            <p:cNvCxnSpPr>
              <a:stCxn id="1408" idx="0"/>
              <a:endCxn id="1406" idx="2"/>
            </p:cNvCxnSpPr>
            <p:nvPr/>
          </p:nvCxnSpPr>
          <p:spPr>
            <a:xfrm flipH="1" flipV="1" rot="5400000">
              <a:off x="374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412" name=""/>
          <p:cNvGrpSpPr/>
          <p:nvPr/>
        </p:nvGrpSpPr>
        <p:grpSpPr>
          <a:xfrm>
            <a:off x="5148360" y="5084640"/>
            <a:ext cx="936360" cy="953280"/>
            <a:chOff x="5148360" y="5084640"/>
            <a:chExt cx="936360" cy="953280"/>
          </a:xfrm>
        </p:grpSpPr>
        <p:sp>
          <p:nvSpPr>
            <p:cNvPr id="1413" name=""/>
            <p:cNvSpPr/>
            <p:nvPr/>
          </p:nvSpPr>
          <p:spPr>
            <a:xfrm>
              <a:off x="5508720" y="508464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6908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148360" y="5589360"/>
              <a:ext cx="215640" cy="216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6" name=""/>
            <p:cNvCxnSpPr>
              <a:stCxn id="1413" idx="6"/>
              <a:endCxn id="1414" idx="0"/>
            </p:cNvCxnSpPr>
            <p:nvPr/>
          </p:nvCxnSpPr>
          <p:spPr>
            <a:xfrm>
              <a:off x="5738400" y="5192640"/>
              <a:ext cx="238680" cy="383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7" name=""/>
            <p:cNvCxnSpPr>
              <a:stCxn id="1414" idx="4"/>
              <a:endCxn id="1415" idx="5"/>
            </p:cNvCxnSpPr>
            <p:nvPr/>
          </p:nvCxnSpPr>
          <p:spPr>
            <a:xfrm flipV="1" rot="16200000">
              <a:off x="5637960" y="5480640"/>
              <a:ext cx="32760" cy="645120"/>
            </a:xfrm>
            <a:prstGeom prst="curvedConnector5">
              <a:avLst>
                <a:gd name="adj1" fmla="val -674444"/>
                <a:gd name="adj2" fmla="val 49972"/>
                <a:gd name="adj3" fmla="val -67444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8" name=""/>
            <p:cNvCxnSpPr>
              <a:stCxn id="1415" idx="0"/>
              <a:endCxn id="1413" idx="2"/>
            </p:cNvCxnSpPr>
            <p:nvPr/>
          </p:nvCxnSpPr>
          <p:spPr>
            <a:xfrm flipH="1" flipV="1" rot="5400000">
              <a:off x="5183640" y="5264280"/>
              <a:ext cx="383040" cy="239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 champs dans CM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2332440" y="292572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_size = 4 * 8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2335320" y="328464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len_size = 64 w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2334960" y="3645000"/>
            <a:ext cx="168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_size = 32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2336400" y="400536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2336040" y="436572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len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2334960" y="4726080"/>
            <a:ext cx="160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rcid_size = 8 b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2335680" y="508644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kt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2335680" y="544680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did_size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2337840" y="220500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op = 1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855680" y="29257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ell size fo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852440" y="3284640"/>
            <a:ext cx="243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ximum packet length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857120" y="364500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ddres s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4858200" y="40053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rror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4856040" y="43657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ntiguous l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4856040" y="4726080"/>
            <a:ext cx="14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4855680" y="5086440"/>
            <a:ext cx="145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cket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856400" y="5446800"/>
            <a:ext cx="146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hread identif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856040" y="2205000"/>
            <a:ext cx="127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nd of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" descr=""/>
          <p:cNvPicPr/>
          <p:nvPr/>
        </p:nvPicPr>
        <p:blipFill>
          <a:blip r:embed="rId1"/>
          <a:stretch/>
        </p:blipFill>
        <p:spPr>
          <a:xfrm>
            <a:off x="100080" y="1552680"/>
            <a:ext cx="6353280" cy="269532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CASS: simulateur CABA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tim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0" name="" descr=""/>
          <p:cNvPicPr/>
          <p:nvPr/>
        </p:nvPicPr>
        <p:blipFill>
          <a:blip r:embed="rId2"/>
          <a:stretch/>
        </p:blipFill>
        <p:spPr>
          <a:xfrm>
            <a:off x="7164360" y="260280"/>
            <a:ext cx="1628640" cy="3963960"/>
          </a:xfrm>
          <a:prstGeom prst="rect">
            <a:avLst/>
          </a:prstGeom>
          <a:ln w="0">
            <a:noFill/>
          </a:ln>
        </p:spPr>
      </p:pic>
      <p:sp>
        <p:nvSpPr>
          <p:cNvPr id="1441" name=""/>
          <p:cNvSpPr/>
          <p:nvPr/>
        </p:nvSpPr>
        <p:spPr>
          <a:xfrm>
            <a:off x="2465280" y="544500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5337000" y="4976640"/>
            <a:ext cx="176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25360" y="4419720"/>
            <a:ext cx="8747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ion du graphe dual de l’architecture (états=signaux, composants=transi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donnancement stati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) Processus de type 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) Processus de type Génération 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3) Processus de type Génération de Mealy dans l'ordre défini p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535960"/>
                <a:tab algn="l" pos="9115560"/>
                <a:tab algn="l" pos="9944280"/>
                <a:tab algn="l" pos="107726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 graphe de dépendance combinatoire entre sig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5751360" y="2736720"/>
            <a:ext cx="180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3267000" y="4094280"/>
            <a:ext cx="180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821280" y="2979720"/>
            <a:ext cx="157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fndef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OCLIB_VCI_SIMPLEINITIATOR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c_register sc_sig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INITIATOR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INITIATOR&lt;ADDRSIZE, CELLSIZE, ERRSIZE, PLENSIZE, CLENSIZE, SRCIDSIZE, TRDIDSIZE, PKTIDSIZE&gt; VCI_INITIATOR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INITIAT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50920" y="1413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250920" y="4365720"/>
            <a:ext cx="8569080" cy="431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659280" y="274320"/>
            <a:ext cx="202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1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fndef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define _RAM_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include "systemc.h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ODULE(ra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addr; sc_out&lt;sc_uint&lt;32&gt; &gt; dou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in&lt;sc_uint&lt;32&gt; &gt; din; sc_in&lt;sc_uint&lt;2&gt; &gt; memrw; 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uint&lt;32&gt; ramContents[100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CTOR(ra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Rea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addr &lt;&lt; memrw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C_METHOD(mWrit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0]=0x2001008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1]=0x8C22000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2]=0x8C230004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2]=0x0000000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33]=0x0000000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Read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dout.write(ramContents[addr.read()&gt;&gt;2]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void mWrite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if ((int)memrw.read()==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ramContents[addr.read()&gt;&gt;2]=din.read()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initiator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IDLE  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EQ_WRITE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RSP_WRITE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INITIATOR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// nom de l'inst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INITIATOR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50920" y="371628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50920" y="155736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RESETN == fals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INITIATOR_FS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EQ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CMDACK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RSP_WRIT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INITIATOR.RSPVAL == true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FSM = INITIATOR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REG1 +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50920" y="119700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50920" y="2492280"/>
            <a:ext cx="8569080" cy="381636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initiator.h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250920" y="764640"/>
            <a:ext cx="8229600" cy="640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INITIATOR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EQ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ADDRESS = 0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WDATA = (sc_uint&lt;32&gt;)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 = VCI_CMD_WRIT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BE = 0x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PLEN = 1 &lt;&lt; 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INITIATOR_RSP_WRI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CMD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INITIATOR.RSP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50920" y="1628640"/>
            <a:ext cx="8569080" cy="86364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50920" y="2492280"/>
            <a:ext cx="8569080" cy="208908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50920" y="458136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 &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DD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ELL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ERR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CLEN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RC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TRDIDSIZ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PKTIDSIZ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SOCLIB_VCI_SIMPLETARGET : sc_modul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CL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in&lt;bool&gt; RESET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VANCED_VCI_TARGET&lt;ADDRSIZE, CELLSIZE, ERRSIZE, PLENSIZE, CLENSIZE, SRCIDSIZE, TRDIDSIZE, PKTIDSIZE &gt; VCI_TARG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har *NAM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register&lt;int&gt;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HAS_PROCESS (SOCLIB_VCI_SIMPLETARGE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end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50920" y="1197000"/>
            <a:ext cx="8569080" cy="1944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250920" y="4221000"/>
            <a:ext cx="8569080" cy="43200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250920" y="5013360"/>
            <a:ext cx="8569080" cy="431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IDLE     = 0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RSP      = 1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EOP      =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_VCI_SIMPLETARGET 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odule_name insnam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transitio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po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_METHOD (genMoor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sitive &lt;&lt; CLK.ne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= (char*) strdup(ins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NAME =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error("malloc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SOCLIB_VCI_SIMPLETARGET instanciated with name %s\n",NAM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24000" y="1268280"/>
            <a:ext cx="8569080" cy="1150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24000" y="3141720"/>
            <a:ext cx="8569080" cy="9349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simpletarget.h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25092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transitio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(TARGET_FSM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CMDVAL == tru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EOP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E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RS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(VCI_TARGET.CMD.read() =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CMD_WRITE) &amp;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(VCI_TARGET.ADDRESS.read() &amp; 0xC) 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_ADR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G1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sc_uint&lt;32&gt;)VCI_TARGET.WDAT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(VCI_TARGET.RSPACK == 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_FSM = TARGET_IDL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24000" y="1557360"/>
            <a:ext cx="8569080" cy="295128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24000" y="4508640"/>
            <a:ext cx="8569080" cy="863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4000" y="5373720"/>
            <a:ext cx="8569080" cy="86364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target.h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enMoor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witch (TARGET_F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ID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RS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TARGET_EOP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CMDACK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SPVAL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DATA 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RROR =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CI_TARGET.REOP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324000" y="2421000"/>
            <a:ext cx="8569080" cy="93672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324000" y="4797360"/>
            <a:ext cx="8569080" cy="1511280"/>
          </a:xfrm>
          <a:prstGeom prst="rect">
            <a:avLst/>
          </a:prstGeom>
          <a:solidFill>
            <a:srgbClr val="009999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324000" y="3357720"/>
            <a:ext cx="8569080" cy="1439640"/>
          </a:xfrm>
          <a:prstGeom prst="rect">
            <a:avLst/>
          </a:prstGeom>
          <a:solidFill>
            <a:srgbClr val="ff3300">
              <a:alpha val="2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"/>
          <p:cNvSpPr/>
          <p:nvPr/>
        </p:nvSpPr>
        <p:spPr>
          <a:xfrm>
            <a:off x="1187280" y="3141720"/>
            <a:ext cx="3745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39640" y="45100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98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826560" y="4438800"/>
            <a:ext cx="73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291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685800" y="4294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298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270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1261440" y="436572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5651640" y="3141720"/>
            <a:ext cx="288108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7667640" y="24224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7596360" y="2782800"/>
            <a:ext cx="14436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669080" y="263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7380360" y="321480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 MINIMIPS avec V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032920" y="6113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651852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932360" y="458136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664920" y="186516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S = Instruction Set Si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toplevel du minim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wiki/cou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ditez le fichier main.c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ystem.cp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ilink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68360" y="3141720"/>
            <a:ext cx="223200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iss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6084720" y="3141720"/>
            <a:ext cx="288144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simpleram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756720" y="6093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ITI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7237800" y="60930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536400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3419640" y="3141720"/>
            <a:ext cx="1944360" cy="27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_vci_local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rossbar_simple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700360" y="4221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269892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 flipH="1">
            <a:off x="5364000" y="4724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350160" y="609300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TERCONN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692360" y="2924280"/>
            <a:ext cx="6985080" cy="79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/OCP Interconn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1692360" y="1052640"/>
            <a:ext cx="1584360" cy="1871640"/>
            <a:chOff x="1692360" y="1052640"/>
            <a:chExt cx="1584360" cy="1871640"/>
          </a:xfrm>
        </p:grpSpPr>
        <p:sp>
          <p:nvSpPr>
            <p:cNvPr id="1523" name=""/>
            <p:cNvSpPr/>
            <p:nvPr/>
          </p:nvSpPr>
          <p:spPr>
            <a:xfrm>
              <a:off x="248436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692360" y="1628640"/>
              <a:ext cx="1584360" cy="649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6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1692360" y="3716280"/>
            <a:ext cx="1584360" cy="1513080"/>
            <a:chOff x="1692360" y="3716280"/>
            <a:chExt cx="1584360" cy="1513080"/>
          </a:xfrm>
        </p:grpSpPr>
        <p:sp>
          <p:nvSpPr>
            <p:cNvPr id="1527" name=""/>
            <p:cNvSpPr/>
            <p:nvPr/>
          </p:nvSpPr>
          <p:spPr>
            <a:xfrm>
              <a:off x="248436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92360" y="4365720"/>
              <a:ext cx="1584360" cy="863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492360" y="3716280"/>
            <a:ext cx="1584360" cy="2378160"/>
            <a:chOff x="3492360" y="3716280"/>
            <a:chExt cx="1584360" cy="2378160"/>
          </a:xfrm>
        </p:grpSpPr>
        <p:sp>
          <p:nvSpPr>
            <p:cNvPr id="1530" name=""/>
            <p:cNvSpPr/>
            <p:nvPr/>
          </p:nvSpPr>
          <p:spPr>
            <a:xfrm>
              <a:off x="3492360" y="4365720"/>
              <a:ext cx="1584360" cy="17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428472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1330200" y="765000"/>
            <a:ext cx="505080" cy="3743640"/>
            <a:chOff x="1330200" y="765000"/>
            <a:chExt cx="505080" cy="3743640"/>
          </a:xfrm>
        </p:grpSpPr>
        <p:sp>
          <p:nvSpPr>
            <p:cNvPr id="1533" name=""/>
            <p:cNvSpPr/>
            <p:nvPr/>
          </p:nvSpPr>
          <p:spPr>
            <a:xfrm>
              <a:off x="1835280" y="765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1332000" y="76500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330200" y="765000"/>
              <a:ext cx="1800" cy="37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>
              <a:off x="133164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7" name=""/>
          <p:cNvGrpSpPr/>
          <p:nvPr/>
        </p:nvGrpSpPr>
        <p:grpSpPr>
          <a:xfrm>
            <a:off x="1258560" y="692280"/>
            <a:ext cx="2376720" cy="3889080"/>
            <a:chOff x="1258560" y="692280"/>
            <a:chExt cx="2376720" cy="3889080"/>
          </a:xfrm>
        </p:grpSpPr>
        <p:sp>
          <p:nvSpPr>
            <p:cNvPr id="1538" name=""/>
            <p:cNvSpPr/>
            <p:nvPr/>
          </p:nvSpPr>
          <p:spPr>
            <a:xfrm>
              <a:off x="3635280" y="692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258560" y="692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258920" y="692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1258920" y="4581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186920" y="620640"/>
            <a:ext cx="4248720" cy="4032360"/>
            <a:chOff x="1186920" y="620640"/>
            <a:chExt cx="4248720" cy="4032360"/>
          </a:xfrm>
        </p:grpSpPr>
        <p:sp>
          <p:nvSpPr>
            <p:cNvPr id="1543" name=""/>
            <p:cNvSpPr/>
            <p:nvPr/>
          </p:nvSpPr>
          <p:spPr>
            <a:xfrm>
              <a:off x="5435640" y="62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1186920" y="62064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87280" y="62064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1186920" y="4653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1115640" y="549360"/>
            <a:ext cx="6120360" cy="4174920"/>
            <a:chOff x="1115640" y="549360"/>
            <a:chExt cx="6120360" cy="4174920"/>
          </a:xfrm>
        </p:grpSpPr>
        <p:sp>
          <p:nvSpPr>
            <p:cNvPr id="1548" name=""/>
            <p:cNvSpPr/>
            <p:nvPr/>
          </p:nvSpPr>
          <p:spPr>
            <a:xfrm>
              <a:off x="7236000" y="549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1116000" y="549360"/>
              <a:ext cx="61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116000" y="549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>
              <a:off x="1115640" y="4724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2" name=""/>
          <p:cNvGrpSpPr/>
          <p:nvPr/>
        </p:nvGrpSpPr>
        <p:grpSpPr>
          <a:xfrm>
            <a:off x="3492360" y="1052640"/>
            <a:ext cx="1584360" cy="1871640"/>
            <a:chOff x="3492360" y="1052640"/>
            <a:chExt cx="1584360" cy="1871640"/>
          </a:xfrm>
        </p:grpSpPr>
        <p:sp>
          <p:nvSpPr>
            <p:cNvPr id="1553" name=""/>
            <p:cNvSpPr/>
            <p:nvPr/>
          </p:nvSpPr>
          <p:spPr>
            <a:xfrm>
              <a:off x="42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492360" y="1628640"/>
              <a:ext cx="1584360" cy="649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9236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5292720" y="1052640"/>
            <a:ext cx="1584360" cy="1871640"/>
            <a:chOff x="5292720" y="1052640"/>
            <a:chExt cx="1584360" cy="1871640"/>
          </a:xfrm>
        </p:grpSpPr>
        <p:sp>
          <p:nvSpPr>
            <p:cNvPr id="1557" name=""/>
            <p:cNvSpPr/>
            <p:nvPr/>
          </p:nvSpPr>
          <p:spPr>
            <a:xfrm>
              <a:off x="608472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292720" y="1628640"/>
              <a:ext cx="1584360" cy="6494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29272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7093080" y="1052640"/>
            <a:ext cx="1584360" cy="1871640"/>
            <a:chOff x="7093080" y="1052640"/>
            <a:chExt cx="1584360" cy="1871640"/>
          </a:xfrm>
        </p:grpSpPr>
        <p:sp>
          <p:nvSpPr>
            <p:cNvPr id="1561" name=""/>
            <p:cNvSpPr/>
            <p:nvPr/>
          </p:nvSpPr>
          <p:spPr>
            <a:xfrm>
              <a:off x="7885080" y="2276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093080" y="1628640"/>
              <a:ext cx="1584360" cy="649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 &amp; D Ca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093080" y="1052640"/>
              <a:ext cx="1584360" cy="576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366ff"/>
                </a:gs>
              </a:gsLst>
              <a:lin ang="81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ps3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292720" y="3716280"/>
            <a:ext cx="3497400" cy="2610000"/>
            <a:chOff x="5292720" y="3716280"/>
            <a:chExt cx="3497400" cy="2610000"/>
          </a:xfrm>
        </p:grpSpPr>
        <p:sp>
          <p:nvSpPr>
            <p:cNvPr id="1565" name=""/>
            <p:cNvSpPr/>
            <p:nvPr/>
          </p:nvSpPr>
          <p:spPr>
            <a:xfrm>
              <a:off x="7020000" y="371628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92720" y="4365720"/>
              <a:ext cx="3382920" cy="8636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7" name="" descr=""/>
            <p:cNvPicPr/>
            <p:nvPr/>
          </p:nvPicPr>
          <p:blipFill>
            <a:blip r:embed="rId9"/>
            <a:stretch/>
          </p:blipFill>
          <p:spPr>
            <a:xfrm>
              <a:off x="529272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8" name="" descr=""/>
            <p:cNvPicPr/>
            <p:nvPr/>
          </p:nvPicPr>
          <p:blipFill>
            <a:blip r:embed="rId10"/>
            <a:stretch/>
          </p:blipFill>
          <p:spPr>
            <a:xfrm>
              <a:off x="615636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9" name="" descr=""/>
            <p:cNvPicPr/>
            <p:nvPr/>
          </p:nvPicPr>
          <p:blipFill>
            <a:blip r:embed="rId11"/>
            <a:stretch/>
          </p:blipFill>
          <p:spPr>
            <a:xfrm>
              <a:off x="7093080" y="5516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0" name="" descr=""/>
            <p:cNvPicPr/>
            <p:nvPr/>
          </p:nvPicPr>
          <p:blipFill>
            <a:blip r:embed="rId12"/>
            <a:stretch/>
          </p:blipFill>
          <p:spPr>
            <a:xfrm>
              <a:off x="8028000" y="5516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1" name=""/>
            <p:cNvSpPr/>
            <p:nvPr/>
          </p:nvSpPr>
          <p:spPr>
            <a:xfrm>
              <a:off x="56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51672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45164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317080" y="522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3564000" y="4437000"/>
            <a:ext cx="143964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"/>
          <p:cNvSpPr/>
          <p:nvPr/>
        </p:nvSpPr>
        <p:spPr>
          <a:xfrm>
            <a:off x="611280" y="1628640"/>
            <a:ext cx="7993080" cy="4176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118728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3924360" y="1628640"/>
            <a:ext cx="115236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47636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1042920" y="692280"/>
            <a:ext cx="246240" cy="936360"/>
            <a:chOff x="1042920" y="692280"/>
            <a:chExt cx="246240" cy="936360"/>
          </a:xfrm>
        </p:grpSpPr>
        <p:sp>
          <p:nvSpPr>
            <p:cNvPr id="1592" name=""/>
            <p:cNvSpPr/>
            <p:nvPr/>
          </p:nvSpPr>
          <p:spPr>
            <a:xfrm>
              <a:off x="12589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 rot="16200000">
              <a:off x="87516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4" name=""/>
          <p:cNvGrpSpPr/>
          <p:nvPr/>
        </p:nvGrpSpPr>
        <p:grpSpPr>
          <a:xfrm>
            <a:off x="1258920" y="5084280"/>
            <a:ext cx="1150920" cy="360720"/>
            <a:chOff x="1258920" y="5084280"/>
            <a:chExt cx="1150920" cy="360720"/>
          </a:xfrm>
        </p:grpSpPr>
        <p:sp>
          <p:nvSpPr>
            <p:cNvPr id="1595" name=""/>
            <p:cNvSpPr/>
            <p:nvPr/>
          </p:nvSpPr>
          <p:spPr>
            <a:xfrm>
              <a:off x="1258920" y="5084640"/>
              <a:ext cx="1150920" cy="360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258920" y="5084640"/>
              <a:ext cx="5745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V="1">
              <a:off x="1833480" y="5084280"/>
              <a:ext cx="57636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1474560" y="1666800"/>
            <a:ext cx="1800" cy="3417840"/>
            <a:chOff x="1474560" y="1666800"/>
            <a:chExt cx="1800" cy="3417840"/>
          </a:xfrm>
        </p:grpSpPr>
        <p:sp>
          <p:nvSpPr>
            <p:cNvPr id="1599" name=""/>
            <p:cNvSpPr/>
            <p:nvPr/>
          </p:nvSpPr>
          <p:spPr>
            <a:xfrm>
              <a:off x="147492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0" name=""/>
            <p:cNvCxnSpPr>
              <a:stCxn id="1590" idx="0"/>
              <a:endCxn id="1599" idx="0"/>
            </p:cNvCxnSpPr>
            <p:nvPr/>
          </p:nvCxnSpPr>
          <p:spPr>
            <a:xfrm rot="5400000">
              <a:off x="-34920" y="3175920"/>
              <a:ext cx="3020400" cy="2160"/>
            </a:xfrm>
            <a:prstGeom prst="curvedConnector5">
              <a:avLst>
                <a:gd name="adj1" fmla="val 49994"/>
                <a:gd name="adj2" fmla="val 4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01" name=""/>
          <p:cNvGrpSpPr/>
          <p:nvPr/>
        </p:nvGrpSpPr>
        <p:grpSpPr>
          <a:xfrm>
            <a:off x="2556000" y="5086440"/>
            <a:ext cx="1438200" cy="576000"/>
            <a:chOff x="2556000" y="5086440"/>
            <a:chExt cx="1438200" cy="576000"/>
          </a:xfrm>
        </p:grpSpPr>
        <p:sp>
          <p:nvSpPr>
            <p:cNvPr id="1602" name=""/>
            <p:cNvSpPr/>
            <p:nvPr/>
          </p:nvSpPr>
          <p:spPr>
            <a:xfrm>
              <a:off x="3201840" y="5086440"/>
              <a:ext cx="792360" cy="287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201840" y="5373720"/>
              <a:ext cx="792360" cy="28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fa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700360" y="5086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556000" y="5373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allocat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6" name=""/>
          <p:cNvSpPr/>
          <p:nvPr/>
        </p:nvSpPr>
        <p:spPr>
          <a:xfrm>
            <a:off x="435600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3922560" y="692280"/>
            <a:ext cx="246240" cy="936360"/>
            <a:chOff x="3922560" y="692280"/>
            <a:chExt cx="246240" cy="936360"/>
          </a:xfrm>
        </p:grpSpPr>
        <p:sp>
          <p:nvSpPr>
            <p:cNvPr id="1608" name=""/>
            <p:cNvSpPr/>
            <p:nvPr/>
          </p:nvSpPr>
          <p:spPr>
            <a:xfrm>
              <a:off x="41385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6200000">
              <a:off x="375480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7308720" y="692280"/>
            <a:ext cx="0" cy="93636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6875640" y="692280"/>
            <a:ext cx="246240" cy="936360"/>
            <a:chOff x="6875640" y="692280"/>
            <a:chExt cx="246240" cy="936360"/>
          </a:xfrm>
        </p:grpSpPr>
        <p:sp>
          <p:nvSpPr>
            <p:cNvPr id="1612" name=""/>
            <p:cNvSpPr/>
            <p:nvPr/>
          </p:nvSpPr>
          <p:spPr>
            <a:xfrm>
              <a:off x="709128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rot="16200000">
              <a:off x="6707880" y="100584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4" name=""/>
          <p:cNvSpPr/>
          <p:nvPr/>
        </p:nvSpPr>
        <p:spPr>
          <a:xfrm>
            <a:off x="6948360" y="1628640"/>
            <a:ext cx="11527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12589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5508720" y="5445000"/>
            <a:ext cx="1150920" cy="360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832760" y="1666800"/>
            <a:ext cx="2522880" cy="3417840"/>
            <a:chOff x="1832760" y="1666800"/>
            <a:chExt cx="2522880" cy="3417840"/>
          </a:xfrm>
        </p:grpSpPr>
        <p:sp>
          <p:nvSpPr>
            <p:cNvPr id="1618" name=""/>
            <p:cNvSpPr/>
            <p:nvPr/>
          </p:nvSpPr>
          <p:spPr>
            <a:xfrm>
              <a:off x="183348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9" name=""/>
            <p:cNvCxnSpPr>
              <a:stCxn id="1606" idx="0"/>
              <a:endCxn id="1618" idx="0"/>
            </p:cNvCxnSpPr>
            <p:nvPr/>
          </p:nvCxnSpPr>
          <p:spPr>
            <a:xfrm rot="5400000">
              <a:off x="1584000" y="1915200"/>
              <a:ext cx="3020400" cy="2523240"/>
            </a:xfrm>
            <a:prstGeom prst="curvedConnector5">
              <a:avLst>
                <a:gd name="adj1" fmla="val 49994"/>
                <a:gd name="adj2" fmla="val 50000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grpSp>
        <p:nvGrpSpPr>
          <p:cNvPr id="1620" name=""/>
          <p:cNvGrpSpPr/>
          <p:nvPr/>
        </p:nvGrpSpPr>
        <p:grpSpPr>
          <a:xfrm>
            <a:off x="2193480" y="1666800"/>
            <a:ext cx="5115240" cy="3417840"/>
            <a:chOff x="2193480" y="1666800"/>
            <a:chExt cx="5115240" cy="3417840"/>
          </a:xfrm>
        </p:grpSpPr>
        <p:sp>
          <p:nvSpPr>
            <p:cNvPr id="1621" name=""/>
            <p:cNvSpPr/>
            <p:nvPr/>
          </p:nvSpPr>
          <p:spPr>
            <a:xfrm>
              <a:off x="2193840" y="4724280"/>
              <a:ext cx="0" cy="36036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2" name=""/>
            <p:cNvCxnSpPr>
              <a:stCxn id="1610" idx="0"/>
              <a:endCxn id="1621" idx="0"/>
            </p:cNvCxnSpPr>
            <p:nvPr/>
          </p:nvCxnSpPr>
          <p:spPr>
            <a:xfrm rot="5400000">
              <a:off x="3240720" y="619200"/>
              <a:ext cx="3020400" cy="5115600"/>
            </a:xfrm>
            <a:prstGeom prst="curvedConnector5">
              <a:avLst>
                <a:gd name="adj1" fmla="val 49994"/>
                <a:gd name="adj2" fmla="val 49996"/>
                <a:gd name="adj3" fmla="val 49994"/>
              </a:avLst>
            </a:prstGeom>
            <a:ln w="76320">
              <a:solidFill>
                <a:srgbClr val="dddddd"/>
              </a:solidFill>
              <a:miter/>
            </a:ln>
          </p:spPr>
        </p:cxnSp>
      </p:grpSp>
      <p:sp>
        <p:nvSpPr>
          <p:cNvPr id="1623" name=""/>
          <p:cNvSpPr/>
          <p:nvPr/>
        </p:nvSpPr>
        <p:spPr>
          <a:xfrm>
            <a:off x="1835280" y="5445000"/>
            <a:ext cx="0" cy="1079640"/>
          </a:xfrm>
          <a:prstGeom prst="line">
            <a:avLst/>
          </a:prstGeom>
          <a:ln w="76320">
            <a:solidFill>
              <a:srgbClr val="ddddd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1257840" y="1628280"/>
            <a:ext cx="1874160" cy="2521440"/>
            <a:chOff x="1257840" y="1628280"/>
            <a:chExt cx="1874160" cy="2521440"/>
          </a:xfrm>
        </p:grpSpPr>
        <p:sp>
          <p:nvSpPr>
            <p:cNvPr id="1625" name=""/>
            <p:cNvSpPr/>
            <p:nvPr/>
          </p:nvSpPr>
          <p:spPr>
            <a:xfrm>
              <a:off x="313200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6" name=""/>
            <p:cNvCxnSpPr>
              <a:stCxn id="1592" idx="0"/>
              <a:endCxn id="1625" idx="0"/>
            </p:cNvCxnSpPr>
            <p:nvPr/>
          </p:nvCxnSpPr>
          <p:spPr>
            <a:xfrm flipH="1" rot="16200000">
              <a:off x="1042200" y="1843920"/>
              <a:ext cx="2305440" cy="1873800"/>
            </a:xfrm>
            <a:prstGeom prst="curvedConnector5">
              <a:avLst>
                <a:gd name="adj1" fmla="val 58269"/>
                <a:gd name="adj2" fmla="val 50000"/>
                <a:gd name="adj3" fmla="val 58269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27" name=""/>
          <p:cNvGrpSpPr/>
          <p:nvPr/>
        </p:nvGrpSpPr>
        <p:grpSpPr>
          <a:xfrm>
            <a:off x="3491640" y="1628640"/>
            <a:ext cx="646560" cy="2519640"/>
            <a:chOff x="3491640" y="1628640"/>
            <a:chExt cx="646560" cy="2519640"/>
          </a:xfrm>
        </p:grpSpPr>
        <p:sp>
          <p:nvSpPr>
            <p:cNvPr id="1628" name=""/>
            <p:cNvSpPr/>
            <p:nvPr/>
          </p:nvSpPr>
          <p:spPr>
            <a:xfrm>
              <a:off x="3492360" y="38606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9" name=""/>
            <p:cNvCxnSpPr>
              <a:stCxn id="1608" idx="0"/>
              <a:endCxn id="1628" idx="0"/>
            </p:cNvCxnSpPr>
            <p:nvPr/>
          </p:nvCxnSpPr>
          <p:spPr>
            <a:xfrm rot="5400000">
              <a:off x="2698560" y="2421360"/>
              <a:ext cx="2232720" cy="646920"/>
            </a:xfrm>
            <a:prstGeom prst="curvedConnector5">
              <a:avLst>
                <a:gd name="adj1" fmla="val 49991"/>
                <a:gd name="adj2" fmla="val 50000"/>
                <a:gd name="adj3" fmla="val 49991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0" name=""/>
          <p:cNvGrpSpPr/>
          <p:nvPr/>
        </p:nvGrpSpPr>
        <p:grpSpPr>
          <a:xfrm>
            <a:off x="3850920" y="1628280"/>
            <a:ext cx="3240360" cy="2521440"/>
            <a:chOff x="3850920" y="1628280"/>
            <a:chExt cx="3240360" cy="2521440"/>
          </a:xfrm>
        </p:grpSpPr>
        <p:sp>
          <p:nvSpPr>
            <p:cNvPr id="1631" name=""/>
            <p:cNvSpPr/>
            <p:nvPr/>
          </p:nvSpPr>
          <p:spPr>
            <a:xfrm>
              <a:off x="3851280" y="393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2" name=""/>
            <p:cNvCxnSpPr>
              <a:stCxn id="1612" idx="0"/>
              <a:endCxn id="1631" idx="0"/>
            </p:cNvCxnSpPr>
            <p:nvPr/>
          </p:nvCxnSpPr>
          <p:spPr>
            <a:xfrm rot="5400000">
              <a:off x="4318200" y="1160640"/>
              <a:ext cx="2305440" cy="3240720"/>
            </a:xfrm>
            <a:prstGeom prst="curvedConnector5">
              <a:avLst>
                <a:gd name="adj1" fmla="val 49992"/>
                <a:gd name="adj2" fmla="val 49994"/>
                <a:gd name="adj3" fmla="val 4999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33" name=""/>
          <p:cNvGrpSpPr/>
          <p:nvPr/>
        </p:nvGrpSpPr>
        <p:grpSpPr>
          <a:xfrm>
            <a:off x="3132000" y="5734080"/>
            <a:ext cx="246240" cy="719280"/>
            <a:chOff x="3132000" y="5734080"/>
            <a:chExt cx="246240" cy="719280"/>
          </a:xfrm>
        </p:grpSpPr>
        <p:sp>
          <p:nvSpPr>
            <p:cNvPr id="1634" name=""/>
            <p:cNvSpPr/>
            <p:nvPr/>
          </p:nvSpPr>
          <p:spPr>
            <a:xfrm>
              <a:off x="3348000" y="57340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rot="16200000">
              <a:off x="2964240" y="5975280"/>
              <a:ext cx="581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cmd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1476360" y="692280"/>
            <a:ext cx="246240" cy="936360"/>
            <a:chOff x="1476360" y="692280"/>
            <a:chExt cx="246240" cy="936360"/>
          </a:xfrm>
        </p:grpSpPr>
        <p:sp>
          <p:nvSpPr>
            <p:cNvPr id="1637" name=""/>
            <p:cNvSpPr/>
            <p:nvPr/>
          </p:nvSpPr>
          <p:spPr>
            <a:xfrm>
              <a:off x="169236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rot="16200000">
              <a:off x="140400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4356000" y="692280"/>
            <a:ext cx="246240" cy="936360"/>
            <a:chOff x="4356000" y="692280"/>
            <a:chExt cx="246240" cy="936360"/>
          </a:xfrm>
        </p:grpSpPr>
        <p:sp>
          <p:nvSpPr>
            <p:cNvPr id="1640" name=""/>
            <p:cNvSpPr/>
            <p:nvPr/>
          </p:nvSpPr>
          <p:spPr>
            <a:xfrm>
              <a:off x="457200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16200000">
              <a:off x="4283640" y="105480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7308720" y="692280"/>
            <a:ext cx="398520" cy="936360"/>
            <a:chOff x="7308720" y="692280"/>
            <a:chExt cx="398520" cy="936360"/>
          </a:xfrm>
        </p:grpSpPr>
        <p:sp>
          <p:nvSpPr>
            <p:cNvPr id="1643" name=""/>
            <p:cNvSpPr/>
            <p:nvPr/>
          </p:nvSpPr>
          <p:spPr>
            <a:xfrm>
              <a:off x="7524720" y="692280"/>
              <a:ext cx="0" cy="93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16200000">
              <a:off x="7312320" y="978480"/>
              <a:ext cx="390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eo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1691280" y="1628640"/>
            <a:ext cx="1585440" cy="2521080"/>
            <a:chOff x="1691280" y="1628640"/>
            <a:chExt cx="1585440" cy="2521080"/>
          </a:xfrm>
        </p:grpSpPr>
        <p:sp>
          <p:nvSpPr>
            <p:cNvPr id="1646" name=""/>
            <p:cNvSpPr/>
            <p:nvPr/>
          </p:nvSpPr>
          <p:spPr>
            <a:xfrm>
              <a:off x="327672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7" name=""/>
            <p:cNvCxnSpPr>
              <a:stCxn id="1637" idx="0"/>
              <a:endCxn id="1646" idx="0"/>
            </p:cNvCxnSpPr>
            <p:nvPr/>
          </p:nvCxnSpPr>
          <p:spPr>
            <a:xfrm flipH="1" rot="16200000">
              <a:off x="1295280" y="2024640"/>
              <a:ext cx="2377440" cy="158508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48" name=""/>
          <p:cNvGrpSpPr/>
          <p:nvPr/>
        </p:nvGrpSpPr>
        <p:grpSpPr>
          <a:xfrm>
            <a:off x="3634920" y="1628640"/>
            <a:ext cx="937080" cy="2521080"/>
            <a:chOff x="3634920" y="1628640"/>
            <a:chExt cx="937080" cy="2521080"/>
          </a:xfrm>
        </p:grpSpPr>
        <p:sp>
          <p:nvSpPr>
            <p:cNvPr id="1649" name=""/>
            <p:cNvSpPr/>
            <p:nvPr/>
          </p:nvSpPr>
          <p:spPr>
            <a:xfrm>
              <a:off x="363528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0" name=""/>
            <p:cNvCxnSpPr>
              <a:stCxn id="1640" idx="0"/>
              <a:endCxn id="1649" idx="0"/>
            </p:cNvCxnSpPr>
            <p:nvPr/>
          </p:nvCxnSpPr>
          <p:spPr>
            <a:xfrm rot="5400000">
              <a:off x="2914560" y="2348640"/>
              <a:ext cx="2377440" cy="937440"/>
            </a:xfrm>
            <a:prstGeom prst="curvedConnector5">
              <a:avLst>
                <a:gd name="adj1" fmla="val 49962"/>
                <a:gd name="adj2" fmla="val 4998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1" name=""/>
          <p:cNvGrpSpPr/>
          <p:nvPr/>
        </p:nvGrpSpPr>
        <p:grpSpPr>
          <a:xfrm>
            <a:off x="3994920" y="1628640"/>
            <a:ext cx="3529440" cy="2521080"/>
            <a:chOff x="3994920" y="1628640"/>
            <a:chExt cx="3529440" cy="2521080"/>
          </a:xfrm>
        </p:grpSpPr>
        <p:sp>
          <p:nvSpPr>
            <p:cNvPr id="1652" name=""/>
            <p:cNvSpPr/>
            <p:nvPr/>
          </p:nvSpPr>
          <p:spPr>
            <a:xfrm>
              <a:off x="3995640" y="4005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3" name=""/>
            <p:cNvCxnSpPr>
              <a:stCxn id="1643" idx="0"/>
              <a:endCxn id="1652" idx="0"/>
            </p:cNvCxnSpPr>
            <p:nvPr/>
          </p:nvCxnSpPr>
          <p:spPr>
            <a:xfrm rot="5400000">
              <a:off x="4570920" y="1052280"/>
              <a:ext cx="2377440" cy="3529800"/>
            </a:xfrm>
            <a:prstGeom prst="curvedConnector5">
              <a:avLst>
                <a:gd name="adj1" fmla="val 49962"/>
                <a:gd name="adj2" fmla="val 50000"/>
                <a:gd name="adj3" fmla="val 4996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654" name=""/>
          <p:cNvGrpSpPr/>
          <p:nvPr/>
        </p:nvGrpSpPr>
        <p:grpSpPr>
          <a:xfrm>
            <a:off x="2411280" y="4149720"/>
            <a:ext cx="1729080" cy="1584360"/>
            <a:chOff x="2411280" y="4149720"/>
            <a:chExt cx="1729080" cy="1584360"/>
          </a:xfrm>
        </p:grpSpPr>
        <p:grpSp>
          <p:nvGrpSpPr>
            <p:cNvPr id="1655" name=""/>
            <p:cNvGrpSpPr/>
            <p:nvPr/>
          </p:nvGrpSpPr>
          <p:grpSpPr>
            <a:xfrm>
              <a:off x="3276720" y="4196880"/>
              <a:ext cx="792000" cy="744840"/>
              <a:chOff x="3276720" y="4196880"/>
              <a:chExt cx="792000" cy="744840"/>
            </a:xfrm>
          </p:grpSpPr>
          <p:sp>
            <p:nvSpPr>
              <p:cNvPr id="1656" name=""/>
              <p:cNvSpPr/>
              <p:nvPr/>
            </p:nvSpPr>
            <p:spPr>
              <a:xfrm>
                <a:off x="327672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3492360" y="4653000"/>
                <a:ext cx="2890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3781440" y="4292640"/>
                <a:ext cx="287280" cy="2887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9" name=""/>
              <p:cNvCxnSpPr>
                <a:stCxn id="1656" idx="7"/>
                <a:endCxn id="1658" idx="1"/>
              </p:cNvCxnSpPr>
              <p:nvPr/>
            </p:nvCxnSpPr>
            <p:spPr>
              <a:xfrm flipH="1" rot="16200000">
                <a:off x="3672000" y="4184280"/>
                <a:ext cx="2160" cy="303840"/>
              </a:xfrm>
              <a:prstGeom prst="curvedConnector5">
                <a:avLst>
                  <a:gd name="adj1" fmla="val -7700000"/>
                  <a:gd name="adj2" fmla="val 49940"/>
                  <a:gd name="adj3" fmla="val -7700000"/>
                </a:avLst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0" name=""/>
              <p:cNvCxnSpPr>
                <a:stCxn id="1658" idx="4"/>
                <a:endCxn id="1657" idx="6"/>
              </p:cNvCxnSpPr>
              <p:nvPr/>
            </p:nvCxnSpPr>
            <p:spPr>
              <a:xfrm rot="5400000">
                <a:off x="3744720" y="4617360"/>
                <a:ext cx="216720" cy="144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1" name=""/>
              <p:cNvCxnSpPr>
                <a:stCxn id="1657" idx="2"/>
                <a:endCxn id="1656" idx="4"/>
              </p:cNvCxnSpPr>
              <p:nvPr/>
            </p:nvCxnSpPr>
            <p:spPr>
              <a:xfrm rot="10800000">
                <a:off x="3420360" y="4580640"/>
                <a:ext cx="72000" cy="216720"/>
              </a:xfrm>
              <a:prstGeom prst="curvedConnector2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1662" name=""/>
            <p:cNvSpPr/>
            <p:nvPr/>
          </p:nvSpPr>
          <p:spPr>
            <a:xfrm>
              <a:off x="2627280" y="4149720"/>
              <a:ext cx="151308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2411280" y="5300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634120" y="4149720"/>
              <a:ext cx="69408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SM(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oclib_vci_local_crossbar_simple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tps://www-asim.lip6.fr/trac/sesi-systemc/attachment/wiki/cours3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Décodage d’adresse,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2050920" y="1628640"/>
            <a:ext cx="129564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385128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050920" y="4437000"/>
            <a:ext cx="129564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5651640" y="1628640"/>
            <a:ext cx="1295280" cy="863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3851280" y="4437000"/>
            <a:ext cx="1295280" cy="576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050920" y="3068640"/>
            <a:ext cx="4896000" cy="792000"/>
          </a:xfrm>
          <a:prstGeom prst="rect">
            <a:avLst/>
          </a:prstGeom>
          <a:gradFill rotWithShape="0">
            <a:gsLst>
              <a:gs pos="0">
                <a:srgbClr val="656565"/>
              </a:gs>
              <a:gs pos="50000">
                <a:srgbClr val="dddddd"/>
              </a:gs>
              <a:gs pos="100000">
                <a:srgbClr val="6565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LIB_VCI_LOCAL_CROSSBAR_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6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449892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299280" y="249228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4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269892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4284720" y="3284640"/>
            <a:ext cx="3497040" cy="2609640"/>
            <a:chOff x="4284720" y="3284640"/>
            <a:chExt cx="3497040" cy="2609640"/>
          </a:xfrm>
        </p:grpSpPr>
        <p:sp>
          <p:nvSpPr>
            <p:cNvPr id="1680" name=""/>
            <p:cNvSpPr/>
            <p:nvPr/>
          </p:nvSpPr>
          <p:spPr>
            <a:xfrm>
              <a:off x="601200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284720" y="3933720"/>
              <a:ext cx="3382920" cy="8636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2" name="" descr=""/>
            <p:cNvPicPr/>
            <p:nvPr/>
          </p:nvPicPr>
          <p:blipFill>
            <a:blip r:embed="rId2"/>
            <a:stretch/>
          </p:blipFill>
          <p:spPr>
            <a:xfrm>
              <a:off x="42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3" name="" descr=""/>
            <p:cNvPicPr/>
            <p:nvPr/>
          </p:nvPicPr>
          <p:blipFill>
            <a:blip r:embed="rId3"/>
            <a:stretch/>
          </p:blipFill>
          <p:spPr>
            <a:xfrm>
              <a:off x="514836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4" name="" descr=""/>
            <p:cNvPicPr/>
            <p:nvPr/>
          </p:nvPicPr>
          <p:blipFill>
            <a:blip r:embed="rId4"/>
            <a:stretch/>
          </p:blipFill>
          <p:spPr>
            <a:xfrm>
              <a:off x="6084720" y="5084640"/>
              <a:ext cx="76212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5" name="" descr=""/>
            <p:cNvPicPr/>
            <p:nvPr/>
          </p:nvPicPr>
          <p:blipFill>
            <a:blip r:embed="rId5"/>
            <a:stretch/>
          </p:blipFill>
          <p:spPr>
            <a:xfrm>
              <a:off x="7020000" y="5084640"/>
              <a:ext cx="76176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6" name=""/>
            <p:cNvSpPr/>
            <p:nvPr/>
          </p:nvSpPr>
          <p:spPr>
            <a:xfrm>
              <a:off x="464328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55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44364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308720" y="4797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451640" y="4581360"/>
              <a:ext cx="21600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"/>
          <p:cNvGrpSpPr/>
          <p:nvPr/>
        </p:nvGrpSpPr>
        <p:grpSpPr>
          <a:xfrm>
            <a:off x="684360" y="3284640"/>
            <a:ext cx="1726920" cy="1512720"/>
            <a:chOff x="684360" y="3284640"/>
            <a:chExt cx="1726920" cy="1512720"/>
          </a:xfrm>
        </p:grpSpPr>
        <p:sp>
          <p:nvSpPr>
            <p:cNvPr id="1692" name=""/>
            <p:cNvSpPr/>
            <p:nvPr/>
          </p:nvSpPr>
          <p:spPr>
            <a:xfrm>
              <a:off x="147636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84360" y="3933720"/>
              <a:ext cx="1726920" cy="8636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T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195640" y="4581360"/>
              <a:ext cx="215640" cy="216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8" name=""/>
          <p:cNvGrpSpPr/>
          <p:nvPr/>
        </p:nvGrpSpPr>
        <p:grpSpPr>
          <a:xfrm>
            <a:off x="2484360" y="3284640"/>
            <a:ext cx="1727280" cy="3384360"/>
            <a:chOff x="2484360" y="3284640"/>
            <a:chExt cx="1727280" cy="3384360"/>
          </a:xfrm>
        </p:grpSpPr>
        <p:sp>
          <p:nvSpPr>
            <p:cNvPr id="1699" name=""/>
            <p:cNvSpPr/>
            <p:nvPr/>
          </p:nvSpPr>
          <p:spPr>
            <a:xfrm>
              <a:off x="2484360" y="3933720"/>
              <a:ext cx="1727280" cy="273528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Ra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276720" y="3284640"/>
              <a:ext cx="0" cy="647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702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707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712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717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1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722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4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725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728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731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734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6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737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ni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egments, address decoding and cacheability ma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et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F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11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1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xt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4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1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cep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8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r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11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y   0x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0000  =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00 000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sk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0x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  = 0000 0000 00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1</a:t>
            </a: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0000 0000 0000 0000 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5400000">
            <a:off x="3060720" y="328428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rot="5400000">
            <a:off x="3924360" y="3644640"/>
            <a:ext cx="215640" cy="216000"/>
          </a:xfrm>
          <a:custGeom>
            <a:avLst/>
            <a:gdLst>
              <a:gd name="textAreaLeft" fmla="*/ 0 w 215640"/>
              <a:gd name="textAreaRight" fmla="*/ 77760 w 215640"/>
              <a:gd name="textAreaTop" fmla="*/ 5400 h 216000"/>
              <a:gd name="textAreaBottom" fmla="*/ 2106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630880" y="3933720"/>
            <a:ext cx="11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854520" y="393372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 cache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7451640" y="1916280"/>
            <a:ext cx="1152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res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6878520" y="1916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7451640" y="2492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6878520" y="2492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7451640" y="170028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878520" y="17002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C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7451640" y="321300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exc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878520" y="32130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7451640" y="414972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878520" y="4149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7451640" y="4797360"/>
            <a:ext cx="1152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878520" y="4797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451640" y="1125360"/>
            <a:ext cx="1152720" cy="388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6878520" y="1125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x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7451640" y="1125360"/>
            <a:ext cx="1441440" cy="57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7451640" y="2133720"/>
            <a:ext cx="1441440" cy="358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451640" y="2708280"/>
            <a:ext cx="1441440" cy="50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451640" y="3429000"/>
            <a:ext cx="1441440" cy="720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7451640" y="4365720"/>
            <a:ext cx="1441440" cy="431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5940360" y="51577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latform address spac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pp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8604360" y="1700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8604360" y="1916280"/>
            <a:ext cx="28872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8604360" y="321300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8604360" y="414972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8604360" y="479736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8604360" y="2492280"/>
            <a:ext cx="288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"/>
          <p:cNvSpPr/>
          <p:nvPr/>
        </p:nvSpPr>
        <p:spPr>
          <a:xfrm>
            <a:off x="147636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147636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484360" y="3933720"/>
            <a:ext cx="1727280" cy="273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684360" y="2492280"/>
            <a:ext cx="6984720" cy="79236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684360" y="620640"/>
            <a:ext cx="1584000" cy="1225800"/>
          </a:xfrm>
          <a:prstGeom prst="rect">
            <a:avLst/>
          </a:prstGeom>
          <a:blipFill rotWithShape="0">
            <a:blip r:embed="rId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75564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3933720"/>
            <a:ext cx="1726920" cy="863640"/>
          </a:xfrm>
          <a:prstGeom prst="rect">
            <a:avLst/>
          </a:prstGeom>
          <a:blipFill rotWithShape="0">
            <a:blip r:embed="rId4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3276720" y="328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2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2484360" y="620640"/>
            <a:ext cx="1584360" cy="1225800"/>
          </a:xfrm>
          <a:prstGeom prst="rect">
            <a:avLst/>
          </a:prstGeom>
          <a:blipFill rotWithShape="0">
            <a:blip r:embed="rId5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556000" y="693720"/>
            <a:ext cx="143964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507672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284720" y="620640"/>
            <a:ext cx="1584360" cy="1225800"/>
          </a:xfrm>
          <a:prstGeom prst="rect">
            <a:avLst/>
          </a:prstGeom>
          <a:blipFill rotWithShape="0">
            <a:blip r:embed="rId6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435600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6877080" y="184464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084720" y="620640"/>
            <a:ext cx="1584360" cy="122580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Xcache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>
            <a:off x="6156360" y="693720"/>
            <a:ext cx="1440000" cy="5047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3366ff"/>
              </a:gs>
            </a:gsLst>
            <a:lin ang="81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ps32El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322200" y="333360"/>
            <a:ext cx="504720" cy="3743280"/>
            <a:chOff x="322200" y="333360"/>
            <a:chExt cx="504720" cy="3743280"/>
          </a:xfrm>
        </p:grpSpPr>
        <p:sp>
          <p:nvSpPr>
            <p:cNvPr id="1800" name=""/>
            <p:cNvSpPr/>
            <p:nvPr/>
          </p:nvSpPr>
          <p:spPr>
            <a:xfrm>
              <a:off x="826920" y="3333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323280" y="333360"/>
              <a:ext cx="50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22200" y="333360"/>
              <a:ext cx="1440" cy="37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323640" y="4076640"/>
              <a:ext cx="36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250560" y="260280"/>
            <a:ext cx="2376720" cy="3889080"/>
            <a:chOff x="250560" y="260280"/>
            <a:chExt cx="2376720" cy="3889080"/>
          </a:xfrm>
        </p:grpSpPr>
        <p:sp>
          <p:nvSpPr>
            <p:cNvPr id="1805" name=""/>
            <p:cNvSpPr/>
            <p:nvPr/>
          </p:nvSpPr>
          <p:spPr>
            <a:xfrm>
              <a:off x="2627280" y="26028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H="1">
              <a:off x="250560" y="260280"/>
              <a:ext cx="23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50920" y="260280"/>
              <a:ext cx="0" cy="38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H="1">
              <a:off x="250920" y="414936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9" name=""/>
          <p:cNvGrpSpPr/>
          <p:nvPr/>
        </p:nvGrpSpPr>
        <p:grpSpPr>
          <a:xfrm>
            <a:off x="178920" y="189000"/>
            <a:ext cx="4248720" cy="4032000"/>
            <a:chOff x="178920" y="189000"/>
            <a:chExt cx="4248720" cy="4032000"/>
          </a:xfrm>
        </p:grpSpPr>
        <p:sp>
          <p:nvSpPr>
            <p:cNvPr id="1810" name=""/>
            <p:cNvSpPr/>
            <p:nvPr/>
          </p:nvSpPr>
          <p:spPr>
            <a:xfrm>
              <a:off x="4427640" y="189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>
              <a:off x="178920" y="189000"/>
              <a:ext cx="42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79280" y="189000"/>
              <a:ext cx="0" cy="40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>
              <a:off x="178920" y="4221000"/>
              <a:ext cx="50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"/>
          <p:cNvGrpSpPr/>
          <p:nvPr/>
        </p:nvGrpSpPr>
        <p:grpSpPr>
          <a:xfrm>
            <a:off x="107640" y="117360"/>
            <a:ext cx="6120000" cy="4174920"/>
            <a:chOff x="107640" y="117360"/>
            <a:chExt cx="6120000" cy="4174920"/>
          </a:xfrm>
        </p:grpSpPr>
        <p:sp>
          <p:nvSpPr>
            <p:cNvPr id="1815" name=""/>
            <p:cNvSpPr/>
            <p:nvPr/>
          </p:nvSpPr>
          <p:spPr>
            <a:xfrm>
              <a:off x="6227640" y="1173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H="1">
              <a:off x="107640" y="117360"/>
              <a:ext cx="611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08000" y="117360"/>
              <a:ext cx="0" cy="41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H="1">
              <a:off x="108000" y="4292280"/>
              <a:ext cx="57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9" name=""/>
          <p:cNvGrpSpPr/>
          <p:nvPr/>
        </p:nvGrpSpPr>
        <p:grpSpPr>
          <a:xfrm>
            <a:off x="4284720" y="3284640"/>
            <a:ext cx="3496680" cy="2609280"/>
            <a:chOff x="4284720" y="3284640"/>
            <a:chExt cx="3496680" cy="2609280"/>
          </a:xfrm>
        </p:grpSpPr>
        <p:sp>
          <p:nvSpPr>
            <p:cNvPr id="1820" name=""/>
            <p:cNvSpPr/>
            <p:nvPr/>
          </p:nvSpPr>
          <p:spPr>
            <a:xfrm>
              <a:off x="6011640" y="3284640"/>
              <a:ext cx="0" cy="64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284720" y="3933720"/>
              <a:ext cx="3382560" cy="8632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VciMultiT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2" name="" descr=""/>
            <p:cNvPicPr/>
            <p:nvPr/>
          </p:nvPicPr>
          <p:blipFill>
            <a:blip r:embed="rId9"/>
            <a:stretch/>
          </p:blipFill>
          <p:spPr>
            <a:xfrm>
              <a:off x="428472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3" name="" descr=""/>
            <p:cNvPicPr/>
            <p:nvPr/>
          </p:nvPicPr>
          <p:blipFill>
            <a:blip r:embed="rId10"/>
            <a:stretch/>
          </p:blipFill>
          <p:spPr>
            <a:xfrm>
              <a:off x="514800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4" name="" descr=""/>
            <p:cNvPicPr/>
            <p:nvPr/>
          </p:nvPicPr>
          <p:blipFill>
            <a:blip r:embed="rId11"/>
            <a:stretch/>
          </p:blipFill>
          <p:spPr>
            <a:xfrm>
              <a:off x="6084720" y="5084640"/>
              <a:ext cx="761400" cy="80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12"/>
            <a:stretch/>
          </p:blipFill>
          <p:spPr>
            <a:xfrm>
              <a:off x="7019640" y="5084640"/>
              <a:ext cx="761760" cy="80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46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50836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44328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7308720" y="4797360"/>
              <a:ext cx="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0" name=""/>
          <p:cNvSpPr/>
          <p:nvPr/>
        </p:nvSpPr>
        <p:spPr>
          <a:xfrm>
            <a:off x="3995640" y="645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2195640" y="4581360"/>
            <a:ext cx="21564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7451640" y="4581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205092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385128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5651640" y="1628640"/>
            <a:ext cx="21564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7451640" y="1628640"/>
            <a:ext cx="216000" cy="21600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7164360" y="1484280"/>
            <a:ext cx="1979640" cy="4897440"/>
          </a:xfrm>
          <a:prstGeom prst="rect">
            <a:avLst/>
          </a:prstGeom>
          <a:blipFill rotWithShape="0">
            <a:blip r:embed="rId13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apping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8" name=""/>
          <p:cNvGrpSpPr/>
          <p:nvPr/>
        </p:nvGrpSpPr>
        <p:grpSpPr>
          <a:xfrm>
            <a:off x="2556000" y="4005360"/>
            <a:ext cx="1584360" cy="503280"/>
            <a:chOff x="2556000" y="4005360"/>
            <a:chExt cx="1584360" cy="503280"/>
          </a:xfrm>
        </p:grpSpPr>
        <p:sp>
          <p:nvSpPr>
            <p:cNvPr id="1839" name=""/>
            <p:cNvSpPr/>
            <p:nvPr/>
          </p:nvSpPr>
          <p:spPr>
            <a:xfrm>
              <a:off x="25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BFC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9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2556000" y="4581360"/>
            <a:ext cx="1584360" cy="503280"/>
            <a:chOff x="2556000" y="4581360"/>
            <a:chExt cx="1584360" cy="503280"/>
          </a:xfrm>
        </p:grpSpPr>
        <p:sp>
          <p:nvSpPr>
            <p:cNvPr id="1842" name=""/>
            <p:cNvSpPr/>
            <p:nvPr/>
          </p:nvSpPr>
          <p:spPr>
            <a:xfrm>
              <a:off x="2556000" y="4581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004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5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924720" y="4725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2556000" y="5157720"/>
            <a:ext cx="1584360" cy="503280"/>
            <a:chOff x="2556000" y="5157720"/>
            <a:chExt cx="1584360" cy="503280"/>
          </a:xfrm>
        </p:grpSpPr>
        <p:sp>
          <p:nvSpPr>
            <p:cNvPr id="1845" name=""/>
            <p:cNvSpPr/>
            <p:nvPr/>
          </p:nvSpPr>
          <p:spPr>
            <a:xfrm>
              <a:off x="2556000" y="515772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exce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8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1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24720" y="530208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2556000" y="5734080"/>
            <a:ext cx="1584360" cy="503280"/>
            <a:chOff x="2556000" y="5734080"/>
            <a:chExt cx="1584360" cy="503280"/>
          </a:xfrm>
        </p:grpSpPr>
        <p:sp>
          <p:nvSpPr>
            <p:cNvPr id="1848" name=""/>
            <p:cNvSpPr/>
            <p:nvPr/>
          </p:nvSpPr>
          <p:spPr>
            <a:xfrm>
              <a:off x="2556000" y="573408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ASE=0x100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IZE=0x0002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24720" y="587844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"/>
          <p:cNvGrpSpPr/>
          <p:nvPr/>
        </p:nvGrpSpPr>
        <p:grpSpPr>
          <a:xfrm>
            <a:off x="755640" y="4005360"/>
            <a:ext cx="1584360" cy="503280"/>
            <a:chOff x="755640" y="4005360"/>
            <a:chExt cx="1584360" cy="503280"/>
          </a:xfrm>
        </p:grpSpPr>
        <p:sp>
          <p:nvSpPr>
            <p:cNvPr id="1851" name=""/>
            <p:cNvSpPr/>
            <p:nvPr/>
          </p:nvSpPr>
          <p:spPr>
            <a:xfrm>
              <a:off x="755640" y="400536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124000" y="414972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"/>
          <p:cNvGrpSpPr/>
          <p:nvPr/>
        </p:nvGrpSpPr>
        <p:grpSpPr>
          <a:xfrm>
            <a:off x="4356000" y="4005360"/>
            <a:ext cx="1584360" cy="503280"/>
            <a:chOff x="4356000" y="4005360"/>
            <a:chExt cx="1584360" cy="503280"/>
          </a:xfrm>
        </p:grpSpPr>
        <p:sp>
          <p:nvSpPr>
            <p:cNvPr id="1854" name=""/>
            <p:cNvSpPr/>
            <p:nvPr/>
          </p:nvSpPr>
          <p:spPr>
            <a:xfrm>
              <a:off x="4356000" y="4005360"/>
              <a:ext cx="158292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t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C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0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724720" y="4149720"/>
              <a:ext cx="21564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6" name=""/>
          <p:cNvSpPr/>
          <p:nvPr/>
        </p:nvSpPr>
        <p:spPr>
          <a:xfrm>
            <a:off x="8820000" y="1773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8820000" y="234936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8820000" y="299736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8820000" y="3645000"/>
            <a:ext cx="216000" cy="215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8820000" y="429264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8820000" y="4941720"/>
            <a:ext cx="216000" cy="21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85185E-006 L 0.5118 -0.35162 E">
                                      <p:cBhvr>
                                        <p:cTn id="364" dur="2000" fill="hold"/>
                                        <p:tgtEl>
                                          <p:spTgt spid="1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5118 -0.3412 E">
                                      <p:cBhvr>
                                        <p:cTn id="375" dur="2000" fill="hold"/>
                                        <p:tgtEl>
                                          <p:spTgt spid="18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5118 -0.33056 E">
                                      <p:cBhvr>
                                        <p:cTn id="386" dur="2000" fill="hold"/>
                                        <p:tgtEl>
                                          <p:spTgt spid="1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81481E-006 L 0.5118 -0.32014 E">
                                      <p:cBhvr>
                                        <p:cTn id="397" dur="2000" fill="hold"/>
                                        <p:tgtEl>
                                          <p:spTgt spid="1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70868 0.02639 E">
                                      <p:cBhvr>
                                        <p:cTn id="408" dur="2000" fill="hold"/>
                                        <p:tgtEl>
                                          <p:spTgt spid="18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31493 0.12084 E">
                                      <p:cBhvr>
                                        <p:cTn id="419" dur="2000" fill="hold"/>
                                        <p:tgtEl>
                                          <p:spTgt spid="18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e de Moore modifi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71640" y="1738440"/>
            <a:ext cx="6912000" cy="46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2386080"/>
            <a:ext cx="1008000" cy="29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’ét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2386080"/>
            <a:ext cx="172908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386080"/>
            <a:ext cx="1728720" cy="2952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éné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mbinatoi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382572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3825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1636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913640" y="64389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1640" y="483408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76360" y="303372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80360" y="3825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5435640" y="2169720"/>
            <a:ext cx="0" cy="165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74920" y="2170080"/>
            <a:ext cx="39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74920" y="217008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60" y="458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030160" y="361008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282920" y="533880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720" y="64911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re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14920" y="5051520"/>
            <a:ext cx="1443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571640" y="505152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7440" y="573408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2 SC_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989000"/>
            <a:ext cx="367344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51640" y="1989000"/>
            <a:ext cx="1944720" cy="36007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"/>
          <p:cNvSpPr/>
          <p:nvPr/>
        </p:nvSpPr>
        <p:spPr>
          <a:xfrm>
            <a:off x="2144520" y="2736720"/>
            <a:ext cx="70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oclib::caba::VciParams&lt;4,6,32,1,1,1,8,1,1,1&gt; vci_para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1495800" y="3024360"/>
            <a:ext cx="4184280" cy="596160"/>
            <a:chOff x="1495800" y="3024360"/>
            <a:chExt cx="4184280" cy="596160"/>
          </a:xfrm>
        </p:grpSpPr>
        <p:grpSp>
          <p:nvGrpSpPr>
            <p:cNvPr id="1864" name=""/>
            <p:cNvGrpSpPr/>
            <p:nvPr/>
          </p:nvGrpSpPr>
          <p:grpSpPr>
            <a:xfrm>
              <a:off x="3664080" y="3024360"/>
              <a:ext cx="2016000" cy="504720"/>
              <a:chOff x="3664080" y="3024360"/>
              <a:chExt cx="2016000" cy="504720"/>
            </a:xfrm>
          </p:grpSpPr>
          <p:sp>
            <p:nvSpPr>
              <p:cNvPr id="1865" name=""/>
              <p:cNvSpPr/>
              <p:nvPr/>
            </p:nvSpPr>
            <p:spPr>
              <a:xfrm flipV="1">
                <a:off x="5680080" y="3024360"/>
                <a:ext cx="0" cy="504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3664080" y="3529080"/>
                <a:ext cx="201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7" name=""/>
            <p:cNvSpPr/>
            <p:nvPr/>
          </p:nvSpPr>
          <p:spPr>
            <a:xfrm>
              <a:off x="1495800" y="3313440"/>
              <a:ext cx="217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ell_size = 4 * 8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"/>
          <p:cNvGrpSpPr/>
          <p:nvPr/>
        </p:nvGrpSpPr>
        <p:grpSpPr>
          <a:xfrm>
            <a:off x="1499040" y="3024000"/>
            <a:ext cx="4396680" cy="954720"/>
            <a:chOff x="1499040" y="3024000"/>
            <a:chExt cx="4396680" cy="954720"/>
          </a:xfrm>
        </p:grpSpPr>
        <p:grpSp>
          <p:nvGrpSpPr>
            <p:cNvPr id="1869" name=""/>
            <p:cNvGrpSpPr/>
            <p:nvPr/>
          </p:nvGrpSpPr>
          <p:grpSpPr>
            <a:xfrm>
              <a:off x="3663720" y="3024000"/>
              <a:ext cx="2232000" cy="863280"/>
              <a:chOff x="3663720" y="3024000"/>
              <a:chExt cx="2232000" cy="863280"/>
            </a:xfrm>
          </p:grpSpPr>
          <p:sp>
            <p:nvSpPr>
              <p:cNvPr id="1870" name=""/>
              <p:cNvSpPr/>
              <p:nvPr/>
            </p:nvSpPr>
            <p:spPr>
              <a:xfrm flipV="1">
                <a:off x="5895720" y="3024000"/>
                <a:ext cx="0" cy="86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3663720" y="3887280"/>
                <a:ext cx="22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1499040" y="3671640"/>
              <a:ext cx="186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len_size = 64 wor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"/>
          <p:cNvGrpSpPr/>
          <p:nvPr/>
        </p:nvGrpSpPr>
        <p:grpSpPr>
          <a:xfrm>
            <a:off x="1498320" y="3024000"/>
            <a:ext cx="4686120" cy="1315080"/>
            <a:chOff x="1498320" y="3024000"/>
            <a:chExt cx="4686120" cy="1315080"/>
          </a:xfrm>
        </p:grpSpPr>
        <p:grpSp>
          <p:nvGrpSpPr>
            <p:cNvPr id="1874" name=""/>
            <p:cNvGrpSpPr/>
            <p:nvPr/>
          </p:nvGrpSpPr>
          <p:grpSpPr>
            <a:xfrm>
              <a:off x="3663720" y="3024000"/>
              <a:ext cx="2520720" cy="1223280"/>
              <a:chOff x="3663720" y="3024000"/>
              <a:chExt cx="2520720" cy="1223280"/>
            </a:xfrm>
          </p:grpSpPr>
          <p:sp>
            <p:nvSpPr>
              <p:cNvPr id="1875" name=""/>
              <p:cNvSpPr/>
              <p:nvPr/>
            </p:nvSpPr>
            <p:spPr>
              <a:xfrm flipV="1">
                <a:off x="6184440" y="3024000"/>
                <a:ext cx="0" cy="122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3663720" y="4247280"/>
                <a:ext cx="252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1498320" y="4032000"/>
              <a:ext cx="1686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addr_size = 32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498680" y="3024000"/>
            <a:ext cx="4974840" cy="1675440"/>
            <a:chOff x="1498680" y="3024000"/>
            <a:chExt cx="4974840" cy="1675440"/>
          </a:xfrm>
        </p:grpSpPr>
        <p:grpSp>
          <p:nvGrpSpPr>
            <p:cNvPr id="1879" name=""/>
            <p:cNvGrpSpPr/>
            <p:nvPr/>
          </p:nvGrpSpPr>
          <p:grpSpPr>
            <a:xfrm>
              <a:off x="3664080" y="3024000"/>
              <a:ext cx="2809440" cy="1583280"/>
              <a:chOff x="3664080" y="3024000"/>
              <a:chExt cx="2809440" cy="1583280"/>
            </a:xfrm>
          </p:grpSpPr>
          <p:sp>
            <p:nvSpPr>
              <p:cNvPr id="1880" name=""/>
              <p:cNvSpPr/>
              <p:nvPr/>
            </p:nvSpPr>
            <p:spPr>
              <a:xfrm flipV="1">
                <a:off x="6473520" y="3024000"/>
                <a:ext cx="0" cy="158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>
                <a:off x="3664080" y="4607280"/>
                <a:ext cx="2809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2" name=""/>
            <p:cNvSpPr/>
            <p:nvPr/>
          </p:nvSpPr>
          <p:spPr>
            <a:xfrm>
              <a:off x="1498680" y="4392360"/>
              <a:ext cx="157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error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3" name=""/>
          <p:cNvGrpSpPr/>
          <p:nvPr/>
        </p:nvGrpSpPr>
        <p:grpSpPr>
          <a:xfrm>
            <a:off x="1499400" y="3024360"/>
            <a:ext cx="5190120" cy="2035440"/>
            <a:chOff x="1499400" y="3024360"/>
            <a:chExt cx="5190120" cy="2035440"/>
          </a:xfrm>
        </p:grpSpPr>
        <p:grpSp>
          <p:nvGrpSpPr>
            <p:cNvPr id="1884" name=""/>
            <p:cNvGrpSpPr/>
            <p:nvPr/>
          </p:nvGrpSpPr>
          <p:grpSpPr>
            <a:xfrm>
              <a:off x="3664080" y="3024360"/>
              <a:ext cx="3025440" cy="1943280"/>
              <a:chOff x="3664080" y="3024360"/>
              <a:chExt cx="3025440" cy="1943280"/>
            </a:xfrm>
          </p:grpSpPr>
          <p:sp>
            <p:nvSpPr>
              <p:cNvPr id="1885" name=""/>
              <p:cNvSpPr/>
              <p:nvPr/>
            </p:nvSpPr>
            <p:spPr>
              <a:xfrm flipV="1">
                <a:off x="6689520" y="3024360"/>
                <a:ext cx="0" cy="19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>
                <a:off x="3664080" y="4967640"/>
                <a:ext cx="30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7" name=""/>
            <p:cNvSpPr/>
            <p:nvPr/>
          </p:nvSpPr>
          <p:spPr>
            <a:xfrm>
              <a:off x="1499400" y="475272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c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8" name=""/>
          <p:cNvGrpSpPr/>
          <p:nvPr/>
        </p:nvGrpSpPr>
        <p:grpSpPr>
          <a:xfrm>
            <a:off x="1499040" y="3024360"/>
            <a:ext cx="5406120" cy="2395800"/>
            <a:chOff x="1499040" y="3024360"/>
            <a:chExt cx="5406120" cy="2395800"/>
          </a:xfrm>
        </p:grpSpPr>
        <p:grpSp>
          <p:nvGrpSpPr>
            <p:cNvPr id="1889" name=""/>
            <p:cNvGrpSpPr/>
            <p:nvPr/>
          </p:nvGrpSpPr>
          <p:grpSpPr>
            <a:xfrm>
              <a:off x="3663720" y="3024360"/>
              <a:ext cx="3241440" cy="2303280"/>
              <a:chOff x="3663720" y="3024360"/>
              <a:chExt cx="3241440" cy="2303280"/>
            </a:xfrm>
          </p:grpSpPr>
          <p:sp>
            <p:nvSpPr>
              <p:cNvPr id="1890" name=""/>
              <p:cNvSpPr/>
              <p:nvPr/>
            </p:nvSpPr>
            <p:spPr>
              <a:xfrm flipV="1">
                <a:off x="6905160" y="3024360"/>
                <a:ext cx="0" cy="230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>
                <a:off x="3663720" y="5327640"/>
                <a:ext cx="3241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1499040" y="511308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rflag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1498320" y="3024360"/>
            <a:ext cx="5622840" cy="2754720"/>
            <a:chOff x="1498320" y="3024360"/>
            <a:chExt cx="5622840" cy="2754720"/>
          </a:xfrm>
        </p:grpSpPr>
        <p:grpSp>
          <p:nvGrpSpPr>
            <p:cNvPr id="1894" name=""/>
            <p:cNvGrpSpPr/>
            <p:nvPr/>
          </p:nvGrpSpPr>
          <p:grpSpPr>
            <a:xfrm>
              <a:off x="3663720" y="3024360"/>
              <a:ext cx="3457440" cy="2661840"/>
              <a:chOff x="3663720" y="3024360"/>
              <a:chExt cx="3457440" cy="2661840"/>
            </a:xfrm>
          </p:grpSpPr>
          <p:sp>
            <p:nvSpPr>
              <p:cNvPr id="1895" name=""/>
              <p:cNvSpPr/>
              <p:nvPr/>
            </p:nvSpPr>
            <p:spPr>
              <a:xfrm flipV="1">
                <a:off x="7121160" y="3024360"/>
                <a:ext cx="0" cy="2661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>
                <a:off x="3663720" y="5686200"/>
                <a:ext cx="3457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1498320" y="5472000"/>
              <a:ext cx="160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srcid_size = 8 b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1499040" y="3024000"/>
            <a:ext cx="5838120" cy="3115440"/>
            <a:chOff x="1499040" y="3024000"/>
            <a:chExt cx="5838120" cy="3115440"/>
          </a:xfrm>
        </p:grpSpPr>
        <p:grpSp>
          <p:nvGrpSpPr>
            <p:cNvPr id="1899" name=""/>
            <p:cNvGrpSpPr/>
            <p:nvPr/>
          </p:nvGrpSpPr>
          <p:grpSpPr>
            <a:xfrm>
              <a:off x="3663720" y="3024000"/>
              <a:ext cx="3673440" cy="3022560"/>
              <a:chOff x="3663720" y="3024000"/>
              <a:chExt cx="3673440" cy="3022560"/>
            </a:xfrm>
          </p:grpSpPr>
          <p:sp>
            <p:nvSpPr>
              <p:cNvPr id="1900" name=""/>
              <p:cNvSpPr/>
              <p:nvPr/>
            </p:nvSpPr>
            <p:spPr>
              <a:xfrm flipV="1">
                <a:off x="7337160" y="3024000"/>
                <a:ext cx="0" cy="302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>
                <a:off x="3663720" y="6046560"/>
                <a:ext cx="3673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2" name=""/>
            <p:cNvSpPr/>
            <p:nvPr/>
          </p:nvSpPr>
          <p:spPr>
            <a:xfrm>
              <a:off x="1499040" y="5832360"/>
              <a:ext cx="15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pkt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1499040" y="3024000"/>
            <a:ext cx="6053400" cy="3475800"/>
            <a:chOff x="1499040" y="3024000"/>
            <a:chExt cx="6053400" cy="3475800"/>
          </a:xfrm>
        </p:grpSpPr>
        <p:grpSp>
          <p:nvGrpSpPr>
            <p:cNvPr id="1904" name=""/>
            <p:cNvGrpSpPr/>
            <p:nvPr/>
          </p:nvGrpSpPr>
          <p:grpSpPr>
            <a:xfrm>
              <a:off x="3663720" y="3024000"/>
              <a:ext cx="3888720" cy="3382560"/>
              <a:chOff x="3663720" y="3024000"/>
              <a:chExt cx="3888720" cy="3382560"/>
            </a:xfrm>
          </p:grpSpPr>
          <p:sp>
            <p:nvSpPr>
              <p:cNvPr id="1905" name=""/>
              <p:cNvSpPr/>
              <p:nvPr/>
            </p:nvSpPr>
            <p:spPr>
              <a:xfrm flipV="1">
                <a:off x="7552440" y="3024000"/>
                <a:ext cx="0" cy="338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3663720" y="6406560"/>
                <a:ext cx="3888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1499040" y="6192720"/>
              <a:ext cx="148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trdid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1499760" y="3024000"/>
            <a:ext cx="6268680" cy="3836160"/>
            <a:chOff x="1499760" y="3024000"/>
            <a:chExt cx="6268680" cy="3836160"/>
          </a:xfrm>
        </p:grpSpPr>
        <p:grpSp>
          <p:nvGrpSpPr>
            <p:cNvPr id="1909" name=""/>
            <p:cNvGrpSpPr/>
            <p:nvPr/>
          </p:nvGrpSpPr>
          <p:grpSpPr>
            <a:xfrm>
              <a:off x="3663720" y="3024000"/>
              <a:ext cx="4104720" cy="3742560"/>
              <a:chOff x="3663720" y="3024000"/>
              <a:chExt cx="4104720" cy="3742560"/>
            </a:xfrm>
          </p:grpSpPr>
          <p:sp>
            <p:nvSpPr>
              <p:cNvPr id="1910" name=""/>
              <p:cNvSpPr/>
              <p:nvPr/>
            </p:nvSpPr>
            <p:spPr>
              <a:xfrm flipV="1">
                <a:off x="7768440" y="3024000"/>
                <a:ext cx="0" cy="3742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3663720" y="6766560"/>
                <a:ext cx="410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2" name=""/>
            <p:cNvSpPr/>
            <p:nvPr/>
          </p:nvSpPr>
          <p:spPr>
            <a:xfrm>
              <a:off x="1499760" y="655308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wrplen_size = 1 b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3" name=""/>
          <p:cNvSpPr/>
          <p:nvPr/>
        </p:nvSpPr>
        <p:spPr>
          <a:xfrm>
            <a:off x="468360" y="907920"/>
            <a:ext cx="0" cy="648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108000" y="1557360"/>
            <a:ext cx="172728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T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5" name=""/>
          <p:cNvGrpSpPr/>
          <p:nvPr/>
        </p:nvGrpSpPr>
        <p:grpSpPr>
          <a:xfrm>
            <a:off x="179280" y="1628640"/>
            <a:ext cx="1584360" cy="503280"/>
            <a:chOff x="179280" y="1628640"/>
            <a:chExt cx="1584360" cy="503280"/>
          </a:xfrm>
        </p:grpSpPr>
        <p:sp>
          <p:nvSpPr>
            <p:cNvPr id="1916" name=""/>
            <p:cNvSpPr/>
            <p:nvPr/>
          </p:nvSpPr>
          <p:spPr>
            <a:xfrm>
              <a:off x="179280" y="1628640"/>
              <a:ext cx="1582560" cy="5032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tim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BASE=0xB02000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Arial"/>
                </a:rPr>
                <a:t>SIZE=0x000001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547640" y="1773000"/>
              <a:ext cx="216000" cy="2160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8" name=""/>
          <p:cNvSpPr/>
          <p:nvPr/>
        </p:nvSpPr>
        <p:spPr>
          <a:xfrm>
            <a:off x="108000" y="115920"/>
            <a:ext cx="1727280" cy="79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VciVgm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546480" y="1052640"/>
            <a:ext cx="86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oclib::caba::VciSignals&lt;vci_param&gt; signal_vci_vcitimer("signal_vci_vcitimer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uilding the embedd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1258920" y="1628640"/>
            <a:ext cx="720720" cy="576360"/>
          </a:xfrm>
          <a:prstGeom prst="flowChartMulti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685800" y="1773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2627280" y="17733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32 *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324000" y="2708280"/>
            <a:ext cx="2447640" cy="358920"/>
          </a:xfrm>
          <a:prstGeom prst="rect">
            <a:avLst/>
          </a:prstGeom>
          <a:blipFill rotWithShape="0">
            <a:blip r:embed="rId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g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2197440" y="36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.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161928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427640" y="22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1619280" y="3141720"/>
            <a:ext cx="1224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H="1">
            <a:off x="3347640" y="3141720"/>
            <a:ext cx="10796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3132000" y="422100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5724360" y="3573360"/>
            <a:ext cx="648000" cy="432000"/>
          </a:xfrm>
          <a:prstGeom prst="flowChart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4718880" y="36450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d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 flipH="1">
            <a:off x="5219280" y="407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450072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211640" y="5373720"/>
            <a:ext cx="647640" cy="431640"/>
          </a:xfrm>
          <a:prstGeom prst="flowChartDocumen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845080" y="53737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in.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elf form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4140360" y="1628640"/>
            <a:ext cx="720720" cy="576360"/>
          </a:xfrm>
          <a:prstGeom prst="flowChartMultidocumen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700360" y="3573360"/>
            <a:ext cx="720720" cy="576360"/>
          </a:xfrm>
          <a:prstGeom prst="flowChartMultidocumen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3203640" y="2708280"/>
            <a:ext cx="2448000" cy="358920"/>
          </a:xfrm>
          <a:prstGeom prst="rect">
            <a:avLst/>
          </a:prstGeom>
          <a:blipFill rotWithShape="0">
            <a:blip r:embed="rId7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3348000" y="4508640"/>
            <a:ext cx="2448000" cy="358560"/>
          </a:xfrm>
          <a:prstGeom prst="rect">
            <a:avLst/>
          </a:prstGeom>
          <a:blipFill rotWithShape="0">
            <a:blip r:embed="rId8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ipsel-soclib-elf-unknown-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948360" y="3500280"/>
            <a:ext cx="1944720" cy="792360"/>
          </a:xfrm>
          <a:prstGeom prst="rect">
            <a:avLst/>
          </a:prstGeom>
          <a:blipFill rotWithShape="0">
            <a:blip r:embed="rId9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BFC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>
            <a:off x="6948360" y="4292640"/>
            <a:ext cx="1944720" cy="792000"/>
          </a:xfrm>
          <a:prstGeom prst="rect">
            <a:avLst/>
          </a:prstGeom>
          <a:blipFill rotWithShape="0">
            <a:blip r:embed="rId10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excep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8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6948360" y="5084640"/>
            <a:ext cx="1944720" cy="792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(0x004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6948360" y="5877000"/>
            <a:ext cx="1944720" cy="792000"/>
          </a:xfrm>
          <a:prstGeom prst="rect">
            <a:avLst/>
          </a:prstGeom>
          <a:blipFill rotWithShape="0">
            <a:blip r:embed="rId12"/>
            <a:srcRect/>
            <a:stretch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0x10000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6871680" y="2852640"/>
            <a:ext cx="1976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pplication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posed of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jet de plateforme supporté par l’ANR (Agence Nationale pour la Recherch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 partenaires industri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 labora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3300"/>
                </a:solidFill>
                <a:latin typeface="Arial"/>
              </a:rPr>
              <a:t>www.soclib.f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ibliothèqu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open-sour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odè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interopérabl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multi-niveaux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composants matériels en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SystemC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la modélisation et la simulation de plateformes multiprocess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ur chaque composant (Intellectual Property, IP) de la plateforme, il doit exister un chemin vers le silic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de VHDL (entrée de la synthèse ASIC ou sur FPGA)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n’est pas contenu dans SoCLib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tilisé pour l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rototypage virtuel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Tout se fait par simulation (pas d’émulation de matériel, pas de FPGA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CLib est conçu pour être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erforman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pas </a:t>
            </a:r>
            <a:r>
              <a:rPr b="0" lang="fr-FR" sz="2000" spc="-1" strike="noStrike">
                <a:solidFill>
                  <a:srgbClr val="ff3300"/>
                </a:solidFill>
                <a:latin typeface="Arial"/>
              </a:rPr>
              <a:t>pédag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 utilisé pour ce cours, pédagogique et obsolè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vrai SocLib, utilisé pour les cours prochai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Arial"/>
              </a:rPr>
              <a:t>Attention à la confusion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aux d’abstr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128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ycle-Accurate Bit-accur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24000" y="522936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gister Transfer Level, synthétis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24000" y="3933720"/>
            <a:ext cx="4753080" cy="11527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ycle-Accurate Bit-Accurate (CA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24000" y="2637000"/>
            <a:ext cx="475308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with Time (TLM-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20720" y="1341360"/>
            <a:ext cx="358920" cy="3745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240" y="306864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CLi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85080" y="1341360"/>
            <a:ext cx="0" cy="49690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9240" y="620640"/>
            <a:ext cx="156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1600" y="63086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24000" y="1341360"/>
            <a:ext cx="475308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nsaction Level Modeling (TL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07:50:21Z</dcterms:created>
  <dc:creator>fpecheuxadm</dc:creator>
  <dc:description/>
  <dc:language>en-US</dc:language>
  <cp:lastModifiedBy>tt</cp:lastModifiedBy>
  <dcterms:modified xsi:type="dcterms:W3CDTF">2009-10-07T18:33:31Z</dcterms:modified>
  <cp:revision>238</cp:revision>
  <dc:subject/>
  <dc:title>Diapositive 1</dc:title>
</cp:coreProperties>
</file>