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FEA-8A2A-47D6-AF35-393876B5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836-7272-498E-9FA3-84EAC0F1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C82-1D78-4397-91A3-6F8016E8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CEF-4CE7-446A-8065-8A87D6C0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6E8-7D27-480A-8476-568B3BDC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6A6-A42C-418B-A9D8-90133544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444-A774-41BD-AD1E-8F508A68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36C-7B9D-4E3D-A9CD-BD50CB02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60F-7CCD-4080-9C48-FD45655F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87D-D2EA-43AB-8217-D3BA704E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E7D-4D11-4E06-B3D5-643C8BD4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F07-F109-4B47-9B74-C4570F38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B486-D0E2-498F-94A3-23ED49BA5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3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bibliothèqu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 platform examp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nd research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AR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C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M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ASABI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-DREAMS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E 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ff"/>
                </a:solidFill>
                <a:latin typeface="Arial"/>
              </a:rPr>
              <a:t>Targeted architecture: </a:t>
            </a: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TSAR (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22320" y="1273320"/>
            <a:ext cx="8214840" cy="4748040"/>
            <a:chOff x="922320" y="1273320"/>
            <a:chExt cx="8214840" cy="4748040"/>
          </a:xfrm>
        </p:grpSpPr>
        <p:sp>
          <p:nvSpPr>
            <p:cNvPr id="121" name=""/>
            <p:cNvSpPr/>
            <p:nvPr/>
          </p:nvSpPr>
          <p:spPr>
            <a:xfrm>
              <a:off x="7765920" y="4264200"/>
              <a:ext cx="10504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5200" y="558324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65200" y="4575240"/>
              <a:ext cx="299196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3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36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23760" y="3490920"/>
              <a:ext cx="4095360" cy="29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icro- network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65200" y="518004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79480" y="518004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2960" y="5560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71360" y="50371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2280" y="4903920"/>
              <a:ext cx="10220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5800" y="4575240"/>
              <a:ext cx="298404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069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942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017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37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368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4144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2440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824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563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659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0520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0520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8252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8252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23760" y="4029120"/>
              <a:ext cx="47304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0520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0520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8252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8252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65200" y="2357280"/>
              <a:ext cx="2991960" cy="327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32680" y="2023920"/>
              <a:ext cx="110448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7520" y="2347920"/>
              <a:ext cx="299232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568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017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237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4144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1273320"/>
              <a:ext cx="55836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65200" y="1273320"/>
              <a:ext cx="6296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5200" y="1698480"/>
              <a:ext cx="31392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794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2720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2720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7296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38240" y="34909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498760" y="3467880"/>
              <a:ext cx="135000" cy="313920"/>
            </a:xfrm>
            <a:prstGeom prst="upDownArrow">
              <a:avLst>
                <a:gd name="adj1" fmla="val 50000"/>
                <a:gd name="adj2" fmla="val 46291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22320" y="3222720"/>
              <a:ext cx="69984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1712160" y="3467160"/>
              <a:ext cx="135000" cy="315720"/>
            </a:xfrm>
            <a:prstGeom prst="upDownArrow">
              <a:avLst>
                <a:gd name="adj1" fmla="val 50000"/>
                <a:gd name="adj2" fmla="val 4655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22880" y="3222720"/>
              <a:ext cx="59652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34120" y="3490920"/>
              <a:ext cx="4726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7697160" y="3467160"/>
              <a:ext cx="135000" cy="315360"/>
            </a:xfrm>
            <a:prstGeom prst="upDownArrow">
              <a:avLst>
                <a:gd name="adj1" fmla="val 50000"/>
                <a:gd name="adj2" fmla="val 4650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6908760" y="3467880"/>
              <a:ext cx="135000" cy="314280"/>
            </a:xfrm>
            <a:prstGeom prst="upDownArrow">
              <a:avLst>
                <a:gd name="adj1" fmla="val 50000"/>
                <a:gd name="adj2" fmla="val 463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48240" y="4029120"/>
              <a:ext cx="47088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3760" y="2952720"/>
              <a:ext cx="47304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48240" y="29527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79480" y="2819520"/>
              <a:ext cx="5986080" cy="1612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7836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440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4824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563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659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99040" y="1273320"/>
              <a:ext cx="55692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7440" y="1676520"/>
              <a:ext cx="23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71360" y="22147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6520" y="56023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6520" y="4781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46520" y="2455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46520" y="16351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4292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2800" y="5595840"/>
              <a:ext cx="62028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04880" y="518796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19160" y="518796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87520" y="127332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87520" y="1698480"/>
              <a:ext cx="31428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0216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4988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498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9564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560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84640" y="558000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84640" y="517680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98920" y="517680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2400" y="555768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24320" y="559296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320" y="518472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38600" y="518472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1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1) : Generic til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NPU - Computing tile – clus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74640" y="2543040"/>
            <a:ext cx="3304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 (MIPS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DU: Test &amp; Decision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MU: Voltage Management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CG: Local Clock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IC:Network Interface 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A-AS: Synchronous/Async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3640" y="2492280"/>
            <a:ext cx="4103640" cy="3095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06560" y="256536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06560" y="3645000"/>
            <a:ext cx="288108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66920" y="4726080"/>
            <a:ext cx="72072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220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68360" y="43639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82920" y="43657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14560" y="256536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0656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40360" y="3824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0360" y="2600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40360" y="3211560"/>
            <a:ext cx="720720" cy="35856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8000" y="436392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3800" y="2671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69840" y="4726080"/>
            <a:ext cx="93816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16000" y="4724280"/>
            <a:ext cx="104328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2720" y="3895560"/>
            <a:ext cx="287640" cy="252720"/>
          </a:xfrm>
          <a:prstGeom prst="leftRightArrow">
            <a:avLst>
              <a:gd name="adj1" fmla="val 50000"/>
              <a:gd name="adj2" fmla="val 226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95920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57192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64000" y="511956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9440" y="512136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8900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1428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2560" y="35100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2560" y="89064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14302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0560" y="70956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364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71640" y="125100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35100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82560" y="70956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9640" y="97956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49640" y="368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49640" y="673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0328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5280" y="14302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143028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06720" y="101592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57280" y="547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57280" y="85392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162720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24000" y="16286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0560" y="1904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1608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6220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220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328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7020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4328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1280" y="125244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35244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6256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2928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2928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82920" y="12510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4920" y="14320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6728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86360" y="101772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37280" y="549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37280" y="85572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128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0560" y="191772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63044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2000" y="1904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31608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4364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4364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164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2472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720" y="125244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5244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4364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01036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1036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1036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436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26360" y="143208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4836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67800" y="101772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18360" y="549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118360" y="85572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7236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2000" y="191772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85080" y="16304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234792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247320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2560" y="250992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2560" y="304956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3640" y="35892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0560" y="286848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6364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71640" y="340992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87280" y="250992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82560" y="286848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49640" y="31384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49640" y="25272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49640" y="28321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5280" y="35892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358920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06720" y="317484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57280" y="27068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57280" y="30132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1280" y="37861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2052000" y="299448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4000" y="3787920"/>
            <a:ext cx="287280" cy="142560"/>
          </a:xfrm>
          <a:prstGeom prst="leftRightArrow">
            <a:avLst>
              <a:gd name="adj1" fmla="val 37019"/>
              <a:gd name="adj2" fmla="val 46199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493128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12000" y="2349360"/>
            <a:ext cx="288108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72360" y="247500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43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4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51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247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3272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4364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10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10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010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4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26360" y="359100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48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867800" y="317664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11836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11836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172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12000" y="407664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781272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885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0920" y="45086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256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256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6364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90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636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7164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728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8256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496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96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496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2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8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067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5728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1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205164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2400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30560" y="451008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90920" y="463536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6220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6220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7020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4328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51280" y="557208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067280" y="4672080"/>
            <a:ext cx="936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6256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2928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2928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2928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2920" y="557064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44920" y="575136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6728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86360" y="533700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37280" y="486900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37280" y="5175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9128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0560" y="623736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493164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59500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451008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72360" y="4635360"/>
            <a:ext cx="205236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4364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2472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55164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2472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32720" y="557208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48360" y="467208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4364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1036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1036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01036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6436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26360" y="575136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4836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867800" y="5337000"/>
            <a:ext cx="142560" cy="125640"/>
          </a:xfrm>
          <a:prstGeom prst="leftRightArrow">
            <a:avLst>
              <a:gd name="adj1" fmla="val 50000"/>
              <a:gd name="adj2" fmla="val 225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18360" y="48690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18360" y="5175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7236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12000" y="623736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781308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885080" y="59500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2):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highly multithreaded embedded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727280" y="2384280"/>
            <a:ext cx="6462360" cy="1487520"/>
            <a:chOff x="1727280" y="2384280"/>
            <a:chExt cx="6462360" cy="1487520"/>
          </a:xfrm>
        </p:grpSpPr>
        <p:sp>
          <p:nvSpPr>
            <p:cNvPr id="435" name=""/>
            <p:cNvSpPr/>
            <p:nvPr/>
          </p:nvSpPr>
          <p:spPr>
            <a:xfrm>
              <a:off x="172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1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MU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065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9692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QZ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8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D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77640" y="2784240"/>
              <a:ext cx="52164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B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683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D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352240" y="2955600"/>
              <a:ext cx="260280" cy="228600"/>
              <a:chOff x="2352240" y="2955600"/>
              <a:chExt cx="260280" cy="228600"/>
            </a:xfrm>
          </p:grpSpPr>
          <p:sp>
            <p:nvSpPr>
              <p:cNvPr id="443" name=""/>
              <p:cNvSpPr/>
              <p:nvPr/>
            </p:nvSpPr>
            <p:spPr>
              <a:xfrm>
                <a:off x="240480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4048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566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084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610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35224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35224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342600" y="2955600"/>
              <a:ext cx="260280" cy="228600"/>
              <a:chOff x="3342600" y="2955600"/>
              <a:chExt cx="260280" cy="228600"/>
            </a:xfrm>
          </p:grpSpPr>
          <p:sp>
            <p:nvSpPr>
              <p:cNvPr id="451" name=""/>
              <p:cNvSpPr/>
              <p:nvPr/>
            </p:nvSpPr>
            <p:spPr>
              <a:xfrm>
                <a:off x="339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9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9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5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4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34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3342600" y="2384280"/>
              <a:ext cx="260280" cy="228240"/>
              <a:chOff x="3342600" y="2384280"/>
              <a:chExt cx="260280" cy="228240"/>
            </a:xfrm>
          </p:grpSpPr>
          <p:sp>
            <p:nvSpPr>
              <p:cNvPr id="459" name=""/>
              <p:cNvSpPr/>
              <p:nvPr/>
            </p:nvSpPr>
            <p:spPr>
              <a:xfrm>
                <a:off x="3395160" y="249768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39516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470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9884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514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342600" y="238428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3342600" y="261252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3811320" y="3528360"/>
              <a:ext cx="260280" cy="228600"/>
              <a:chOff x="3811320" y="3528360"/>
              <a:chExt cx="260280" cy="228600"/>
            </a:xfrm>
          </p:grpSpPr>
          <p:sp>
            <p:nvSpPr>
              <p:cNvPr id="467" name=""/>
              <p:cNvSpPr/>
              <p:nvPr/>
            </p:nvSpPr>
            <p:spPr>
              <a:xfrm>
                <a:off x="3863880" y="364212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6388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9157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96756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201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811320" y="35283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3811320" y="37569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332960" y="2955600"/>
              <a:ext cx="260280" cy="228600"/>
              <a:chOff x="4332960" y="2955600"/>
              <a:chExt cx="260280" cy="228600"/>
            </a:xfrm>
          </p:grpSpPr>
          <p:sp>
            <p:nvSpPr>
              <p:cNvPr id="475" name=""/>
              <p:cNvSpPr/>
              <p:nvPr/>
            </p:nvSpPr>
            <p:spPr>
              <a:xfrm>
                <a:off x="438552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3855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373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892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417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433296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33296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5323320" y="2955600"/>
              <a:ext cx="260280" cy="228600"/>
              <a:chOff x="5323320" y="2955600"/>
              <a:chExt cx="260280" cy="228600"/>
            </a:xfrm>
          </p:grpSpPr>
          <p:sp>
            <p:nvSpPr>
              <p:cNvPr id="483" name=""/>
              <p:cNvSpPr/>
              <p:nvPr/>
            </p:nvSpPr>
            <p:spPr>
              <a:xfrm>
                <a:off x="537588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758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277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795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321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32332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32332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312600" y="2955600"/>
              <a:ext cx="260280" cy="228600"/>
              <a:chOff x="6312600" y="2955600"/>
              <a:chExt cx="260280" cy="228600"/>
            </a:xfrm>
          </p:grpSpPr>
          <p:sp>
            <p:nvSpPr>
              <p:cNvPr id="491" name=""/>
              <p:cNvSpPr/>
              <p:nvPr/>
            </p:nvSpPr>
            <p:spPr>
              <a:xfrm>
                <a:off x="636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36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41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46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2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31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31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7302600" y="2955600"/>
              <a:ext cx="260280" cy="228600"/>
              <a:chOff x="7302600" y="2955600"/>
              <a:chExt cx="260280" cy="228600"/>
            </a:xfrm>
          </p:grpSpPr>
          <p:sp>
            <p:nvSpPr>
              <p:cNvPr id="499" name=""/>
              <p:cNvSpPr/>
              <p:nvPr/>
            </p:nvSpPr>
            <p:spPr>
              <a:xfrm>
                <a:off x="735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35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40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5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51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730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730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06" name=""/>
            <p:cNvCxnSpPr>
              <a:stCxn id="435" idx="6"/>
              <a:endCxn id="444" idx="1"/>
            </p:cNvCxnSpPr>
            <p:nvPr/>
          </p:nvCxnSpPr>
          <p:spPr>
            <a:xfrm>
              <a:off x="225504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"/>
            <p:cNvCxnSpPr>
              <a:stCxn id="447" idx="3"/>
              <a:endCxn id="436" idx="2"/>
            </p:cNvCxnSpPr>
            <p:nvPr/>
          </p:nvCxnSpPr>
          <p:spPr>
            <a:xfrm>
              <a:off x="2619720" y="3070080"/>
              <a:ext cx="9144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8" name=""/>
            <p:cNvCxnSpPr>
              <a:stCxn id="436" idx="6"/>
              <a:endCxn id="452" idx="1"/>
            </p:cNvCxnSpPr>
            <p:nvPr/>
          </p:nvCxnSpPr>
          <p:spPr>
            <a:xfrm>
              <a:off x="324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9" name=""/>
            <p:cNvCxnSpPr>
              <a:stCxn id="455" idx="3"/>
              <a:endCxn id="437" idx="2"/>
            </p:cNvCxnSpPr>
            <p:nvPr/>
          </p:nvCxnSpPr>
          <p:spPr>
            <a:xfrm>
              <a:off x="361044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436" idx="0"/>
              <a:endCxn id="460" idx="1"/>
            </p:cNvCxnSpPr>
            <p:nvPr/>
          </p:nvCxnSpPr>
          <p:spPr>
            <a:xfrm flipH="1" flipV="1" rot="5400000">
              <a:off x="3044160" y="2431800"/>
              <a:ext cx="277920" cy="410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463" idx="3"/>
              <a:endCxn id="437" idx="0"/>
            </p:cNvCxnSpPr>
            <p:nvPr/>
          </p:nvCxnSpPr>
          <p:spPr>
            <a:xfrm>
              <a:off x="3610440" y="2498760"/>
              <a:ext cx="357840" cy="277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2" name=""/>
            <p:cNvCxnSpPr>
              <a:stCxn id="437" idx="6"/>
              <a:endCxn id="476" idx="1"/>
            </p:cNvCxnSpPr>
            <p:nvPr/>
          </p:nvCxnSpPr>
          <p:spPr>
            <a:xfrm>
              <a:off x="4234680" y="3070080"/>
              <a:ext cx="1443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3" name=""/>
            <p:cNvCxnSpPr>
              <a:stCxn id="479" idx="3"/>
              <a:endCxn id="438" idx="2"/>
            </p:cNvCxnSpPr>
            <p:nvPr/>
          </p:nvCxnSpPr>
          <p:spPr>
            <a:xfrm>
              <a:off x="460080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4" name=""/>
            <p:cNvCxnSpPr>
              <a:stCxn id="436" idx="4"/>
              <a:endCxn id="468" idx="1"/>
            </p:cNvCxnSpPr>
            <p:nvPr/>
          </p:nvCxnSpPr>
          <p:spPr>
            <a:xfrm flipH="1" rot="16200000">
              <a:off x="3277440" y="3063960"/>
              <a:ext cx="279360" cy="879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471" idx="3"/>
              <a:endCxn id="438" idx="4"/>
            </p:cNvCxnSpPr>
            <p:nvPr/>
          </p:nvCxnSpPr>
          <p:spPr>
            <a:xfrm flipV="1">
              <a:off x="4078800" y="3363840"/>
              <a:ext cx="879480" cy="279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438" idx="6"/>
              <a:endCxn id="484" idx="1"/>
            </p:cNvCxnSpPr>
            <p:nvPr/>
          </p:nvCxnSpPr>
          <p:spPr>
            <a:xfrm>
              <a:off x="5225760" y="3070080"/>
              <a:ext cx="144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487" idx="3"/>
              <a:endCxn id="439" idx="2"/>
            </p:cNvCxnSpPr>
            <p:nvPr/>
          </p:nvCxnSpPr>
          <p:spPr>
            <a:xfrm>
              <a:off x="559116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439" idx="6"/>
              <a:endCxn id="492" idx="1"/>
            </p:cNvCxnSpPr>
            <p:nvPr/>
          </p:nvCxnSpPr>
          <p:spPr>
            <a:xfrm>
              <a:off x="621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>
              <a:stCxn id="495" idx="3"/>
              <a:endCxn id="440" idx="2"/>
            </p:cNvCxnSpPr>
            <p:nvPr/>
          </p:nvCxnSpPr>
          <p:spPr>
            <a:xfrm>
              <a:off x="658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440" idx="6"/>
              <a:endCxn id="500" idx="1"/>
            </p:cNvCxnSpPr>
            <p:nvPr/>
          </p:nvCxnSpPr>
          <p:spPr>
            <a:xfrm>
              <a:off x="720612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03" idx="3"/>
              <a:endCxn id="441" idx="2"/>
            </p:cNvCxnSpPr>
            <p:nvPr/>
          </p:nvCxnSpPr>
          <p:spPr>
            <a:xfrm>
              <a:off x="757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5325120" y="3625560"/>
              <a:ext cx="199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ample TCG, MJPEG 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592360" y="4005360"/>
            <a:ext cx="6191280" cy="2733480"/>
            <a:chOff x="2592360" y="4005360"/>
            <a:chExt cx="6191280" cy="2733480"/>
          </a:xfrm>
        </p:grpSpPr>
        <p:sp>
          <p:nvSpPr>
            <p:cNvPr id="524" name=""/>
            <p:cNvSpPr/>
            <p:nvPr/>
          </p:nvSpPr>
          <p:spPr>
            <a:xfrm>
              <a:off x="2592360" y="400536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504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012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012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759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786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312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533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630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4636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2408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2408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2408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178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8900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630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218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011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011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400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340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55160" y="40064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132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6440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6440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387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418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940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161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26200" y="410868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0952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8724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8724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8724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806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216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2620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846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640" y="423324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64640" y="44272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0316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5516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97240" y="491724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19400" y="40064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77520" y="40856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286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286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033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060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586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807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04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734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15112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5112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5112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452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6400" y="47919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904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48880" y="45295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285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2285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2674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1940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614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236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504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012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012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759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86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312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533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30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4636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2408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2408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2408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178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8900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2630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218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011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011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400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39427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340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55160" y="53726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132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6440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6440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387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418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940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161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26200" y="547524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0952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8724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8724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8724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806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5216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2620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9846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64640" y="559980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64640" y="57934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0316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5516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6200000">
              <a:off x="600588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97240" y="628380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1940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77520" y="54518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86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286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033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060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586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807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904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734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5112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5112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5112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52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16400" y="61581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904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8880" y="58957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285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2285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2674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1940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80701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614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44120" y="40968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2927520" y="4825080"/>
              <a:ext cx="258120" cy="181800"/>
              <a:chOff x="2927520" y="4825080"/>
              <a:chExt cx="258120" cy="181800"/>
            </a:xfrm>
          </p:grpSpPr>
          <p:sp>
            <p:nvSpPr>
              <p:cNvPr id="659" name=""/>
              <p:cNvSpPr/>
              <p:nvPr/>
            </p:nvSpPr>
            <p:spPr>
              <a:xfrm>
                <a:off x="29800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800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312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823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1345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29275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29275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5197320" y="4825080"/>
              <a:ext cx="258120" cy="181800"/>
              <a:chOff x="5197320" y="4825080"/>
              <a:chExt cx="258120" cy="181800"/>
            </a:xfrm>
          </p:grpSpPr>
          <p:sp>
            <p:nvSpPr>
              <p:cNvPr id="667" name=""/>
              <p:cNvSpPr/>
              <p:nvPr/>
            </p:nvSpPr>
            <p:spPr>
              <a:xfrm>
                <a:off x="52498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498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010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3521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043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51973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51973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4914000" y="4916520"/>
              <a:ext cx="258120" cy="181800"/>
              <a:chOff x="4914000" y="4916520"/>
              <a:chExt cx="258120" cy="181800"/>
            </a:xfrm>
          </p:grpSpPr>
          <p:sp>
            <p:nvSpPr>
              <p:cNvPr id="675" name=""/>
              <p:cNvSpPr/>
              <p:nvPr/>
            </p:nvSpPr>
            <p:spPr>
              <a:xfrm>
                <a:off x="4966560" y="50068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96656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01768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06880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12100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491400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4914000" y="5098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042880" y="6123960"/>
              <a:ext cx="258120" cy="181800"/>
              <a:chOff x="5042880" y="6123960"/>
              <a:chExt cx="258120" cy="181800"/>
            </a:xfrm>
          </p:grpSpPr>
          <p:sp>
            <p:nvSpPr>
              <p:cNvPr id="683" name=""/>
              <p:cNvSpPr/>
              <p:nvPr/>
            </p:nvSpPr>
            <p:spPr>
              <a:xfrm>
                <a:off x="5095440" y="6214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9544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4656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9768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4988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042880" y="6123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042880" y="6305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888080" y="4734720"/>
              <a:ext cx="258120" cy="181800"/>
              <a:chOff x="4888080" y="4734720"/>
              <a:chExt cx="258120" cy="181800"/>
            </a:xfrm>
          </p:grpSpPr>
          <p:sp>
            <p:nvSpPr>
              <p:cNvPr id="691" name=""/>
              <p:cNvSpPr/>
              <p:nvPr/>
            </p:nvSpPr>
            <p:spPr>
              <a:xfrm>
                <a:off x="494064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94064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917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4288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9508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488808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488808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7054560" y="5007960"/>
              <a:ext cx="258120" cy="181800"/>
              <a:chOff x="7054560" y="5007960"/>
              <a:chExt cx="258120" cy="181800"/>
            </a:xfrm>
          </p:grpSpPr>
          <p:sp>
            <p:nvSpPr>
              <p:cNvPr id="699" name=""/>
              <p:cNvSpPr/>
              <p:nvPr/>
            </p:nvSpPr>
            <p:spPr>
              <a:xfrm>
                <a:off x="7107120" y="5098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10712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15824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0936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26156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7054560" y="5007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7054560" y="5189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7054560" y="4734720"/>
              <a:ext cx="258120" cy="181800"/>
              <a:chOff x="7054560" y="4734720"/>
              <a:chExt cx="258120" cy="181800"/>
            </a:xfrm>
          </p:grpSpPr>
          <p:sp>
            <p:nvSpPr>
              <p:cNvPr id="707" name=""/>
              <p:cNvSpPr/>
              <p:nvPr/>
            </p:nvSpPr>
            <p:spPr>
              <a:xfrm>
                <a:off x="710712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10712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15824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0936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2615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705456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705456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7080840" y="6169320"/>
              <a:ext cx="258120" cy="181800"/>
              <a:chOff x="7080840" y="6169320"/>
              <a:chExt cx="258120" cy="181800"/>
            </a:xfrm>
          </p:grpSpPr>
          <p:sp>
            <p:nvSpPr>
              <p:cNvPr id="715" name=""/>
              <p:cNvSpPr/>
              <p:nvPr/>
            </p:nvSpPr>
            <p:spPr>
              <a:xfrm>
                <a:off x="7133400" y="62596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13340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8452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23564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28784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7080840" y="6169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7080840" y="63511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4965840" y="405036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28640" y="402732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28640" y="423324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6584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7152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DAM (3)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ower and thermal management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V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08000" y="2206800"/>
            <a:ext cx="4103640" cy="309528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0920" y="227952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50920" y="3359160"/>
            <a:ext cx="288108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411280" y="4440240"/>
            <a:ext cx="72072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6656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12720" y="40784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627280" y="407988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58920" y="227952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5092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384720" y="3538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384720" y="2314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384720" y="292572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92360" y="407844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938160" y="2386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14200" y="4440240"/>
            <a:ext cx="93816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260360" y="4438800"/>
            <a:ext cx="104328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97080" y="3610080"/>
            <a:ext cx="287640" cy="252360"/>
          </a:xfrm>
          <a:prstGeom prst="leftRightArrow">
            <a:avLst>
              <a:gd name="adj1" fmla="val 50000"/>
              <a:gd name="adj2" fmla="val 226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600360" y="267336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00360" y="328608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08360" y="483408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33800" y="483552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5440" y="267480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908000" y="267480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49440" y="3754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3440" y="4870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12720" y="487044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2484360" y="2782440"/>
            <a:ext cx="865440" cy="863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899640" y="2782800"/>
            <a:ext cx="97308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2890800"/>
            <a:ext cx="971640" cy="755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720720" y="4006800"/>
            <a:ext cx="1044720" cy="82728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01800" y="5014800"/>
            <a:ext cx="57456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089080" y="3898440"/>
            <a:ext cx="1295640" cy="104292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862520" y="2349360"/>
            <a:ext cx="4294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ns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uat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 local adap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wer consumptio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ed for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ighbors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7056360" y="6154560"/>
            <a:ext cx="190836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M (4)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620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6656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8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8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19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46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19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72728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04292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438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10492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0492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0492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2589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056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4292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96200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1292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1292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6692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7964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98764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34800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19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419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00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52728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60036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60836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924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319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986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986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986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140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40200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924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4344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09436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9436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148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8764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61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0620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56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8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8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619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46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9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72728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04292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438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10492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0492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0492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25892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056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04292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6200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1292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1292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26692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rot="16200000">
            <a:off x="1907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7964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98764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34800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41964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41964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0072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52728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0036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60836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2436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31964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98636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8636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98636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14036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40200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92436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4344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09436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09436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14836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764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478836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86108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863280" y="3643200"/>
            <a:ext cx="360720" cy="287280"/>
            <a:chOff x="863280" y="3643200"/>
            <a:chExt cx="360720" cy="287280"/>
          </a:xfrm>
        </p:grpSpPr>
        <p:sp>
          <p:nvSpPr>
            <p:cNvPr id="852" name=""/>
            <p:cNvSpPr/>
            <p:nvPr/>
          </p:nvSpPr>
          <p:spPr>
            <a:xfrm>
              <a:off x="93672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3672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0800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15236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86328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86328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468000" y="3787920"/>
            <a:ext cx="360720" cy="287280"/>
            <a:chOff x="468000" y="3787920"/>
            <a:chExt cx="360720" cy="287280"/>
          </a:xfrm>
        </p:grpSpPr>
        <p:sp>
          <p:nvSpPr>
            <p:cNvPr id="860" name=""/>
            <p:cNvSpPr/>
            <p:nvPr/>
          </p:nvSpPr>
          <p:spPr>
            <a:xfrm>
              <a:off x="54144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44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272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708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6800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6800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647280" y="5695920"/>
            <a:ext cx="360720" cy="287280"/>
            <a:chOff x="647280" y="5695920"/>
            <a:chExt cx="360720" cy="287280"/>
          </a:xfrm>
        </p:grpSpPr>
        <p:sp>
          <p:nvSpPr>
            <p:cNvPr id="868" name=""/>
            <p:cNvSpPr/>
            <p:nvPr/>
          </p:nvSpPr>
          <p:spPr>
            <a:xfrm>
              <a:off x="72072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72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200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3636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64728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4728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31280" y="3500280"/>
            <a:ext cx="360720" cy="287280"/>
            <a:chOff x="431280" y="3500280"/>
            <a:chExt cx="360720" cy="287280"/>
          </a:xfrm>
        </p:grpSpPr>
        <p:sp>
          <p:nvSpPr>
            <p:cNvPr id="876" name=""/>
            <p:cNvSpPr/>
            <p:nvPr/>
          </p:nvSpPr>
          <p:spPr>
            <a:xfrm>
              <a:off x="50472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47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600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3128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3128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455640" y="3932280"/>
            <a:ext cx="360720" cy="287280"/>
            <a:chOff x="3455640" y="3932280"/>
            <a:chExt cx="360720" cy="287280"/>
          </a:xfrm>
        </p:grpSpPr>
        <p:sp>
          <p:nvSpPr>
            <p:cNvPr id="884" name=""/>
            <p:cNvSpPr/>
            <p:nvPr/>
          </p:nvSpPr>
          <p:spPr>
            <a:xfrm>
              <a:off x="352908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2908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0036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74472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45564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45564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455640" y="3500280"/>
            <a:ext cx="360720" cy="287280"/>
            <a:chOff x="3455640" y="3500280"/>
            <a:chExt cx="360720" cy="287280"/>
          </a:xfrm>
        </p:grpSpPr>
        <p:sp>
          <p:nvSpPr>
            <p:cNvPr id="892" name=""/>
            <p:cNvSpPr/>
            <p:nvPr/>
          </p:nvSpPr>
          <p:spPr>
            <a:xfrm>
              <a:off x="352908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52908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0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447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345564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45564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3492000" y="5767560"/>
            <a:ext cx="360720" cy="287280"/>
            <a:chOff x="3492000" y="5767560"/>
            <a:chExt cx="360720" cy="287280"/>
          </a:xfrm>
        </p:grpSpPr>
        <p:sp>
          <p:nvSpPr>
            <p:cNvPr id="900" name=""/>
            <p:cNvSpPr/>
            <p:nvPr/>
          </p:nvSpPr>
          <p:spPr>
            <a:xfrm>
              <a:off x="356544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544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63672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8108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349200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349200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53964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419640" y="238284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70828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3964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7672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cessor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e-Grain Neighbo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arse-Grain, Glob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635280" y="2095560"/>
            <a:ext cx="1476360" cy="576360"/>
          </a:xfrm>
          <a:prstGeom prst="wedgeRectCallout">
            <a:avLst>
              <a:gd name="adj1" fmla="val -46023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332000" y="2851200"/>
            <a:ext cx="1476360" cy="57636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7020000" y="1268280"/>
            <a:ext cx="197964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DAM (5):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4912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0948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112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112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6220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89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6184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87020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18584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581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24784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4784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24784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40184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6348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8584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10492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35584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35584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40984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12256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4912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112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8112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76220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89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86184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87020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18584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81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2478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2478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2478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4018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34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18584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049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35584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35584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40984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rot="16200000">
            <a:off x="2050200" y="5155560"/>
            <a:ext cx="1440000" cy="142560"/>
          </a:xfrm>
          <a:prstGeom prst="leftRightArrow">
            <a:avLst>
              <a:gd name="adj1" fmla="val 37019"/>
              <a:gd name="adj2" fmla="val 53825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12256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13056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49092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562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562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643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67020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74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75128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067280" y="467028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462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2928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2928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12928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28292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54492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06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98636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23728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23728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29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13056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rot="16200000">
            <a:off x="4931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003640" y="59482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006200" y="3643200"/>
            <a:ext cx="360720" cy="287280"/>
            <a:chOff x="1006200" y="3643200"/>
            <a:chExt cx="360720" cy="287280"/>
          </a:xfrm>
        </p:grpSpPr>
        <p:sp>
          <p:nvSpPr>
            <p:cNvPr id="1006" name=""/>
            <p:cNvSpPr/>
            <p:nvPr/>
          </p:nvSpPr>
          <p:spPr>
            <a:xfrm>
              <a:off x="107964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15092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2256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9528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100620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00620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610920" y="3787920"/>
            <a:ext cx="360720" cy="287280"/>
            <a:chOff x="610920" y="3787920"/>
            <a:chExt cx="360720" cy="287280"/>
          </a:xfrm>
        </p:grpSpPr>
        <p:sp>
          <p:nvSpPr>
            <p:cNvPr id="1014" name=""/>
            <p:cNvSpPr/>
            <p:nvPr/>
          </p:nvSpPr>
          <p:spPr>
            <a:xfrm>
              <a:off x="68436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564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2728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0000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1092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61092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90200" y="5695920"/>
            <a:ext cx="360720" cy="287280"/>
            <a:chOff x="790200" y="5695920"/>
            <a:chExt cx="360720" cy="287280"/>
          </a:xfrm>
        </p:grpSpPr>
        <p:sp>
          <p:nvSpPr>
            <p:cNvPr id="1022" name=""/>
            <p:cNvSpPr/>
            <p:nvPr/>
          </p:nvSpPr>
          <p:spPr>
            <a:xfrm>
              <a:off x="86364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3492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0656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07928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79020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79020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74200" y="3500280"/>
            <a:ext cx="360720" cy="287280"/>
            <a:chOff x="574200" y="3500280"/>
            <a:chExt cx="360720" cy="287280"/>
          </a:xfrm>
        </p:grpSpPr>
        <p:sp>
          <p:nvSpPr>
            <p:cNvPr id="1030" name=""/>
            <p:cNvSpPr/>
            <p:nvPr/>
          </p:nvSpPr>
          <p:spPr>
            <a:xfrm>
              <a:off x="64764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89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056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6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7420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57420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3598560" y="3932280"/>
            <a:ext cx="360720" cy="287280"/>
            <a:chOff x="3598560" y="3932280"/>
            <a:chExt cx="360720" cy="287280"/>
          </a:xfrm>
        </p:grpSpPr>
        <p:sp>
          <p:nvSpPr>
            <p:cNvPr id="1038" name=""/>
            <p:cNvSpPr/>
            <p:nvPr/>
          </p:nvSpPr>
          <p:spPr>
            <a:xfrm>
              <a:off x="367200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74328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81492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8764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359856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359856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598560" y="3500280"/>
            <a:ext cx="360720" cy="287280"/>
            <a:chOff x="3598560" y="3500280"/>
            <a:chExt cx="360720" cy="287280"/>
          </a:xfrm>
        </p:grpSpPr>
        <p:sp>
          <p:nvSpPr>
            <p:cNvPr id="1046" name=""/>
            <p:cNvSpPr/>
            <p:nvPr/>
          </p:nvSpPr>
          <p:spPr>
            <a:xfrm>
              <a:off x="367200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4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149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8764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359856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359856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3634920" y="5767560"/>
            <a:ext cx="360720" cy="287280"/>
            <a:chOff x="3634920" y="5767560"/>
            <a:chExt cx="360720" cy="287280"/>
          </a:xfrm>
        </p:grpSpPr>
        <p:sp>
          <p:nvSpPr>
            <p:cNvPr id="1054" name=""/>
            <p:cNvSpPr/>
            <p:nvPr/>
          </p:nvSpPr>
          <p:spPr>
            <a:xfrm>
              <a:off x="370836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77964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5128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92400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63492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363492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68256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562200" y="238284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562200" y="270828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8256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319640" y="465120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12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ivity cou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W 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eighbors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lobal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743280" y="3211560"/>
            <a:ext cx="1835280" cy="576360"/>
          </a:xfrm>
          <a:prstGeom prst="wedgeRectCallout">
            <a:avLst>
              <a:gd name="adj1" fmla="val -46800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M segmen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835280" y="1808280"/>
            <a:ext cx="1476360" cy="57600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ile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73280" y="4040280"/>
            <a:ext cx="1834920" cy="576000"/>
          </a:xfrm>
          <a:prstGeom prst="wedgeRectCallout">
            <a:avLst>
              <a:gd name="adj1" fmla="val -45416"/>
              <a:gd name="adj2" fmla="val 8416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7920000" y="260280"/>
            <a:ext cx="9367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ETER : Seismic perturbation WS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572000" y="2852640"/>
            <a:ext cx="1440000" cy="3313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3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tandard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tual Componen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jà obsolète, mais les principes restent simultanément simples et puis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mplacé par OCP (VCI/O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VCI/OCP en CABA: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ntérêt des auto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87280" y="1268280"/>
            <a:ext cx="208944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156360" y="1268280"/>
            <a:ext cx="230328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276720" y="1846440"/>
            <a:ext cx="2879640" cy="337320"/>
            <a:chOff x="3276720" y="1846440"/>
            <a:chExt cx="2879640" cy="337320"/>
          </a:xfrm>
        </p:grpSpPr>
        <p:sp>
          <p:nvSpPr>
            <p:cNvPr id="1242" name=""/>
            <p:cNvSpPr/>
            <p:nvPr/>
          </p:nvSpPr>
          <p:spPr>
            <a:xfrm>
              <a:off x="3276720" y="213372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203000" y="18464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3276360" y="2708280"/>
            <a:ext cx="2879640" cy="337320"/>
            <a:chOff x="3276360" y="2708280"/>
            <a:chExt cx="2879640" cy="337320"/>
          </a:xfrm>
        </p:grpSpPr>
        <p:sp>
          <p:nvSpPr>
            <p:cNvPr id="1245" name=""/>
            <p:cNvSpPr/>
            <p:nvPr/>
          </p:nvSpPr>
          <p:spPr>
            <a:xfrm flipH="1">
              <a:off x="3276360" y="270828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03000" y="270828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3276720" y="2205000"/>
            <a:ext cx="2879640" cy="337320"/>
            <a:chOff x="3276720" y="2205000"/>
            <a:chExt cx="2879640" cy="337320"/>
          </a:xfrm>
        </p:grpSpPr>
        <p:sp>
          <p:nvSpPr>
            <p:cNvPr id="1248" name=""/>
            <p:cNvSpPr/>
            <p:nvPr/>
          </p:nvSpPr>
          <p:spPr>
            <a:xfrm>
              <a:off x="3276720" y="249228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357800" y="22050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3276720" y="3141720"/>
            <a:ext cx="2879640" cy="337320"/>
            <a:chOff x="3276720" y="3141720"/>
            <a:chExt cx="2879640" cy="337320"/>
          </a:xfrm>
        </p:grpSpPr>
        <p:sp>
          <p:nvSpPr>
            <p:cNvPr id="1251" name=""/>
            <p:cNvSpPr/>
            <p:nvPr/>
          </p:nvSpPr>
          <p:spPr>
            <a:xfrm>
              <a:off x="327672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202280" y="314172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3276360" y="4003560"/>
            <a:ext cx="2879640" cy="339120"/>
            <a:chOff x="3276360" y="4003560"/>
            <a:chExt cx="2879640" cy="339120"/>
          </a:xfrm>
        </p:grpSpPr>
        <p:sp>
          <p:nvSpPr>
            <p:cNvPr id="1254" name=""/>
            <p:cNvSpPr/>
            <p:nvPr/>
          </p:nvSpPr>
          <p:spPr>
            <a:xfrm flipH="1">
              <a:off x="3276360" y="400356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213080" y="400536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3276720" y="3500280"/>
            <a:ext cx="2879640" cy="337320"/>
            <a:chOff x="3276720" y="3500280"/>
            <a:chExt cx="2879640" cy="337320"/>
          </a:xfrm>
        </p:grpSpPr>
        <p:sp>
          <p:nvSpPr>
            <p:cNvPr id="1257" name=""/>
            <p:cNvSpPr/>
            <p:nvPr/>
          </p:nvSpPr>
          <p:spPr>
            <a:xfrm>
              <a:off x="3276720" y="378792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56720" y="35002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948360" y="3141720"/>
            <a:ext cx="936720" cy="953280"/>
            <a:chOff x="6948360" y="3141720"/>
            <a:chExt cx="936720" cy="953280"/>
          </a:xfrm>
        </p:grpSpPr>
        <p:sp>
          <p:nvSpPr>
            <p:cNvPr id="1260" name=""/>
            <p:cNvSpPr/>
            <p:nvPr/>
          </p:nvSpPr>
          <p:spPr>
            <a:xfrm>
              <a:off x="7308720" y="314172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66908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4836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3" name=""/>
            <p:cNvCxnSpPr>
              <a:stCxn id="1260" idx="6"/>
              <a:endCxn id="1261" idx="0"/>
            </p:cNvCxnSpPr>
            <p:nvPr/>
          </p:nvCxnSpPr>
          <p:spPr>
            <a:xfrm>
              <a:off x="7538760" y="3249720"/>
              <a:ext cx="23904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4" name=""/>
            <p:cNvCxnSpPr>
              <a:stCxn id="1261" idx="4"/>
              <a:endCxn id="1262" idx="5"/>
            </p:cNvCxnSpPr>
            <p:nvPr/>
          </p:nvCxnSpPr>
          <p:spPr>
            <a:xfrm flipV="1" rot="16200000">
              <a:off x="743832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5" name=""/>
            <p:cNvCxnSpPr>
              <a:stCxn id="1262" idx="0"/>
              <a:endCxn id="1260" idx="2"/>
            </p:cNvCxnSpPr>
            <p:nvPr/>
          </p:nvCxnSpPr>
          <p:spPr>
            <a:xfrm flipH="1" flipV="1" rot="5400000">
              <a:off x="6983640" y="3321360"/>
              <a:ext cx="383040" cy="2386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6" name=""/>
          <p:cNvGrpSpPr/>
          <p:nvPr/>
        </p:nvGrpSpPr>
        <p:grpSpPr>
          <a:xfrm>
            <a:off x="1908000" y="3141720"/>
            <a:ext cx="936360" cy="953280"/>
            <a:chOff x="1908000" y="3141720"/>
            <a:chExt cx="936360" cy="953280"/>
          </a:xfrm>
        </p:grpSpPr>
        <p:sp>
          <p:nvSpPr>
            <p:cNvPr id="1267" name=""/>
            <p:cNvSpPr/>
            <p:nvPr/>
          </p:nvSpPr>
          <p:spPr>
            <a:xfrm>
              <a:off x="2268360" y="3141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62872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90800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0" name=""/>
            <p:cNvCxnSpPr>
              <a:stCxn id="1267" idx="6"/>
              <a:endCxn id="1268" idx="0"/>
            </p:cNvCxnSpPr>
            <p:nvPr/>
          </p:nvCxnSpPr>
          <p:spPr>
            <a:xfrm>
              <a:off x="2498040" y="324972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1" name=""/>
            <p:cNvCxnSpPr>
              <a:stCxn id="1268" idx="4"/>
              <a:endCxn id="1269" idx="5"/>
            </p:cNvCxnSpPr>
            <p:nvPr/>
          </p:nvCxnSpPr>
          <p:spPr>
            <a:xfrm flipV="1" rot="16200000">
              <a:off x="239760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2" name=""/>
            <p:cNvCxnSpPr>
              <a:stCxn id="1269" idx="0"/>
              <a:endCxn id="1267" idx="2"/>
            </p:cNvCxnSpPr>
            <p:nvPr/>
          </p:nvCxnSpPr>
          <p:spPr>
            <a:xfrm flipH="1" flipV="1" rot="5400000">
              <a:off x="1943280" y="332136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73" name=""/>
          <p:cNvSpPr/>
          <p:nvPr/>
        </p:nvSpPr>
        <p:spPr>
          <a:xfrm>
            <a:off x="306072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5636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utomates de VCI en CA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258920" y="148428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258920" y="3068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763640" y="241920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"/>
          <p:cNvCxnSpPr>
            <a:stCxn id="1277" idx="5"/>
            <a:endCxn id="1277" idx="6"/>
          </p:cNvCxnSpPr>
          <p:nvPr/>
        </p:nvCxnSpPr>
        <p:spPr>
          <a:xfrm flipH="1" flipV="1" rot="5400000">
            <a:off x="2027160" y="362844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0" name=""/>
          <p:cNvSpPr/>
          <p:nvPr/>
        </p:nvSpPr>
        <p:spPr>
          <a:xfrm>
            <a:off x="330120" y="3716280"/>
            <a:ext cx="1123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42160" y="30686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258920" y="515772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763640" y="400356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4" name=""/>
          <p:cNvCxnSpPr>
            <a:stCxn id="1282" idx="5"/>
            <a:endCxn id="1282" idx="6"/>
          </p:cNvCxnSpPr>
          <p:nvPr/>
        </p:nvCxnSpPr>
        <p:spPr>
          <a:xfrm flipH="1" flipV="1" rot="5400000">
            <a:off x="2026800" y="5717880"/>
            <a:ext cx="332640" cy="148320"/>
          </a:xfrm>
          <a:prstGeom prst="curvedConnector5">
            <a:avLst>
              <a:gd name="adj1" fmla="val -109967"/>
              <a:gd name="adj2" fmla="val 229440"/>
              <a:gd name="adj3" fmla="val -10996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5" name=""/>
          <p:cNvSpPr/>
          <p:nvPr/>
        </p:nvSpPr>
        <p:spPr>
          <a:xfrm>
            <a:off x="330840" y="5805360"/>
            <a:ext cx="1114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341440" y="51577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13080" y="42195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763640" y="609300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12720" y="630864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76364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549440" y="4437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084720" y="314172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"/>
          <p:cNvCxnSpPr>
            <a:stCxn id="1292" idx="5"/>
            <a:endCxn id="1292" idx="6"/>
          </p:cNvCxnSpPr>
          <p:nvPr/>
        </p:nvCxnSpPr>
        <p:spPr>
          <a:xfrm flipH="1" flipV="1" rot="5400000">
            <a:off x="6853320" y="370152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4" name=""/>
          <p:cNvSpPr/>
          <p:nvPr/>
        </p:nvSpPr>
        <p:spPr>
          <a:xfrm>
            <a:off x="5156640" y="378936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167240" y="31417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589800" y="407664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438520" y="4292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37560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364000" y="501336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0" name=""/>
          <p:cNvCxnSpPr>
            <a:stCxn id="1299" idx="5"/>
            <a:endCxn id="1299" idx="6"/>
          </p:cNvCxnSpPr>
          <p:nvPr/>
        </p:nvCxnSpPr>
        <p:spPr>
          <a:xfrm flipH="1" flipV="1" rot="5400000">
            <a:off x="6132600" y="557316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1" name=""/>
          <p:cNvSpPr/>
          <p:nvPr/>
        </p:nvSpPr>
        <p:spPr>
          <a:xfrm>
            <a:off x="4435920" y="566100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06160" y="602136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869080" y="5948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718520" y="616428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4211280" y="659772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4211640" y="2565000"/>
            <a:ext cx="0" cy="40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4211280" y="256536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58800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6156000" y="4869000"/>
            <a:ext cx="14436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nsibilité des automates (1)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tructure des modèles CABA d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428292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428292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622764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622764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28292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219640" y="2565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219640" y="3573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346560" y="35733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22764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4282920" y="3860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5219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979800" y="5537160"/>
            <a:ext cx="50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tran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auto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718880" y="472428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 des sorties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4160" y="3860640"/>
            <a:ext cx="37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tes les SC_METHOD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54520" y="4797360"/>
            <a:ext cx="38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es les SC_METHOD gen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19564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195640" y="3429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195640" y="551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79280" y="342900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79280" y="342900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79280" y="62373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13760" y="6308640"/>
            <a:ext cx="36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de simulation « canonique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2 SC_METHOD d’un composant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ition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montant de l’horloge calcule la prochaine valeur des regis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oore(valeurs courantes des registr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descendant de l’horloge, calcule les valeurs des sor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ealy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1 à N fonctions), sensible au front descendant et à certaines entrées, calcule les valeurs des sorties de Mea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bilité des automat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2268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2268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4213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213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268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205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205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332000" y="263700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156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6156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21164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14836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14836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8101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8101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156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093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093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810108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87840" y="330516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34000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428472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EQ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227640" y="3284640"/>
            <a:ext cx="194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SP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20364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14836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09440" y="378936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94040" y="503388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4000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28472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227640" y="508464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20364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14836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15640" y="55180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09308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518520" y="64911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t d’un mot 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156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10108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21164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268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ne Simulation SocLib CABA, c’es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ensemble d’automates synchrones communic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2986200" y="3429000"/>
            <a:ext cx="936360" cy="953280"/>
            <a:chOff x="2986200" y="3429000"/>
            <a:chExt cx="936360" cy="953280"/>
          </a:xfrm>
        </p:grpSpPr>
        <p:sp>
          <p:nvSpPr>
            <p:cNvPr id="1378" name=""/>
            <p:cNvSpPr/>
            <p:nvPr/>
          </p:nvSpPr>
          <p:spPr>
            <a:xfrm>
              <a:off x="334656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70692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8620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1" name=""/>
            <p:cNvCxnSpPr>
              <a:stCxn id="1378" idx="6"/>
              <a:endCxn id="1379" idx="0"/>
            </p:cNvCxnSpPr>
            <p:nvPr/>
          </p:nvCxnSpPr>
          <p:spPr>
            <a:xfrm>
              <a:off x="357624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2" name=""/>
            <p:cNvCxnSpPr>
              <a:stCxn id="1379" idx="4"/>
              <a:endCxn id="1380" idx="5"/>
            </p:cNvCxnSpPr>
            <p:nvPr/>
          </p:nvCxnSpPr>
          <p:spPr>
            <a:xfrm flipV="1" rot="16200000">
              <a:off x="347580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3" name=""/>
            <p:cNvCxnSpPr>
              <a:stCxn id="1380" idx="0"/>
              <a:endCxn id="1378" idx="2"/>
            </p:cNvCxnSpPr>
            <p:nvPr/>
          </p:nvCxnSpPr>
          <p:spPr>
            <a:xfrm flipH="1" flipV="1" rot="5400000">
              <a:off x="302148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84" name=""/>
          <p:cNvGrpSpPr/>
          <p:nvPr/>
        </p:nvGrpSpPr>
        <p:grpSpPr>
          <a:xfrm>
            <a:off x="4211640" y="3429000"/>
            <a:ext cx="936360" cy="953280"/>
            <a:chOff x="4211640" y="3429000"/>
            <a:chExt cx="936360" cy="953280"/>
          </a:xfrm>
        </p:grpSpPr>
        <p:sp>
          <p:nvSpPr>
            <p:cNvPr id="1385" name=""/>
            <p:cNvSpPr/>
            <p:nvPr/>
          </p:nvSpPr>
          <p:spPr>
            <a:xfrm>
              <a:off x="4572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932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11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8" name=""/>
            <p:cNvCxnSpPr>
              <a:stCxn id="1385" idx="6"/>
              <a:endCxn id="1386" idx="0"/>
            </p:cNvCxnSpPr>
            <p:nvPr/>
          </p:nvCxnSpPr>
          <p:spPr>
            <a:xfrm>
              <a:off x="4801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9" name=""/>
            <p:cNvCxnSpPr>
              <a:stCxn id="1386" idx="4"/>
              <a:endCxn id="1387" idx="5"/>
            </p:cNvCxnSpPr>
            <p:nvPr/>
          </p:nvCxnSpPr>
          <p:spPr>
            <a:xfrm flipV="1" rot="16200000">
              <a:off x="4701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0" name=""/>
            <p:cNvCxnSpPr>
              <a:stCxn id="1387" idx="0"/>
              <a:endCxn id="1385" idx="2"/>
            </p:cNvCxnSpPr>
            <p:nvPr/>
          </p:nvCxnSpPr>
          <p:spPr>
            <a:xfrm flipH="1" flipV="1" rot="5400000">
              <a:off x="4246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1" name=""/>
          <p:cNvGrpSpPr/>
          <p:nvPr/>
        </p:nvGrpSpPr>
        <p:grpSpPr>
          <a:xfrm>
            <a:off x="5435640" y="3429000"/>
            <a:ext cx="936360" cy="953280"/>
            <a:chOff x="5435640" y="3429000"/>
            <a:chExt cx="936360" cy="953280"/>
          </a:xfrm>
        </p:grpSpPr>
        <p:sp>
          <p:nvSpPr>
            <p:cNvPr id="1392" name=""/>
            <p:cNvSpPr/>
            <p:nvPr/>
          </p:nvSpPr>
          <p:spPr>
            <a:xfrm>
              <a:off x="5796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156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435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5" name=""/>
            <p:cNvCxnSpPr>
              <a:stCxn id="1392" idx="6"/>
              <a:endCxn id="1393" idx="0"/>
            </p:cNvCxnSpPr>
            <p:nvPr/>
          </p:nvCxnSpPr>
          <p:spPr>
            <a:xfrm>
              <a:off x="6025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6" name=""/>
            <p:cNvCxnSpPr>
              <a:stCxn id="1393" idx="4"/>
              <a:endCxn id="1394" idx="5"/>
            </p:cNvCxnSpPr>
            <p:nvPr/>
          </p:nvCxnSpPr>
          <p:spPr>
            <a:xfrm flipV="1" rot="16200000">
              <a:off x="5925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7" name=""/>
            <p:cNvCxnSpPr>
              <a:stCxn id="1394" idx="0"/>
              <a:endCxn id="1392" idx="2"/>
            </p:cNvCxnSpPr>
            <p:nvPr/>
          </p:nvCxnSpPr>
          <p:spPr>
            <a:xfrm flipH="1" flipV="1" rot="5400000">
              <a:off x="5470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8" name=""/>
          <p:cNvGrpSpPr/>
          <p:nvPr/>
        </p:nvGrpSpPr>
        <p:grpSpPr>
          <a:xfrm>
            <a:off x="2195640" y="5013360"/>
            <a:ext cx="936360" cy="953280"/>
            <a:chOff x="2195640" y="5013360"/>
            <a:chExt cx="936360" cy="953280"/>
          </a:xfrm>
        </p:grpSpPr>
        <p:sp>
          <p:nvSpPr>
            <p:cNvPr id="1399" name=""/>
            <p:cNvSpPr/>
            <p:nvPr/>
          </p:nvSpPr>
          <p:spPr>
            <a:xfrm>
              <a:off x="2556000" y="5013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91636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19564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2" name=""/>
            <p:cNvCxnSpPr>
              <a:stCxn id="1399" idx="6"/>
              <a:endCxn id="1400" idx="0"/>
            </p:cNvCxnSpPr>
            <p:nvPr/>
          </p:nvCxnSpPr>
          <p:spPr>
            <a:xfrm>
              <a:off x="2785680" y="512136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3" name=""/>
            <p:cNvCxnSpPr>
              <a:stCxn id="1400" idx="4"/>
              <a:endCxn id="1401" idx="5"/>
            </p:cNvCxnSpPr>
            <p:nvPr/>
          </p:nvCxnSpPr>
          <p:spPr>
            <a:xfrm flipV="1" rot="16200000">
              <a:off x="2685240" y="540936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4" name=""/>
            <p:cNvCxnSpPr>
              <a:stCxn id="1401" idx="0"/>
              <a:endCxn id="1399" idx="2"/>
            </p:cNvCxnSpPr>
            <p:nvPr/>
          </p:nvCxnSpPr>
          <p:spPr>
            <a:xfrm flipH="1" flipV="1" rot="5400000">
              <a:off x="2230920" y="519300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5" name=""/>
          <p:cNvGrpSpPr/>
          <p:nvPr/>
        </p:nvGrpSpPr>
        <p:grpSpPr>
          <a:xfrm>
            <a:off x="3708360" y="5084640"/>
            <a:ext cx="936360" cy="953280"/>
            <a:chOff x="3708360" y="5084640"/>
            <a:chExt cx="936360" cy="953280"/>
          </a:xfrm>
        </p:grpSpPr>
        <p:sp>
          <p:nvSpPr>
            <p:cNvPr id="1406" name=""/>
            <p:cNvSpPr/>
            <p:nvPr/>
          </p:nvSpPr>
          <p:spPr>
            <a:xfrm>
              <a:off x="406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2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70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9" name=""/>
            <p:cNvCxnSpPr>
              <a:stCxn id="1406" idx="6"/>
              <a:endCxn id="1407" idx="0"/>
            </p:cNvCxnSpPr>
            <p:nvPr/>
          </p:nvCxnSpPr>
          <p:spPr>
            <a:xfrm>
              <a:off x="429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0" name=""/>
            <p:cNvCxnSpPr>
              <a:stCxn id="1407" idx="4"/>
              <a:endCxn id="1408" idx="5"/>
            </p:cNvCxnSpPr>
            <p:nvPr/>
          </p:nvCxnSpPr>
          <p:spPr>
            <a:xfrm flipV="1" rot="16200000">
              <a:off x="419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1" name=""/>
            <p:cNvCxnSpPr>
              <a:stCxn id="1408" idx="0"/>
              <a:endCxn id="1406" idx="2"/>
            </p:cNvCxnSpPr>
            <p:nvPr/>
          </p:nvCxnSpPr>
          <p:spPr>
            <a:xfrm flipH="1" flipV="1" rot="5400000">
              <a:off x="374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12" name=""/>
          <p:cNvGrpSpPr/>
          <p:nvPr/>
        </p:nvGrpSpPr>
        <p:grpSpPr>
          <a:xfrm>
            <a:off x="5148360" y="5084640"/>
            <a:ext cx="936360" cy="953280"/>
            <a:chOff x="5148360" y="5084640"/>
            <a:chExt cx="936360" cy="953280"/>
          </a:xfrm>
        </p:grpSpPr>
        <p:sp>
          <p:nvSpPr>
            <p:cNvPr id="1413" name=""/>
            <p:cNvSpPr/>
            <p:nvPr/>
          </p:nvSpPr>
          <p:spPr>
            <a:xfrm>
              <a:off x="550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6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4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6" name=""/>
            <p:cNvCxnSpPr>
              <a:stCxn id="1413" idx="6"/>
              <a:endCxn id="1414" idx="0"/>
            </p:cNvCxnSpPr>
            <p:nvPr/>
          </p:nvCxnSpPr>
          <p:spPr>
            <a:xfrm>
              <a:off x="573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7" name=""/>
            <p:cNvCxnSpPr>
              <a:stCxn id="1414" idx="4"/>
              <a:endCxn id="1415" idx="5"/>
            </p:cNvCxnSpPr>
            <p:nvPr/>
          </p:nvCxnSpPr>
          <p:spPr>
            <a:xfrm flipV="1" rot="16200000">
              <a:off x="563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8" name=""/>
            <p:cNvCxnSpPr>
              <a:stCxn id="1415" idx="0"/>
              <a:endCxn id="1413" idx="2"/>
            </p:cNvCxnSpPr>
            <p:nvPr/>
          </p:nvCxnSpPr>
          <p:spPr>
            <a:xfrm flipH="1" flipV="1" rot="5400000">
              <a:off x="518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hamps dans C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332440" y="292572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_size = 4 * 8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335320" y="3284640"/>
            <a:ext cx="18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len_size = 64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334960" y="3645000"/>
            <a:ext cx="16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_size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336400" y="400536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2336040" y="436572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len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2334960" y="472608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rcid_size = 8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335680" y="508644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kt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335680" y="54468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d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337840" y="22050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p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855680" y="2925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 size fo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852440" y="3284640"/>
            <a:ext cx="24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ximum packet length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4857120" y="364500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es s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858200" y="40053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or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856040" y="43657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iguous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856040" y="472608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855680" y="508644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cket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856400" y="544680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read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856040" y="220500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d of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" descr=""/>
          <p:cNvPicPr/>
          <p:nvPr/>
        </p:nvPicPr>
        <p:blipFill>
          <a:blip r:embed="rId1"/>
          <a:stretch/>
        </p:blipFill>
        <p:spPr>
          <a:xfrm>
            <a:off x="100080" y="1552680"/>
            <a:ext cx="6353280" cy="269532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CASS: simulateur CAB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m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" descr=""/>
          <p:cNvPicPr/>
          <p:nvPr/>
        </p:nvPicPr>
        <p:blipFill>
          <a:blip r:embed="rId2"/>
          <a:stretch/>
        </p:blipFill>
        <p:spPr>
          <a:xfrm>
            <a:off x="7164360" y="260280"/>
            <a:ext cx="1628640" cy="3963960"/>
          </a:xfrm>
          <a:prstGeom prst="rect">
            <a:avLst/>
          </a:prstGeom>
          <a:ln w="0">
            <a:noFill/>
          </a:ln>
        </p:spPr>
      </p:pic>
      <p:sp>
        <p:nvSpPr>
          <p:cNvPr id="1441" name=""/>
          <p:cNvSpPr/>
          <p:nvPr/>
        </p:nvSpPr>
        <p:spPr>
          <a:xfrm>
            <a:off x="2465280" y="544500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337000" y="4976640"/>
            <a:ext cx="17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25360" y="4419720"/>
            <a:ext cx="8747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ion du graphe dual de l’architecture (états=signaux, composants=trans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donnancement stati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) Processus de type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) Processus de type Génération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3) Processus de type Génération de Mealy dans l'ordre défini 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 graphe de dépendance combinatoire entre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751360" y="273672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267000" y="4094280"/>
            <a:ext cx="180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821280" y="2979720"/>
            <a:ext cx="157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fndef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c_register sc_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INITIATOR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INITIATOR&lt;ADDRSIZE, CELLSIZE, ERRSIZE, PLENSIZE, CLENSIZE, SRCIDSIZE, TRDIDSIZE, PKTIDSIZE&gt; VCI_INITIATOR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INITIA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50920" y="1413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50920" y="4365720"/>
            <a:ext cx="8569080" cy="431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initiator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IDLE  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EQ_WRITE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SP_WRITE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INITIATOR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// nom de l'ins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INITIATOR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50920" y="371628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50920" y="155736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RESETN == fals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INITIATOR_FS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EQ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CMDACK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SP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RSP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REG1 +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50920" y="119700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50920" y="2492280"/>
            <a:ext cx="8569080" cy="381636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INITIATOR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ADDRESS = 0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WDATA = (sc_uint&lt;32&gt;)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 = VCI_CMD_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BE = 0x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PLEN = 1 &lt;&lt;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50920" y="162864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50920" y="2492280"/>
            <a:ext cx="8569080" cy="208908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458136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TARGET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TARGET&lt;ADDRSIZE, CELLSIZE, ERRSIZE, PLENSIZE, 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50920" y="1197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250920" y="4221000"/>
            <a:ext cx="8569080" cy="43200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RSP    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EOP    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TARGET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TARGET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24000" y="126828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24000" y="3141720"/>
            <a:ext cx="8569080" cy="934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target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TARGET_FS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CMDVAL == tru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EOP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RS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(VCI_TARGET.CMD.read() =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CMD_WRIT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(VCI_TARGET.ADDRESS.read() &amp; 0xC) 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_ADR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c_uint&lt;32&gt;)VCI_TARGET.WDAT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24000" y="1557360"/>
            <a:ext cx="8569080" cy="295128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24000" y="4508640"/>
            <a:ext cx="8569080" cy="863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24000" y="537372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24000" y="242100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24000" y="4797360"/>
            <a:ext cx="8569080" cy="151128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24000" y="3357720"/>
            <a:ext cx="8569080" cy="1439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 du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wiki/cou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ystem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08472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23780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36400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53640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1692360" y="1052640"/>
            <a:ext cx="1584360" cy="1871640"/>
            <a:chOff x="1692360" y="1052640"/>
            <a:chExt cx="1584360" cy="1871640"/>
          </a:xfrm>
        </p:grpSpPr>
        <p:sp>
          <p:nvSpPr>
            <p:cNvPr id="1523" name=""/>
            <p:cNvSpPr/>
            <p:nvPr/>
          </p:nvSpPr>
          <p:spPr>
            <a:xfrm>
              <a:off x="248436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692360" y="1628640"/>
              <a:ext cx="1584360" cy="649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6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1527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1530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1533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1538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1543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1548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3492360" y="1052640"/>
            <a:ext cx="1584360" cy="1871640"/>
            <a:chOff x="3492360" y="1052640"/>
            <a:chExt cx="1584360" cy="1871640"/>
          </a:xfrm>
        </p:grpSpPr>
        <p:sp>
          <p:nvSpPr>
            <p:cNvPr id="1553" name=""/>
            <p:cNvSpPr/>
            <p:nvPr/>
          </p:nvSpPr>
          <p:spPr>
            <a:xfrm>
              <a:off x="42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492360" y="1628640"/>
              <a:ext cx="1584360" cy="649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4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5292720" y="1052640"/>
            <a:ext cx="1584360" cy="1871640"/>
            <a:chOff x="5292720" y="1052640"/>
            <a:chExt cx="1584360" cy="1871640"/>
          </a:xfrm>
        </p:grpSpPr>
        <p:sp>
          <p:nvSpPr>
            <p:cNvPr id="1557" name=""/>
            <p:cNvSpPr/>
            <p:nvPr/>
          </p:nvSpPr>
          <p:spPr>
            <a:xfrm>
              <a:off x="60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292720" y="1628640"/>
              <a:ext cx="1584360" cy="649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29272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093080" y="1052640"/>
            <a:ext cx="1584360" cy="1871640"/>
            <a:chOff x="7093080" y="1052640"/>
            <a:chExt cx="1584360" cy="1871640"/>
          </a:xfrm>
        </p:grpSpPr>
        <p:sp>
          <p:nvSpPr>
            <p:cNvPr id="1561" name=""/>
            <p:cNvSpPr/>
            <p:nvPr/>
          </p:nvSpPr>
          <p:spPr>
            <a:xfrm>
              <a:off x="788508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93080" y="1628640"/>
              <a:ext cx="1584360" cy="649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9308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1565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7" name="" descr=""/>
            <p:cNvPicPr/>
            <p:nvPr/>
          </p:nvPicPr>
          <p:blipFill>
            <a:blip r:embed="rId9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10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11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12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1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1592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1595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1599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0" name=""/>
            <p:cNvCxnSpPr>
              <a:stCxn id="1590" idx="0"/>
              <a:endCxn id="1599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01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1602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6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1608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1612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1618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9" name=""/>
            <p:cNvCxnSpPr>
              <a:stCxn id="1606" idx="0"/>
              <a:endCxn id="1618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20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1621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2" name=""/>
            <p:cNvCxnSpPr>
              <a:stCxn id="1610" idx="0"/>
              <a:endCxn id="1621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sp>
        <p:nvSpPr>
          <p:cNvPr id="1623" name=""/>
          <p:cNvSpPr/>
          <p:nvPr/>
        </p:nvSpPr>
        <p:spPr>
          <a:xfrm>
            <a:off x="1835280" y="5445000"/>
            <a:ext cx="0" cy="107964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1625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6" name=""/>
            <p:cNvCxnSpPr>
              <a:stCxn id="1592" idx="0"/>
              <a:endCxn id="1625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27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1628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9" name=""/>
            <p:cNvCxnSpPr>
              <a:stCxn id="1608" idx="0"/>
              <a:endCxn id="1628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0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1631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2" name=""/>
            <p:cNvCxnSpPr>
              <a:stCxn id="1612" idx="0"/>
              <a:endCxn id="1631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3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1634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1637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1640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1643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1646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7" name=""/>
            <p:cNvCxnSpPr>
              <a:stCxn id="1637" idx="0"/>
              <a:endCxn id="1646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48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1649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0" name=""/>
            <p:cNvCxnSpPr>
              <a:stCxn id="1640" idx="0"/>
              <a:endCxn id="1649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1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1652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3" name=""/>
            <p:cNvCxnSpPr>
              <a:stCxn id="1643" idx="0"/>
              <a:endCxn id="1652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4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1655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1656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59" name=""/>
              <p:cNvCxnSpPr>
                <a:stCxn id="1656" idx="7"/>
                <a:endCxn id="1658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0" name=""/>
              <p:cNvCxnSpPr>
                <a:stCxn id="1658" idx="4"/>
                <a:endCxn id="1657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1" name=""/>
              <p:cNvCxnSpPr>
                <a:stCxn id="1657" idx="2"/>
                <a:endCxn id="1656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662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,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1680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2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4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6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1692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1699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702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707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712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717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722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725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728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731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734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6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737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gments, address decoding and cacheability m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47636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2484360" y="3933720"/>
            <a:ext cx="1727280" cy="273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75564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4360" y="3933720"/>
            <a:ext cx="1726920" cy="863640"/>
          </a:xfrm>
          <a:prstGeom prst="rect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27672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2556000" y="693720"/>
            <a:ext cx="143964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435600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615636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800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805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810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815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4284720" y="3284640"/>
            <a:ext cx="3496680" cy="2609280"/>
            <a:chOff x="4284720" y="3284640"/>
            <a:chExt cx="3496680" cy="2609280"/>
          </a:xfrm>
        </p:grpSpPr>
        <p:sp>
          <p:nvSpPr>
            <p:cNvPr id="1820" name=""/>
            <p:cNvSpPr/>
            <p:nvPr/>
          </p:nvSpPr>
          <p:spPr>
            <a:xfrm>
              <a:off x="6011640" y="3284640"/>
              <a:ext cx="0" cy="64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284720" y="3933720"/>
              <a:ext cx="3382560" cy="8632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2" name="" descr=""/>
            <p:cNvPicPr/>
            <p:nvPr/>
          </p:nvPicPr>
          <p:blipFill>
            <a:blip r:embed="rId9"/>
            <a:stretch/>
          </p:blipFill>
          <p:spPr>
            <a:xfrm>
              <a:off x="428472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" descr=""/>
            <p:cNvPicPr/>
            <p:nvPr/>
          </p:nvPicPr>
          <p:blipFill>
            <a:blip r:embed="rId10"/>
            <a:stretch/>
          </p:blipFill>
          <p:spPr>
            <a:xfrm>
              <a:off x="514800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" descr=""/>
            <p:cNvPicPr/>
            <p:nvPr/>
          </p:nvPicPr>
          <p:blipFill>
            <a:blip r:embed="rId11"/>
            <a:stretch/>
          </p:blipFill>
          <p:spPr>
            <a:xfrm>
              <a:off x="6084720" y="5084640"/>
              <a:ext cx="76140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12"/>
            <a:stretch/>
          </p:blipFill>
          <p:spPr>
            <a:xfrm>
              <a:off x="701964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46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50836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4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30872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0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195640" y="4581360"/>
            <a:ext cx="2156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451640" y="4581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7164360" y="1484280"/>
            <a:ext cx="1979640" cy="4897440"/>
          </a:xfrm>
          <a:prstGeom prst="rect">
            <a:avLst/>
          </a:pr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apping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839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842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845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848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851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854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6" name=""/>
          <p:cNvSpPr/>
          <p:nvPr/>
        </p:nvSpPr>
        <p:spPr>
          <a:xfrm>
            <a:off x="8820000" y="177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8820000" y="2349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8820000" y="2997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8820000" y="364500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8820000" y="429264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8820000" y="4941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5185E-006 L 0.5118 -0.35162 E">
                                      <p:cBhvr>
                                        <p:cTn id="364" dur="2000" fill="hold"/>
                                        <p:tgtEl>
                                          <p:spTgt spid="1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7 L 0.5118 -0.3412 E">
                                      <p:cBhvr>
                                        <p:cTn id="375" dur="2000" fill="hold"/>
                                        <p:tgtEl>
                                          <p:spTgt spid="1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5118 -0.33056 E">
                                      <p:cBhvr>
                                        <p:cTn id="386" dur="2000" fill="hold"/>
                                        <p:tgtEl>
                                          <p:spTgt spid="1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L 0.5118 -0.32014 E">
                                      <p:cBhvr>
                                        <p:cTn id="397" dur="2000" fill="hold"/>
                                        <p:tgtEl>
                                          <p:spTgt spid="1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70868 0.02639 E">
                                      <p:cBhvr>
                                        <p:cTn id="408" dur="2000" fill="hold"/>
                                        <p:tgtEl>
                                          <p:spTgt spid="1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31493 0.12084 E">
                                      <p:cBhvr>
                                        <p:cTn id="419" dur="2000" fill="hold"/>
                                        <p:tgtEl>
                                          <p:spTgt spid="1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 modif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2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989000"/>
            <a:ext cx="367344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1989000"/>
            <a:ext cx="194472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1864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1865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7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1869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1870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2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1874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1875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1879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1880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2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1884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1885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7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1889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1890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2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1894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1895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1899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1900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2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1904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1905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7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1909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1910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2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1916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8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jet de plateforme supporté par l’ANR (Agence Nationale pour la Recherch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 partenaires industri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 laborato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www.soclib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bliothèqu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open-sour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odè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interopérab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ulti-niveau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composants matériels e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ystem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la modélisation et la simulation de plateformes multiprocess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chaque composant (Intellectual Property, IP) de la plateforme, il doit exister un chemin vers le silic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ode VHDL (entrée de la synthèse ASIC ou sur FPGA)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n’est pas contenu dans SoCLib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é pour l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rototypage virtue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Tout se fait par simulation (pas d’émulation de matériel, pas de FPGA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Lib est conçu pour êtr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erform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pa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édag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 utilisé pour ce cours, pédagogique et obsolè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vrai SocLib, utilisé pour les cours procha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Attention à la confus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aux d’abs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128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ycle-Accurate Bit-accu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tt</cp:lastModifiedBy>
  <dcterms:modified xsi:type="dcterms:W3CDTF">2009-10-07T18:33:31Z</dcterms:modified>
  <cp:revision>238</cp:revision>
  <dc:subject/>
  <dc:title>Diapositive 1</dc:title>
</cp:coreProperties>
</file>