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88D-7656-4811-85A6-9AB88BFC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881-74E3-4067-9805-24773D51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D46-1997-47D4-A45B-AAF549AB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411-9ABB-4823-8446-E30782B0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2F4-0AA2-4736-8381-5CE2A19A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0C3-43C3-4A8D-B9F7-2800B4E6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A9C-FC6B-4169-9841-E545E99D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65F-D068-4F42-A405-81734699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53F-1183-4AA2-A469-3EB95B16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ADD-CBED-4A20-A6A1-F76328F2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8B9-43EB-4559-9E9C-A0612A0F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E24-1716-4966-A919-16B2BE26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6625-D65B-4A2C-B14D-7847DDC1D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4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totypage virtuel avec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3573360"/>
            <a:ext cx="10558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IFE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3080" y="4076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4"/>
            <a:endCxn id="187" idx="5"/>
          </p:cNvCxnSpPr>
          <p:nvPr/>
        </p:nvCxnSpPr>
        <p:spPr>
          <a:xfrm flipH="1" flipV="1" rot="5400000">
            <a:off x="1972800" y="432072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269080" y="35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21440" y="51562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 flipH="1" flipV="1" rot="5400000">
            <a:off x="3749400" y="432396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4208040" y="3573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0720" y="515628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92720" y="3573360"/>
            <a:ext cx="10555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076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3"/>
            <a:endCxn id="187" idx="3"/>
          </p:cNvCxnSpPr>
          <p:nvPr/>
        </p:nvCxnSpPr>
        <p:spPr>
          <a:xfrm rot="5400000">
            <a:off x="3465360" y="2454120"/>
            <a:ext cx="2520" cy="3961080"/>
          </a:xfrm>
          <a:prstGeom prst="curvedConnector5">
            <a:avLst>
              <a:gd name="adj1" fmla="val 146100000"/>
              <a:gd name="adj2" fmla="val 50000"/>
              <a:gd name="adj3" fmla="val 14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29272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/>
          <p:nvPr/>
        </p:nvCxnSpPr>
        <p:spPr>
          <a:xfrm flipH="1" flipV="1" rot="5400000">
            <a:off x="5835960" y="2378880"/>
            <a:ext cx="148320" cy="374040"/>
          </a:xfrm>
          <a:prstGeom prst="curvedConnector5">
            <a:avLst>
              <a:gd name="adj1" fmla="val -357907"/>
              <a:gd name="adj2" fmla="val 50000"/>
              <a:gd name="adj3" fmla="val -3579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203640" y="1628640"/>
            <a:ext cx="10555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SP_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/>
          <p:nvPr/>
        </p:nvCxnSpPr>
        <p:spPr>
          <a:xfrm flipH="1" flipV="1" rot="5400000">
            <a:off x="3820680" y="2379240"/>
            <a:ext cx="148320" cy="373680"/>
          </a:xfrm>
          <a:prstGeom prst="curvedConnector5">
            <a:avLst>
              <a:gd name="adj1" fmla="val -357907"/>
              <a:gd name="adj2" fmla="val 49951"/>
              <a:gd name="adj3" fmla="val -35790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085440" y="2781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21337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5440" y="17733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24000" y="29973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1" idx="2"/>
            <a:endCxn id="187" idx="0"/>
          </p:cNvCxnSpPr>
          <p:nvPr/>
        </p:nvCxnSpPr>
        <p:spPr>
          <a:xfrm flipV="1" rot="10800000">
            <a:off x="1859760" y="2132640"/>
            <a:ext cx="1343880" cy="1440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1547640" y="206064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6" idx="6"/>
            <a:endCxn id="199" idx="6"/>
          </p:cNvCxnSpPr>
          <p:nvPr/>
        </p:nvCxnSpPr>
        <p:spPr>
          <a:xfrm flipV="1">
            <a:off x="6347880" y="2133360"/>
            <a:ext cx="2520" cy="1945440"/>
          </a:xfrm>
          <a:prstGeom prst="curvedConnector5">
            <a:avLst>
              <a:gd name="adj1" fmla="val 99400000"/>
              <a:gd name="adj2" fmla="val 49990"/>
              <a:gd name="adj3" fmla="val 994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69228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200" y="1125360"/>
            <a:ext cx="78616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arg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&lt;signal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mapping_table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hared/soclib_vci_interface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simpleram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oclib_vci_iss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ELLSIZE        4       // Data are 4 cells(=8bits) wide=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ERRSIZE         1       // Error size is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CLENSIZE        1       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TRDIDSIZE       1       // TRDID un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PKTIDSIZE       1       // PKTID unused to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ADDRSIZE    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SRCIDSIZE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ystem.cpp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4080" y="1022400"/>
            <a:ext cx="59414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c_main 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lock signal_clk ("signal_cl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 &lt; bool &gt; signal_resetn ("signal_reset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SIGNALS &lt;VCI_PARAM&gt; link ("link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ISS &lt; VCI_PARAM &gt; i0 ("i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&lt; VCI_PARAM &gt; t0 ("t0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0.VCI_INITIATOR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CLK(signal_cl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RESETN(signal_reset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0.VCI_TARGET(li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0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sc_core::sc_time(1, SC_N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ignal_resetn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tar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turn EXIT_SUCC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5280" y="1557360"/>
            <a:ext cx="8893440" cy="107964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000" y="2708280"/>
            <a:ext cx="892800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280" y="3429000"/>
            <a:ext cx="8893440" cy="151272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32320" y="220500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1960" y="28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laratio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86880" y="450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5013360"/>
            <a:ext cx="8928000" cy="1368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3960" y="573408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et lancemen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ux réseaux disjoints, le réseau des requêtes (command) et le réseau des réponses (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236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1964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4920" y="3141720"/>
            <a:ext cx="194472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221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542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1964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580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200" y="4581360"/>
            <a:ext cx="8893440" cy="1584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200" y="2852640"/>
            <a:ext cx="8893440" cy="1584360"/>
          </a:xfrm>
          <a:prstGeom prst="rect">
            <a:avLst/>
          </a:prstGeom>
          <a:solidFill>
            <a:srgbClr val="ff33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53800" y="2781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2880" y="5805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1 initiateur, 1 Interconnect, 2 ci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 et vcilink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 initiateurs, 1 Interconnect, 1 c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08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84720" y="3141720"/>
            <a:ext cx="2881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re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21800" y="5877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64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364000" y="5516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84720" y="4797360"/>
            <a:ext cx="288144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code de l’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64000" y="34434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364000" y="39466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1800" y="42210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8680" y="1268280"/>
            <a:ext cx="55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certain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32920" y="213336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eset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BF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1011 1111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ext  0x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4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00000  =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0000 0100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1100 0000 0000 0000 0000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8680" y="17002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8 bits dans cet 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age des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3141720"/>
            <a:ext cx="223200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84720" y="3141720"/>
            <a:ext cx="28814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8000" y="5877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00360" y="3429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698920" y="3932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0160" y="5877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4000" y="4294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64000" y="4797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50160" y="5950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797360"/>
            <a:ext cx="223200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508464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698920" y="55879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8000" y="422100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8320" y="1197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dage sur les bits du champ VCI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200" y="1700280"/>
            <a:ext cx="72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que initiateur dispose d’un identifiant unique qu’il envoie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commande. La cible et l’interconnect des réponses gère ce SR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savent ainsi à quel initiateur communiquer la réponse (SRCID jo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rôle d’adresse pour les répon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on de segment mémo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egme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ans SocLib c’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om (chaîne de caractères), ex. « 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se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adresse de base (sur 32 bi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BFC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aille (en octets)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0x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index VCI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attributs de cachabilité, ex.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UNC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ensemble des segments forme la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table des segment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ou mapping table (table de correspondance des adresses, des cibles VCI et des bancs mém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8436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311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314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317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322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327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332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42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276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340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6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7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8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1052640"/>
            <a:ext cx="158400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4836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052640"/>
            <a:ext cx="1584360" cy="1224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comman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187020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360" y="21589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244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16840" y="1628640"/>
            <a:ext cx="22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VAL command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15400" y="1916280"/>
            <a:ext cx="214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ACK command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16480" y="220500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7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16120" y="2492280"/>
            <a:ext cx="21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WDATA write data (32=8*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3022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6480" y="278136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E byte enable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309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16480" y="306864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MD vci command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3670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18280" y="34290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3959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17920" y="3718080"/>
            <a:ext cx="8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246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6840" y="4005360"/>
            <a:ext cx="175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OP end of packe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45338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16840" y="4292640"/>
            <a:ext cx="248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LEN packet length in bytes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50385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17200" y="4797360"/>
            <a:ext cx="21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RCID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53262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19360" y="5084640"/>
            <a:ext cx="21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RDID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561492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17200" y="5373720"/>
            <a:ext cx="213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KTID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355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367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374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377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382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387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392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397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400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403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406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409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412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oclib_vci_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s et masque de cachabi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473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476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480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1" name=""/>
            <p:cNvCxnSpPr>
              <a:stCxn id="471" idx="0"/>
              <a:endCxn id="480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482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483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489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493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499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87" idx="0"/>
              <a:endCxn id="499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grpSp>
        <p:nvGrpSpPr>
          <p:cNvPr id="501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502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1" idx="0"/>
              <a:endCxn id="502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808080"/>
              </a:solidFill>
              <a:miter/>
            </a:ln>
          </p:spPr>
        </p:cxnSp>
      </p:grpSp>
      <p:sp>
        <p:nvSpPr>
          <p:cNvPr id="504" name=""/>
          <p:cNvSpPr/>
          <p:nvPr/>
        </p:nvSpPr>
        <p:spPr>
          <a:xfrm>
            <a:off x="1835280" y="5805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506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7" name=""/>
            <p:cNvCxnSpPr>
              <a:stCxn id="473" idx="0"/>
              <a:endCxn id="506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08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509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0" name=""/>
            <p:cNvCxnSpPr>
              <a:stCxn id="489" idx="0"/>
              <a:endCxn id="509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1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512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"/>
            <p:cNvCxnSpPr>
              <a:stCxn id="493" idx="0"/>
              <a:endCxn id="512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14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515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518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521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524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527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8" name=""/>
            <p:cNvCxnSpPr>
              <a:stCxn id="518" idx="0"/>
              <a:endCxn id="527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29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530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1" name=""/>
            <p:cNvCxnSpPr>
              <a:stCxn id="521" idx="0"/>
              <a:endCxn id="530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533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24" idx="0"/>
              <a:endCxn id="533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535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536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537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0" name=""/>
              <p:cNvCxnSpPr>
                <a:stCxn id="537" idx="7"/>
                <a:endCxn id="539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1" name=""/>
              <p:cNvCxnSpPr>
                <a:stCxn id="539" idx="4"/>
                <a:endCxn id="538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42" name=""/>
              <p:cNvCxnSpPr>
                <a:stCxn id="538" idx="2"/>
                <a:endCxn id="537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543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" y="981000"/>
            <a:ext cx="892872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&lt;int NB_IN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NB_TARG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PARAM_DECLA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LOCAL_CROSSBAR_SIMPLE : sc_modul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 // instanc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GLOB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LOCAL_ROUTING_T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ADDR_OFFSET, GLOBAL_ADDR_MASK, GLOBAL_AD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ADDR_OFFSET, LOCAL_ADDR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GLOBAL_ID_OFFSET, GLOBAL_ID_MASK, GLOBAL_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LOCAL_ID_OFFSET, LOCAL_ID_MAS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ADDR_OF(x) (((x)&gt;&gt;GLOBAL_ADDR_OFFSET)&amp;GLOB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ADDR_OF(x) (((x)&gt;&gt;LOCAL_ADDR_OFFSET)&amp;LOCAL_ADDR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GLOBAL_ID_OF(x) (((x)&gt;&gt;GLOBAL_ID_OFFSET)&amp;GLOB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LOCAL_ID_OF(x) (((x)&gt;&gt;LOCAL_ID_OFFSET)&amp;LOCAL_ID_MA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VCI_PARAM&gt; TLOC_VCI[NB_IN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INITIATOR&lt;VCI_PARAM&gt; ILOC_VCI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T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TLOC_ALLOCATED[NB_INIT]; // state of the local target 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TLOC_INDEX[NB_INIT]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bool&gt; ILOC_ALLOCATED[NB_TARGET]; // state of the local initiator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signal&lt;int&gt;  ILOC_INDEX[NB_TARGE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25280" y="3716280"/>
            <a:ext cx="8893440" cy="1008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5280" y="4797360"/>
            <a:ext cx="8893440" cy="57636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5280" y="5445000"/>
            <a:ext cx="8893440" cy="141300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oclib_vci_local_crossbar_simple.h (2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880" y="1932120"/>
            <a:ext cx="7572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LOCAL_CROSSBAR_SIMPLE (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*index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MAPPING_TABLE mapping_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genMeal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_neg &lt;&l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CMDACK &lt;&lt; ILOC_VCI[i].RSP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DATA &lt;&lt; ILOC_VCI[i].R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ERROR &lt;&lt; ILOC_VCI[i].RTRD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ILOC_VCI[i].RPKTID &lt;&lt; ILOC_VCI[i].R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 (int i = 0 ; i &lt; NB_INI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RSPA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CMDV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TLOC_VCI[i].SRC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9200" y="1042920"/>
            <a:ext cx="83948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op on the ILOC F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i = 0 ; i &lt; NB_TARGET 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ILOC_ALLOCATED[i] == false) { // local initiator port not allo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for(int t = 0 ; t &lt; NB_INIT ; t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u = (t + ILOC_INDEX[i] + 1) % NB_INI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TLOC_VCI[u].CMD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unsigned int address = TLOC_VCI[u].ADDRESS.read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index = ROUTING_TABLE[LOCAL_ADDR_OF(address)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index == i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ALLOCATED[i]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LOC_INDEX[i] = 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ocal initiator port alloc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((TLOC_VCI[ILOC_INDEX[i]].CMDVAL == tru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(ILOC_VCI[i].CMDACK == true) &amp;&amp;(TLOC_VCI[ILOC_INDEX[i]].EOP == true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 ILOC_ALLOCATED[i] = fals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 // end for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5280" y="1916280"/>
            <a:ext cx="8893440" cy="433080"/>
          </a:xfrm>
          <a:prstGeom prst="rect">
            <a:avLst/>
          </a:prstGeom>
          <a:solidFill>
            <a:srgbClr val="bbe0e3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85800" y="1989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IORITE TOUR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120" y="0"/>
            <a:ext cx="920268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void genMea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//  VCI local target 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for (int i=0 ; i&lt;NB_INIT ; i++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TLOC_ALLOCATED[i] == true) { //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nt k = TLOC_INDEX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PVAL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RROR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EOP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TRD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PKT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SRCID.read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ILOC_VCI[k].RDATA.rea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 else { // not 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PVAL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RROR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EOP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TRD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PKT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SRCID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LOC_VCI[i].RDATA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}//end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« old »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mot de commande envoyé, un mot de réponse reçu, sous-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code identique, pas de facto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211640" y="2313000"/>
            <a:ext cx="4537080" cy="2232000"/>
            <a:chOff x="4211640" y="2313000"/>
            <a:chExt cx="4537080" cy="2232000"/>
          </a:xfrm>
        </p:grpSpPr>
        <p:sp>
          <p:nvSpPr>
            <p:cNvPr id="562" name=""/>
            <p:cNvSpPr/>
            <p:nvPr/>
          </p:nvSpPr>
          <p:spPr>
            <a:xfrm>
              <a:off x="421164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97880" y="2313000"/>
              <a:ext cx="1050840" cy="2232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2480" y="246204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262120" y="2599920"/>
              <a:ext cx="243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62480" y="27367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6080" y="237204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6800" y="250956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6800" y="264744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2480" y="28738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6800" y="278460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62480" y="30117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05000" y="292248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2480" y="314856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06080" y="305856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2480" y="332064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05000" y="323064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62480" y="34585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5360" y="33681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62480" y="3595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04640" y="350532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62480" y="3732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05000" y="364320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62480" y="397332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06080" y="388332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62480" y="411048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05720" y="402084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62480" y="4248000"/>
              <a:ext cx="24354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05360" y="415872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9788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19200" y="2381040"/>
              <a:ext cx="142920" cy="20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067280" y="4653000"/>
            <a:ext cx="4824000" cy="2087640"/>
            <a:chOff x="4067280" y="4653000"/>
            <a:chExt cx="4824000" cy="2087640"/>
          </a:xfrm>
        </p:grpSpPr>
        <p:sp>
          <p:nvSpPr>
            <p:cNvPr id="593" name=""/>
            <p:cNvSpPr/>
            <p:nvPr/>
          </p:nvSpPr>
          <p:spPr>
            <a:xfrm>
              <a:off x="406728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774200" y="4653000"/>
              <a:ext cx="1117080" cy="2087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84360" y="491004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5184000" y="4781160"/>
              <a:ext cx="258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84360" y="50382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95120" y="4676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5480" y="480492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95120" y="493524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184360" y="516636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96200" y="506088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84360" y="52952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94040" y="51908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77880" y="568044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7560" y="557712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177880" y="580860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87920" y="57038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77880" y="5937480"/>
              <a:ext cx="258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7200" y="583416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32440" y="4716720"/>
              <a:ext cx="15192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74200" y="4716720"/>
              <a:ext cx="152280" cy="18957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616720" y="3068640"/>
            <a:ext cx="1295280" cy="7920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5831640" y="5157720"/>
            <a:ext cx="1295640" cy="79236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68360" y="2997360"/>
            <a:ext cx="1008000" cy="7189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79640 h 718920"/>
              <a:gd name="textAreaBottom" fmla="*/ 53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10880" y="2997360"/>
            <a:ext cx="12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écr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www.soclib.f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criture N mots, 1 mot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cture 1 mot, N mots de ré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ctorisation du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actuel est l’aboutissement de 7 ans d’essais, d’erreurs, de mises au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ta-out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manipuler les fichiers .cpp, .h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mpiler les platefor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n VCI, 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557360"/>
            <a:ext cx="1584360" cy="468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213372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71640" y="1844640"/>
            <a:ext cx="36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2421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46920" y="155736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VAL response valid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5480" y="184464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PACK response ack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7640" y="21337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DATA read data 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270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7280" y="242100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RROR response error (E bits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99736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6920" y="2709720"/>
            <a:ext cx="26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OP response end of packet 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62280" y="386064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37920" y="3573360"/>
            <a:ext cx="29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SRCID response source ident (S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62280" y="414828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9720" y="3860640"/>
            <a:ext cx="29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TRDID response thread ident (T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62280" y="4437000"/>
            <a:ext cx="3672000" cy="0"/>
          </a:xfrm>
          <a:prstGeom prst="line">
            <a:avLst/>
          </a:prstGeom>
          <a:ln w="2844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7920" y="4149720"/>
            <a:ext cx="29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PKTID response packet ident (P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1700280"/>
            <a:ext cx="21564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43640" y="1700280"/>
            <a:ext cx="216000" cy="4249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arborescence 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771640" y="2565360"/>
            <a:ext cx="648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4572000" y="191628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2205000"/>
            <a:ext cx="79200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870880" y="18446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èles &amp;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70160" y="22050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s &amp;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435280" y="20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43528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utils/b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24000" y="3789360"/>
            <a:ext cx="1079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042560" y="414936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93240" y="539280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mande pour compiler les platefor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jouter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soclib/utils/b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au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 flipV="1">
            <a:off x="179280" y="3068640"/>
            <a:ext cx="79236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179280" y="371628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79280" y="4508640"/>
            <a:ext cx="2305080" cy="28872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79280" y="530064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79280" y="4941720"/>
            <a:ext cx="2305080" cy="21600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/soclib/platform/top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76200" y="1341360"/>
            <a:ext cx="8391600" cy="53262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050920" y="270828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575080" y="3049200"/>
            <a:ext cx="79200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5400" y="4292640"/>
            <a:ext cx="49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droit où se trouvent les exemples de 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notamment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</a:rPr>
              <a:t>tutorial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clib/soclib/platform/topcells/tutorial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376200" y="1413000"/>
            <a:ext cx="8391600" cy="532584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076720" y="3141720"/>
            <a:ext cx="1079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5579640" y="3573000"/>
            <a:ext cx="792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3240" y="501336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op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141720"/>
            <a:ext cx="43164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88000" y="3573360"/>
            <a:ext cx="100800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23960" y="551664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per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ù se trou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oft (appli embarqué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1636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203640" y="3573360"/>
            <a:ext cx="360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054160" y="537372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table 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32000" y="3141720"/>
            <a:ext cx="1511280" cy="287280"/>
          </a:xfrm>
          <a:prstGeom prst="rect">
            <a:avLst/>
          </a:prstGeom>
          <a:solidFill>
            <a:srgbClr val="ff33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763640" y="3429000"/>
            <a:ext cx="289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43960" y="458136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éta-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la comp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272880" y="404640"/>
            <a:ext cx="8596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  lien, deux réseaux, CMD et R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014560" y="880920"/>
            <a:ext cx="5113080" cy="5976720"/>
            <a:chOff x="2014560" y="880920"/>
            <a:chExt cx="5113080" cy="5976720"/>
          </a:xfrm>
        </p:grpSpPr>
        <p:sp>
          <p:nvSpPr>
            <p:cNvPr id="97" name=""/>
            <p:cNvSpPr/>
            <p:nvPr/>
          </p:nvSpPr>
          <p:spPr>
            <a:xfrm>
              <a:off x="201456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391464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8600" y="42771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198600" y="409536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98600" y="4457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0960" y="3938760"/>
              <a:ext cx="180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VAL response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1320" y="4121280"/>
              <a:ext cx="1747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PACK response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1320" y="4302000"/>
              <a:ext cx="151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DATA read data 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8600" y="4638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2040" y="4482720"/>
              <a:ext cx="216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RROR response error (E bits)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98600" y="48204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0240" y="4663440"/>
              <a:ext cx="2213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EOP response end of packet 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91760" y="53632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27360" y="5208480"/>
              <a:ext cx="251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SRCID response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91760" y="55440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27000" y="538920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TRDID response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91760" y="5725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26640" y="5569200"/>
              <a:ext cx="248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RPKTID response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7680" y="4004640"/>
              <a:ext cx="16092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4004640"/>
              <a:ext cx="161280" cy="267264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456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itiateu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43600" y="880920"/>
              <a:ext cx="1184040" cy="29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8600" y="107748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3198600" y="1258920"/>
              <a:ext cx="2744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600" y="14396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0" y="950400"/>
              <a:ext cx="186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VAL command valid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9160" y="1131480"/>
              <a:ext cx="181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ACK command ack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1314000"/>
              <a:ext cx="105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DRESS (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98600" y="16203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10240" y="1493640"/>
              <a:ext cx="180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WDATA write data (32=8*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98600" y="18021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8080" y="167616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E byte enable (4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8600" y="19828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1856880"/>
              <a:ext cx="1503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CMD vci command (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98600" y="22093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07720" y="2082600"/>
              <a:ext cx="86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IG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8600" y="239112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440" y="226548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S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8600" y="257184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07720" y="2446200"/>
              <a:ext cx="14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OP end of packet (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98600" y="275256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440" y="2626920"/>
              <a:ext cx="209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LEN packet length in bytes (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98600" y="307008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0" y="2944440"/>
              <a:ext cx="182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RCID source ident (S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8600" y="32508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160" y="3125880"/>
              <a:ext cx="178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RDID thread ident (T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98600" y="3432600"/>
              <a:ext cx="274464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440" y="3306600"/>
              <a:ext cx="179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PKTID packet ident (P bi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970560"/>
              <a:ext cx="16128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7680" y="970560"/>
              <a:ext cx="160920" cy="2672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577640" y="2081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520" y="522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72880" y="254160"/>
            <a:ext cx="85964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mple de plateforme trop compliqu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teforme simplifi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3346560" y="1989000"/>
            <a:ext cx="144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987640" y="1844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8314920" y="1844640"/>
            <a:ext cx="180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987640" y="1844640"/>
            <a:ext cx="532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956720" y="19890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643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348000" y="1989000"/>
            <a:ext cx="460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3400" y="5013360"/>
            <a:ext cx="38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CU : Interrupt Controll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RDES : Serialiseur, Déserialis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9564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093080" y="378936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451640" y="371628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du SER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858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859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863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864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868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869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873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874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6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878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883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888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889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893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894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898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899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903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904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910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764640"/>
            <a:ext cx="86868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3520" y="1268280"/>
            <a:ext cx="8151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ADDRSIZE, int CELLSIZE, int ERRSIZE, int PLENSIZE, 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 SRCIDSIZE, int TRDIDSIZE, 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truct SOCLIB_VCI_SIMPLERAM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ADVANCED_VCI_TARGET&lt;ADDRSIZE, CELLSIZE, ERRSIZE, PLENSI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FSM,DT,REG_EOP,WRITE_COUNTER,READ_COU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,READ_COUNTER_IN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1024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WRIT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_WAI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TARGET_REA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HAS_PROCESS (SOCLIB_VCI_SIMPLERA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2781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4200" y="4076640"/>
            <a:ext cx="8713800" cy="216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4200" y="4508640"/>
            <a:ext cx="8713800" cy="151272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" y="1989000"/>
            <a:ext cx="67186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OCLIB_VCI_SIMPLERAM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_name insname // nom de l'in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0 &gt;&gt; 2]=0x2001001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1,$0, 0x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4 &gt;&gt; 2]=0x2002001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addi $2,$0, 0x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8 &gt;&gt; 2]=0x8c220000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2,0($1) = 0x112233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0C &gt;&gt; 2]=0x8c230004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// lw $3,4($1) = 0x556677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0 &gt;&gt; 2]=0x1122334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mem[0x14 &gt;&gt; 2]=0x556677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WRITE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EAD_COUNTER_INIT=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4200" y="2852640"/>
            <a:ext cx="8713800" cy="863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4200" y="5229360"/>
            <a:ext cx="8713800" cy="43164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2520" y="741240"/>
            <a:ext cx="89589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void transition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switch(TARGET_FSM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ID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CMDVAL == tr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G_EOP=VCI_TARGET.EO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VCI_TARGET.CMD.read() == VCI_CMD_WRIT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wdata=(int)VCI_TARGET.WDATA.read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mem[addr&gt;&gt;2]=wdata; TARGET_FSM = TARGET_WRITE_WAIT; WRITE_COUNTER = WRITE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nt addr=(int)VCI_TARGET.ADDRESS.read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DT = mem[addr&gt;&gt;2]; TARGET_FSM = TARGET_READ_WA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 = READ_COUNTER_INI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WRITE_COUNTER=WRITE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WRITE_COUNTER==1) TARGET_FSM=TARGET_WRI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_WAIT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READ_COUNTER=READ_COUNTER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 (READ_COUNTER==1) TARGET_FSM=TARGET_RE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REA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case TARGET_WRIT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if(VCI_TARGET.RSPACK =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TARGET_FSM = TARGET_ID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 // end switch TARGET F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4200" y="2060640"/>
            <a:ext cx="8821800" cy="79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4200" y="2982960"/>
            <a:ext cx="8821800" cy="5904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62769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ram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960" y="0"/>
            <a:ext cx="68709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_WA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case TARGET_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DATA  = (sc_uint&lt;32&gt;) D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CI_TARGET.REOP = REG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4200" y="4921200"/>
            <a:ext cx="8713800" cy="127656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fpecheuxadm</cp:lastModifiedBy>
  <dcterms:modified xsi:type="dcterms:W3CDTF">2009-10-14T19:40:58Z</dcterms:modified>
  <cp:revision>365</cp:revision>
  <dc:subject/>
  <dc:title>Diapositive 1</dc:title>
</cp:coreProperties>
</file>