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DF8-ECAD-4C0D-B824-5757CF7B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465-A6B3-433D-A5F0-AEEC8469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118-50E4-42BE-BD04-23A6D244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0903-AB20-47AD-92D5-05EA1645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404-702F-4A75-AF73-FFC65F12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45D2-B839-4B27-9944-D96810CE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5A73-AEB3-4428-B441-D4F7A50F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0BE-5AD4-4D4B-8790-20C5D614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1F8-7113-4F9D-9701-0E7BED20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9A43-5F47-494F-B567-B91A16F8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B31-98FF-40EE-A8A8-41E70F1D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45E-5478-432B-BD94-B6CCD798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5C25-1ADE-43F8-90D7-CC08C2F34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4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totypage virtuel avec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620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3573360"/>
            <a:ext cx="10555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_IFE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3573360"/>
            <a:ext cx="10558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P_IFE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13080" y="4076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7" idx="4"/>
            <a:endCxn id="187" idx="5"/>
          </p:cNvCxnSpPr>
          <p:nvPr/>
        </p:nvCxnSpPr>
        <p:spPr>
          <a:xfrm flipH="1" flipV="1" rot="5400000">
            <a:off x="1972800" y="432072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269080" y="3573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21440" y="51562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/>
          <p:nvPr/>
        </p:nvCxnSpPr>
        <p:spPr>
          <a:xfrm flipH="1" flipV="1" rot="5400000">
            <a:off x="3749400" y="432396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4208040" y="357336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20720" y="515628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92720" y="3573360"/>
            <a:ext cx="10555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4076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6" idx="3"/>
            <a:endCxn id="187" idx="3"/>
          </p:cNvCxnSpPr>
          <p:nvPr/>
        </p:nvCxnSpPr>
        <p:spPr>
          <a:xfrm rot="5400000">
            <a:off x="3465360" y="2454120"/>
            <a:ext cx="2520" cy="3961080"/>
          </a:xfrm>
          <a:prstGeom prst="curvedConnector5">
            <a:avLst>
              <a:gd name="adj1" fmla="val 146100000"/>
              <a:gd name="adj2" fmla="val 50000"/>
              <a:gd name="adj3" fmla="val 1461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292720" y="1628640"/>
            <a:ext cx="10555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_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/>
          <p:nvPr/>
        </p:nvCxnSpPr>
        <p:spPr>
          <a:xfrm flipH="1" flipV="1" rot="5400000">
            <a:off x="5835960" y="2378880"/>
            <a:ext cx="148320" cy="374040"/>
          </a:xfrm>
          <a:prstGeom prst="curvedConnector5">
            <a:avLst>
              <a:gd name="adj1" fmla="val -357907"/>
              <a:gd name="adj2" fmla="val 50000"/>
              <a:gd name="adj3" fmla="val -3579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203640" y="1628640"/>
            <a:ext cx="10555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P_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/>
          <p:nvPr/>
        </p:nvCxnSpPr>
        <p:spPr>
          <a:xfrm flipH="1" flipV="1" rot="5400000">
            <a:off x="3820680" y="237924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6085440" y="2781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284720" y="21337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85440" y="1773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24000" y="299736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1" idx="2"/>
            <a:endCxn id="187" idx="0"/>
          </p:cNvCxnSpPr>
          <p:nvPr/>
        </p:nvCxnSpPr>
        <p:spPr>
          <a:xfrm flipV="1" rot="10800000">
            <a:off x="1859760" y="2132640"/>
            <a:ext cx="1343880" cy="1440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1547640" y="206064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6" idx="6"/>
            <a:endCxn id="199" idx="6"/>
          </p:cNvCxnSpPr>
          <p:nvPr/>
        </p:nvCxnSpPr>
        <p:spPr>
          <a:xfrm flipV="1">
            <a:off x="6347880" y="2133360"/>
            <a:ext cx="2520" cy="1945440"/>
          </a:xfrm>
          <a:prstGeom prst="curvedConnector5">
            <a:avLst>
              <a:gd name="adj1" fmla="val 99400000"/>
              <a:gd name="adj2" fmla="val 49990"/>
              <a:gd name="adj3" fmla="val 994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ystem.cpp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69228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1200" y="1125360"/>
            <a:ext cx="78616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arg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ignal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hared/soclib_mapping_table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hared/soclib_vci_interfaces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oclib_vci_simpleram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oclib_vci_iss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CELLSIZE        4       // Data are 4 cells(=8bits) wide=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ERRSIZE         1       // Error size is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PLENSIZE        1      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CLENSIZE        1      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TRDIDSIZE       1       // TRDID un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PKTIDSIZE       1       // PKTID unused t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ADDRSIZE    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SRCIDSIZE   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ystem.cpp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4080" y="1022400"/>
            <a:ext cx="594144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c_main (int argc, char *argv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lock signal_clk ("signal_clk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 &lt; bool &gt; signal_resetn ("signal_reset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SIGNALS &lt;VCI_PARAM&gt; link ("link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ISS &lt; VCI_PARAM &gt; i0 ("i0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SIMPLERAM &lt; VCI_PARAM &gt; t0 ("t0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CLK(signal_cl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RESETN(signal_reset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VCI_INITIATOR(li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CLK(signal_cl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RESETN(signal_reset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VCI_TARGET(li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sc_core::sc_time(0, SC_N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ignal_resetn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sc_core::sc_time(1, SC_N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ignal_resetn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turn EXIT_SUCC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280" y="1557360"/>
            <a:ext cx="8893440" cy="107964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8000" y="2708280"/>
            <a:ext cx="8928000" cy="576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5280" y="3429000"/>
            <a:ext cx="8893440" cy="151272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32320" y="220500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laration des sig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31960" y="285264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laration des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86880" y="450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8000" y="5013360"/>
            <a:ext cx="8928000" cy="1368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03960" y="573408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 et lancemen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ux réseaux disjoints, le réseau des requêtes (command) et le réseau des réponses (res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0360" y="3141720"/>
            <a:ext cx="288144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236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9308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1964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74920" y="3141720"/>
            <a:ext cx="194472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4221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5420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21964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580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6200" y="4581360"/>
            <a:ext cx="8893440" cy="1584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6200" y="2852640"/>
            <a:ext cx="8893440" cy="1584360"/>
          </a:xfrm>
          <a:prstGeom prst="rect">
            <a:avLst/>
          </a:prstGeom>
          <a:solidFill>
            <a:srgbClr val="ff33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53800" y="2781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82880" y="5805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1 initiateur, 1 Interconnect, 2 c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ilink2 et vcilink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84720" y="3141720"/>
            <a:ext cx="2881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21800" y="5877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4000" y="5013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364000" y="551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4797360"/>
            <a:ext cx="28814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64000" y="34434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364000" y="39466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21800" y="4221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2 initiateurs, 1 Interconnect, 1 c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3141720"/>
            <a:ext cx="2232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84720" y="3141720"/>
            <a:ext cx="28814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8000" y="5877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00360" y="3429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698920" y="3932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0160" y="5877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64000" y="429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64000" y="479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50160" y="5950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4797360"/>
            <a:ext cx="22320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5084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698920" y="55879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1080" y="4221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age des comm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84720" y="3141720"/>
            <a:ext cx="2881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de de re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21800" y="5877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64000" y="5013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364000" y="551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84720" y="4797360"/>
            <a:ext cx="28814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de de l’appl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64000" y="34434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364000" y="39466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21800" y="4221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8680" y="1268280"/>
            <a:ext cx="55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certains bits du champ VCI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32920" y="2133360"/>
            <a:ext cx="8675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reset 0x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00000  =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1011 1111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1100 0000 0000 0000 0000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ext  0x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04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00000  =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0000 0100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1100 0000 0000 0000 0000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8680" y="17002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8 bits dans cet 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age des ré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8360" y="3141720"/>
            <a:ext cx="2232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84720" y="3141720"/>
            <a:ext cx="28814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8000" y="5877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00360" y="3429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698920" y="3932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50160" y="5877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64000" y="429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364000" y="479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50160" y="5950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4797360"/>
            <a:ext cx="22320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00360" y="5084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698920" y="55879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8000" y="4221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8320" y="119700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les bits du champ VCI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R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3200" y="1700280"/>
            <a:ext cx="72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que initiateur dispose d’un identifiant unique qu’il envoie 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 commande. La cible et l’interconnect des réponses gère ce SR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savent ainsi à quel initiateur communiquer la réponse (SRCID jo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rôle d’adresse pour les répon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 de segment mém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segme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ans SocLib c’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nom (chaîne de caractères), ex. « 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se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adresse de base (sur 32 bits)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0xBFC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taille (en octets)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0x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index VCI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attributs de cachabilité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UNC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ensemble des segments forme la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table des segmen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ou mapping table (table de correspondance des adresses, des cibles VCI et des bancs mémo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692360" y="2924280"/>
            <a:ext cx="698508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/OCP 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8436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692360" y="3716280"/>
            <a:ext cx="1584360" cy="1513080"/>
            <a:chOff x="1692360" y="3716280"/>
            <a:chExt cx="1584360" cy="1513080"/>
          </a:xfrm>
        </p:grpSpPr>
        <p:sp>
          <p:nvSpPr>
            <p:cNvPr id="311" name=""/>
            <p:cNvSpPr/>
            <p:nvPr/>
          </p:nvSpPr>
          <p:spPr>
            <a:xfrm>
              <a:off x="248436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92360" y="4365720"/>
              <a:ext cx="1584360" cy="863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492360" y="3716280"/>
            <a:ext cx="1584360" cy="2378160"/>
            <a:chOff x="3492360" y="3716280"/>
            <a:chExt cx="1584360" cy="2378160"/>
          </a:xfrm>
        </p:grpSpPr>
        <p:sp>
          <p:nvSpPr>
            <p:cNvPr id="314" name=""/>
            <p:cNvSpPr/>
            <p:nvPr/>
          </p:nvSpPr>
          <p:spPr>
            <a:xfrm>
              <a:off x="3492360" y="4365720"/>
              <a:ext cx="1584360" cy="1728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8472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330200" y="765000"/>
            <a:ext cx="505080" cy="3743640"/>
            <a:chOff x="1330200" y="765000"/>
            <a:chExt cx="505080" cy="3743640"/>
          </a:xfrm>
        </p:grpSpPr>
        <p:sp>
          <p:nvSpPr>
            <p:cNvPr id="317" name=""/>
            <p:cNvSpPr/>
            <p:nvPr/>
          </p:nvSpPr>
          <p:spPr>
            <a:xfrm>
              <a:off x="183528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332000" y="765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30200" y="765000"/>
              <a:ext cx="1800" cy="37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33164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258560" y="692280"/>
            <a:ext cx="2376720" cy="3889080"/>
            <a:chOff x="1258560" y="692280"/>
            <a:chExt cx="2376720" cy="3889080"/>
          </a:xfrm>
        </p:grpSpPr>
        <p:sp>
          <p:nvSpPr>
            <p:cNvPr id="322" name=""/>
            <p:cNvSpPr/>
            <p:nvPr/>
          </p:nvSpPr>
          <p:spPr>
            <a:xfrm>
              <a:off x="3635280" y="692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58560" y="692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58920" y="692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258920" y="4581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186920" y="620640"/>
            <a:ext cx="4248720" cy="4032360"/>
            <a:chOff x="1186920" y="620640"/>
            <a:chExt cx="4248720" cy="4032360"/>
          </a:xfrm>
        </p:grpSpPr>
        <p:sp>
          <p:nvSpPr>
            <p:cNvPr id="327" name=""/>
            <p:cNvSpPr/>
            <p:nvPr/>
          </p:nvSpPr>
          <p:spPr>
            <a:xfrm>
              <a:off x="5435640" y="62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186920" y="62064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87280" y="62064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18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115640" y="549360"/>
            <a:ext cx="6120360" cy="4174920"/>
            <a:chOff x="1115640" y="549360"/>
            <a:chExt cx="6120360" cy="4174920"/>
          </a:xfrm>
        </p:grpSpPr>
        <p:sp>
          <p:nvSpPr>
            <p:cNvPr id="332" name=""/>
            <p:cNvSpPr/>
            <p:nvPr/>
          </p:nvSpPr>
          <p:spPr>
            <a:xfrm>
              <a:off x="7236000" y="549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116000" y="549360"/>
              <a:ext cx="61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16000" y="549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115640" y="47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28472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8508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292720" y="3716280"/>
            <a:ext cx="3497400" cy="2610000"/>
            <a:chOff x="5292720" y="3716280"/>
            <a:chExt cx="3497400" cy="2610000"/>
          </a:xfrm>
        </p:grpSpPr>
        <p:sp>
          <p:nvSpPr>
            <p:cNvPr id="340" name=""/>
            <p:cNvSpPr/>
            <p:nvPr/>
          </p:nvSpPr>
          <p:spPr>
            <a:xfrm>
              <a:off x="702000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92720" y="4365720"/>
              <a:ext cx="3382920" cy="863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5"/>
            <a:stretch/>
          </p:blipFill>
          <p:spPr>
            <a:xfrm>
              <a:off x="529272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15636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7"/>
            <a:stretch/>
          </p:blipFill>
          <p:spPr>
            <a:xfrm>
              <a:off x="7093080" y="5516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8"/>
            <a:stretch/>
          </p:blipFill>
          <p:spPr>
            <a:xfrm>
              <a:off x="802800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6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1672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4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1708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564000" y="443700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19640" y="1052640"/>
            <a:ext cx="158400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4836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7708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n VCI, comm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7236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187020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00360" y="215892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2446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16840" y="1628640"/>
            <a:ext cx="22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VAL command valid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15400" y="1916280"/>
            <a:ext cx="214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ACK command ack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16480" y="220500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 (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733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16120" y="2492280"/>
            <a:ext cx="213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DATA write data (32=8*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3022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6480" y="278136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E byte enable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3309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16480" y="306864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 vci command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3670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18280" y="342900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G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3959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17920" y="37180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4246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6840" y="4005360"/>
            <a:ext cx="175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OP end of packet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4533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16840" y="4292640"/>
            <a:ext cx="248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LEN packet length in bytes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5038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17200" y="4797360"/>
            <a:ext cx="216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RCID source ident (S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5326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19360" y="5084640"/>
            <a:ext cx="21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RDID thread ident (T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561492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17200" y="5373720"/>
            <a:ext cx="213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KTID packet ident (P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72360" y="1700280"/>
            <a:ext cx="21564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1700280"/>
            <a:ext cx="21600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4284720" y="3284640"/>
            <a:ext cx="3497040" cy="2609640"/>
            <a:chOff x="4284720" y="3284640"/>
            <a:chExt cx="3497040" cy="2609640"/>
          </a:xfrm>
        </p:grpSpPr>
        <p:sp>
          <p:nvSpPr>
            <p:cNvPr id="355" name=""/>
            <p:cNvSpPr/>
            <p:nvPr/>
          </p:nvSpPr>
          <p:spPr>
            <a:xfrm>
              <a:off x="601200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84720" y="3933720"/>
              <a:ext cx="3382920" cy="863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2"/>
            <a:stretch/>
          </p:blipFill>
          <p:spPr>
            <a:xfrm>
              <a:off x="42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3"/>
            <a:stretch/>
          </p:blipFill>
          <p:spPr>
            <a:xfrm>
              <a:off x="514836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4"/>
            <a:stretch/>
          </p:blipFill>
          <p:spPr>
            <a:xfrm>
              <a:off x="60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5"/>
            <a:stretch/>
          </p:blipFill>
          <p:spPr>
            <a:xfrm>
              <a:off x="702000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464328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436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51640" y="4581360"/>
              <a:ext cx="21600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84360" y="3284640"/>
            <a:ext cx="1726920" cy="1512720"/>
            <a:chOff x="684360" y="3284640"/>
            <a:chExt cx="1726920" cy="1512720"/>
          </a:xfrm>
        </p:grpSpPr>
        <p:sp>
          <p:nvSpPr>
            <p:cNvPr id="367" name=""/>
            <p:cNvSpPr/>
            <p:nvPr/>
          </p:nvSpPr>
          <p:spPr>
            <a:xfrm>
              <a:off x="147636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4360" y="3933720"/>
              <a:ext cx="1726920" cy="863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95640" y="4581360"/>
              <a:ext cx="21564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484360" y="3284640"/>
            <a:ext cx="1727280" cy="3384360"/>
            <a:chOff x="2484360" y="3284640"/>
            <a:chExt cx="1727280" cy="3384360"/>
          </a:xfrm>
        </p:grpSpPr>
        <p:sp>
          <p:nvSpPr>
            <p:cNvPr id="374" name=""/>
            <p:cNvSpPr/>
            <p:nvPr/>
          </p:nvSpPr>
          <p:spPr>
            <a:xfrm>
              <a:off x="2484360" y="3933720"/>
              <a:ext cx="1727280" cy="27352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7672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377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382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387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392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397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400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403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406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409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412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codage d’adresses et masque de cachabi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F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11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1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r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y 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sk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0x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  = 0000 0000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3060720" y="328428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3924360" y="3644640"/>
            <a:ext cx="215640" cy="216000"/>
          </a:xfrm>
          <a:custGeom>
            <a:avLst/>
            <a:gdLst>
              <a:gd name="textAreaLeft" fmla="*/ 0 w 215640"/>
              <a:gd name="textAreaRight" fmla="*/ 77760 w 21564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30880" y="3933720"/>
            <a:ext cx="11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54520" y="39337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cach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451640" y="1916280"/>
            <a:ext cx="115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7852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451640" y="2492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78520" y="2492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451640" y="1700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878520" y="1700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451640" y="321300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exc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78520" y="321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51640" y="414972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878520" y="4149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451640" y="479736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78520" y="4797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451640" y="1125360"/>
            <a:ext cx="115272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78520" y="1125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51640" y="1125360"/>
            <a:ext cx="1441440" cy="57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451640" y="2133720"/>
            <a:ext cx="1441440" cy="35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451640" y="2708280"/>
            <a:ext cx="144144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451640" y="3429000"/>
            <a:ext cx="144144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451640" y="4365720"/>
            <a:ext cx="1441440" cy="43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40360" y="5157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tform address spac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604360" y="1700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04360" y="1916280"/>
            <a:ext cx="28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604360" y="321300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604360" y="414972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604360" y="479736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604360" y="2492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11280" y="1628640"/>
            <a:ext cx="799308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8728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924360" y="162864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7636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042920" y="692280"/>
            <a:ext cx="246240" cy="936360"/>
            <a:chOff x="1042920" y="692280"/>
            <a:chExt cx="246240" cy="936360"/>
          </a:xfrm>
        </p:grpSpPr>
        <p:sp>
          <p:nvSpPr>
            <p:cNvPr id="473" name=""/>
            <p:cNvSpPr/>
            <p:nvPr/>
          </p:nvSpPr>
          <p:spPr>
            <a:xfrm>
              <a:off x="12589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6200000">
              <a:off x="87516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1258920" y="5084280"/>
            <a:ext cx="1150920" cy="360720"/>
            <a:chOff x="1258920" y="5084280"/>
            <a:chExt cx="1150920" cy="360720"/>
          </a:xfrm>
        </p:grpSpPr>
        <p:sp>
          <p:nvSpPr>
            <p:cNvPr id="476" name=""/>
            <p:cNvSpPr/>
            <p:nvPr/>
          </p:nvSpPr>
          <p:spPr>
            <a:xfrm>
              <a:off x="1258920" y="5084640"/>
              <a:ext cx="1150920" cy="360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58920" y="5084640"/>
              <a:ext cx="5745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833480" y="5084280"/>
              <a:ext cx="576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1474560" y="1666800"/>
            <a:ext cx="1800" cy="3417840"/>
            <a:chOff x="1474560" y="1666800"/>
            <a:chExt cx="1800" cy="3417840"/>
          </a:xfrm>
        </p:grpSpPr>
        <p:sp>
          <p:nvSpPr>
            <p:cNvPr id="480" name=""/>
            <p:cNvSpPr/>
            <p:nvPr/>
          </p:nvSpPr>
          <p:spPr>
            <a:xfrm>
              <a:off x="147492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1" name=""/>
            <p:cNvCxnSpPr>
              <a:stCxn id="471" idx="0"/>
              <a:endCxn id="480" idx="0"/>
            </p:cNvCxnSpPr>
            <p:nvPr/>
          </p:nvCxnSpPr>
          <p:spPr>
            <a:xfrm rot="5400000">
              <a:off x="-34920" y="3175920"/>
              <a:ext cx="3020400" cy="2160"/>
            </a:xfrm>
            <a:prstGeom prst="curvedConnector5">
              <a:avLst>
                <a:gd name="adj1" fmla="val 49994"/>
                <a:gd name="adj2" fmla="val 40000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grpSp>
        <p:nvGrpSpPr>
          <p:cNvPr id="482" name=""/>
          <p:cNvGrpSpPr/>
          <p:nvPr/>
        </p:nvGrpSpPr>
        <p:grpSpPr>
          <a:xfrm>
            <a:off x="2556000" y="5086440"/>
            <a:ext cx="1438200" cy="576000"/>
            <a:chOff x="2556000" y="5086440"/>
            <a:chExt cx="1438200" cy="576000"/>
          </a:xfrm>
        </p:grpSpPr>
        <p:sp>
          <p:nvSpPr>
            <p:cNvPr id="483" name=""/>
            <p:cNvSpPr/>
            <p:nvPr/>
          </p:nvSpPr>
          <p:spPr>
            <a:xfrm>
              <a:off x="3201840" y="5086440"/>
              <a:ext cx="79236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01840" y="5373720"/>
              <a:ext cx="792360" cy="28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00360" y="50864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56000" y="537372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loc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435600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922560" y="692280"/>
            <a:ext cx="246240" cy="936360"/>
            <a:chOff x="3922560" y="692280"/>
            <a:chExt cx="246240" cy="936360"/>
          </a:xfrm>
        </p:grpSpPr>
        <p:sp>
          <p:nvSpPr>
            <p:cNvPr id="489" name=""/>
            <p:cNvSpPr/>
            <p:nvPr/>
          </p:nvSpPr>
          <p:spPr>
            <a:xfrm>
              <a:off x="41385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6200000">
              <a:off x="375480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730872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6875640" y="692280"/>
            <a:ext cx="246240" cy="936360"/>
            <a:chOff x="6875640" y="692280"/>
            <a:chExt cx="246240" cy="936360"/>
          </a:xfrm>
        </p:grpSpPr>
        <p:sp>
          <p:nvSpPr>
            <p:cNvPr id="493" name=""/>
            <p:cNvSpPr/>
            <p:nvPr/>
          </p:nvSpPr>
          <p:spPr>
            <a:xfrm>
              <a:off x="709128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6200000">
              <a:off x="670788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694836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89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832760" y="1666800"/>
            <a:ext cx="2522880" cy="3417840"/>
            <a:chOff x="1832760" y="1666800"/>
            <a:chExt cx="2522880" cy="3417840"/>
          </a:xfrm>
        </p:grpSpPr>
        <p:sp>
          <p:nvSpPr>
            <p:cNvPr id="499" name=""/>
            <p:cNvSpPr/>
            <p:nvPr/>
          </p:nvSpPr>
          <p:spPr>
            <a:xfrm>
              <a:off x="183348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0" name=""/>
            <p:cNvCxnSpPr>
              <a:stCxn id="487" idx="0"/>
              <a:endCxn id="499" idx="0"/>
            </p:cNvCxnSpPr>
            <p:nvPr/>
          </p:nvCxnSpPr>
          <p:spPr>
            <a:xfrm rot="5400000">
              <a:off x="1584000" y="1915200"/>
              <a:ext cx="3020400" cy="252324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grpSp>
        <p:nvGrpSpPr>
          <p:cNvPr id="501" name=""/>
          <p:cNvGrpSpPr/>
          <p:nvPr/>
        </p:nvGrpSpPr>
        <p:grpSpPr>
          <a:xfrm>
            <a:off x="2193480" y="1666800"/>
            <a:ext cx="5115240" cy="3417840"/>
            <a:chOff x="2193480" y="1666800"/>
            <a:chExt cx="5115240" cy="3417840"/>
          </a:xfrm>
        </p:grpSpPr>
        <p:sp>
          <p:nvSpPr>
            <p:cNvPr id="502" name=""/>
            <p:cNvSpPr/>
            <p:nvPr/>
          </p:nvSpPr>
          <p:spPr>
            <a:xfrm>
              <a:off x="219384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1" idx="0"/>
              <a:endCxn id="502" idx="0"/>
            </p:cNvCxnSpPr>
            <p:nvPr/>
          </p:nvCxnSpPr>
          <p:spPr>
            <a:xfrm rot="5400000">
              <a:off x="3240720" y="619200"/>
              <a:ext cx="3020400" cy="5115600"/>
            </a:xfrm>
            <a:prstGeom prst="curvedConnector5">
              <a:avLst>
                <a:gd name="adj1" fmla="val 49994"/>
                <a:gd name="adj2" fmla="val 49996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sp>
        <p:nvSpPr>
          <p:cNvPr id="504" name=""/>
          <p:cNvSpPr/>
          <p:nvPr/>
        </p:nvSpPr>
        <p:spPr>
          <a:xfrm>
            <a:off x="1835280" y="5805360"/>
            <a:ext cx="0" cy="71928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257840" y="1628280"/>
            <a:ext cx="1874160" cy="2521440"/>
            <a:chOff x="1257840" y="1628280"/>
            <a:chExt cx="1874160" cy="2521440"/>
          </a:xfrm>
        </p:grpSpPr>
        <p:sp>
          <p:nvSpPr>
            <p:cNvPr id="506" name=""/>
            <p:cNvSpPr/>
            <p:nvPr/>
          </p:nvSpPr>
          <p:spPr>
            <a:xfrm>
              <a:off x="313200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7" name=""/>
            <p:cNvCxnSpPr>
              <a:stCxn id="473" idx="0"/>
              <a:endCxn id="506" idx="0"/>
            </p:cNvCxnSpPr>
            <p:nvPr/>
          </p:nvCxnSpPr>
          <p:spPr>
            <a:xfrm flipH="1" rot="16200000">
              <a:off x="1042200" y="1843920"/>
              <a:ext cx="2305440" cy="1873800"/>
            </a:xfrm>
            <a:prstGeom prst="curvedConnector5">
              <a:avLst>
                <a:gd name="adj1" fmla="val 58269"/>
                <a:gd name="adj2" fmla="val 50000"/>
                <a:gd name="adj3" fmla="val 58269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08" name=""/>
          <p:cNvGrpSpPr/>
          <p:nvPr/>
        </p:nvGrpSpPr>
        <p:grpSpPr>
          <a:xfrm>
            <a:off x="3491640" y="1628640"/>
            <a:ext cx="646560" cy="2519640"/>
            <a:chOff x="3491640" y="1628640"/>
            <a:chExt cx="646560" cy="2519640"/>
          </a:xfrm>
        </p:grpSpPr>
        <p:sp>
          <p:nvSpPr>
            <p:cNvPr id="509" name=""/>
            <p:cNvSpPr/>
            <p:nvPr/>
          </p:nvSpPr>
          <p:spPr>
            <a:xfrm>
              <a:off x="3492360" y="3860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0" name=""/>
            <p:cNvCxnSpPr>
              <a:stCxn id="489" idx="0"/>
              <a:endCxn id="509" idx="0"/>
            </p:cNvCxnSpPr>
            <p:nvPr/>
          </p:nvCxnSpPr>
          <p:spPr>
            <a:xfrm rot="5400000">
              <a:off x="2698560" y="2421360"/>
              <a:ext cx="2232720" cy="64692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1" name=""/>
          <p:cNvGrpSpPr/>
          <p:nvPr/>
        </p:nvGrpSpPr>
        <p:grpSpPr>
          <a:xfrm>
            <a:off x="3850920" y="1628280"/>
            <a:ext cx="3240360" cy="2521440"/>
            <a:chOff x="3850920" y="1628280"/>
            <a:chExt cx="3240360" cy="2521440"/>
          </a:xfrm>
        </p:grpSpPr>
        <p:sp>
          <p:nvSpPr>
            <p:cNvPr id="512" name=""/>
            <p:cNvSpPr/>
            <p:nvPr/>
          </p:nvSpPr>
          <p:spPr>
            <a:xfrm>
              <a:off x="385128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3" name=""/>
            <p:cNvCxnSpPr>
              <a:stCxn id="493" idx="0"/>
              <a:endCxn id="512" idx="0"/>
            </p:cNvCxnSpPr>
            <p:nvPr/>
          </p:nvCxnSpPr>
          <p:spPr>
            <a:xfrm rot="5400000">
              <a:off x="4318200" y="1160640"/>
              <a:ext cx="2305440" cy="3240720"/>
            </a:xfrm>
            <a:prstGeom prst="curvedConnector5">
              <a:avLst>
                <a:gd name="adj1" fmla="val 49992"/>
                <a:gd name="adj2" fmla="val 49994"/>
                <a:gd name="adj3" fmla="val 4999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4" name=""/>
          <p:cNvGrpSpPr/>
          <p:nvPr/>
        </p:nvGrpSpPr>
        <p:grpSpPr>
          <a:xfrm>
            <a:off x="3132000" y="5734080"/>
            <a:ext cx="246240" cy="719280"/>
            <a:chOff x="3132000" y="5734080"/>
            <a:chExt cx="246240" cy="719280"/>
          </a:xfrm>
        </p:grpSpPr>
        <p:sp>
          <p:nvSpPr>
            <p:cNvPr id="515" name=""/>
            <p:cNvSpPr/>
            <p:nvPr/>
          </p:nvSpPr>
          <p:spPr>
            <a:xfrm>
              <a:off x="3348000" y="57340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2964240" y="597528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476360" y="692280"/>
            <a:ext cx="246240" cy="936360"/>
            <a:chOff x="1476360" y="692280"/>
            <a:chExt cx="246240" cy="936360"/>
          </a:xfrm>
        </p:grpSpPr>
        <p:sp>
          <p:nvSpPr>
            <p:cNvPr id="518" name=""/>
            <p:cNvSpPr/>
            <p:nvPr/>
          </p:nvSpPr>
          <p:spPr>
            <a:xfrm>
              <a:off x="16923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6200000">
              <a:off x="140400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56000" y="692280"/>
            <a:ext cx="246240" cy="936360"/>
            <a:chOff x="4356000" y="692280"/>
            <a:chExt cx="246240" cy="936360"/>
          </a:xfrm>
        </p:grpSpPr>
        <p:sp>
          <p:nvSpPr>
            <p:cNvPr id="521" name=""/>
            <p:cNvSpPr/>
            <p:nvPr/>
          </p:nvSpPr>
          <p:spPr>
            <a:xfrm>
              <a:off x="457200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6200000">
              <a:off x="428364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7308720" y="692280"/>
            <a:ext cx="398520" cy="936360"/>
            <a:chOff x="7308720" y="692280"/>
            <a:chExt cx="398520" cy="936360"/>
          </a:xfrm>
        </p:grpSpPr>
        <p:sp>
          <p:nvSpPr>
            <p:cNvPr id="524" name=""/>
            <p:cNvSpPr/>
            <p:nvPr/>
          </p:nvSpPr>
          <p:spPr>
            <a:xfrm>
              <a:off x="75247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6200000">
              <a:off x="7312320" y="978480"/>
              <a:ext cx="390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691280" y="1628640"/>
            <a:ext cx="1585440" cy="2521080"/>
            <a:chOff x="1691280" y="1628640"/>
            <a:chExt cx="1585440" cy="2521080"/>
          </a:xfrm>
        </p:grpSpPr>
        <p:sp>
          <p:nvSpPr>
            <p:cNvPr id="527" name=""/>
            <p:cNvSpPr/>
            <p:nvPr/>
          </p:nvSpPr>
          <p:spPr>
            <a:xfrm>
              <a:off x="327672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8" name=""/>
            <p:cNvCxnSpPr>
              <a:stCxn id="518" idx="0"/>
              <a:endCxn id="527" idx="0"/>
            </p:cNvCxnSpPr>
            <p:nvPr/>
          </p:nvCxnSpPr>
          <p:spPr>
            <a:xfrm flipH="1" rot="16200000">
              <a:off x="1295280" y="2024640"/>
              <a:ext cx="2377440" cy="158508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29" name=""/>
          <p:cNvGrpSpPr/>
          <p:nvPr/>
        </p:nvGrpSpPr>
        <p:grpSpPr>
          <a:xfrm>
            <a:off x="3634920" y="1628640"/>
            <a:ext cx="937080" cy="2521080"/>
            <a:chOff x="3634920" y="1628640"/>
            <a:chExt cx="937080" cy="2521080"/>
          </a:xfrm>
        </p:grpSpPr>
        <p:sp>
          <p:nvSpPr>
            <p:cNvPr id="530" name=""/>
            <p:cNvSpPr/>
            <p:nvPr/>
          </p:nvSpPr>
          <p:spPr>
            <a:xfrm>
              <a:off x="363528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1" name=""/>
            <p:cNvCxnSpPr>
              <a:stCxn id="521" idx="0"/>
              <a:endCxn id="530" idx="0"/>
            </p:cNvCxnSpPr>
            <p:nvPr/>
          </p:nvCxnSpPr>
          <p:spPr>
            <a:xfrm rot="5400000">
              <a:off x="2914560" y="2348640"/>
              <a:ext cx="2377440" cy="937440"/>
            </a:xfrm>
            <a:prstGeom prst="curvedConnector5">
              <a:avLst>
                <a:gd name="adj1" fmla="val 49962"/>
                <a:gd name="adj2" fmla="val 4998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32" name=""/>
          <p:cNvGrpSpPr/>
          <p:nvPr/>
        </p:nvGrpSpPr>
        <p:grpSpPr>
          <a:xfrm>
            <a:off x="3994920" y="1628640"/>
            <a:ext cx="3529440" cy="2521080"/>
            <a:chOff x="3994920" y="1628640"/>
            <a:chExt cx="3529440" cy="2521080"/>
          </a:xfrm>
        </p:grpSpPr>
        <p:sp>
          <p:nvSpPr>
            <p:cNvPr id="533" name=""/>
            <p:cNvSpPr/>
            <p:nvPr/>
          </p:nvSpPr>
          <p:spPr>
            <a:xfrm>
              <a:off x="399564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24" idx="0"/>
              <a:endCxn id="533" idx="0"/>
            </p:cNvCxnSpPr>
            <p:nvPr/>
          </p:nvCxnSpPr>
          <p:spPr>
            <a:xfrm rot="5400000">
              <a:off x="4570920" y="1052280"/>
              <a:ext cx="2377440" cy="352980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35" name=""/>
          <p:cNvGrpSpPr/>
          <p:nvPr/>
        </p:nvGrpSpPr>
        <p:grpSpPr>
          <a:xfrm>
            <a:off x="2411280" y="4149720"/>
            <a:ext cx="1729080" cy="1584360"/>
            <a:chOff x="2411280" y="4149720"/>
            <a:chExt cx="1729080" cy="1584360"/>
          </a:xfrm>
        </p:grpSpPr>
        <p:grpSp>
          <p:nvGrpSpPr>
            <p:cNvPr id="536" name=""/>
            <p:cNvGrpSpPr/>
            <p:nvPr/>
          </p:nvGrpSpPr>
          <p:grpSpPr>
            <a:xfrm>
              <a:off x="3276720" y="4196880"/>
              <a:ext cx="792000" cy="744840"/>
              <a:chOff x="3276720" y="4196880"/>
              <a:chExt cx="792000" cy="744840"/>
            </a:xfrm>
          </p:grpSpPr>
          <p:sp>
            <p:nvSpPr>
              <p:cNvPr id="537" name=""/>
              <p:cNvSpPr/>
              <p:nvPr/>
            </p:nvSpPr>
            <p:spPr>
              <a:xfrm>
                <a:off x="327672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492360" y="4653000"/>
                <a:ext cx="2890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78144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0" name=""/>
              <p:cNvCxnSpPr>
                <a:stCxn id="537" idx="7"/>
                <a:endCxn id="539" idx="1"/>
              </p:cNvCxnSpPr>
              <p:nvPr/>
            </p:nvCxnSpPr>
            <p:spPr>
              <a:xfrm flipH="1" rot="16200000">
                <a:off x="3672000" y="4184280"/>
                <a:ext cx="2160" cy="303840"/>
              </a:xfrm>
              <a:prstGeom prst="curvedConnector5">
                <a:avLst>
                  <a:gd name="adj1" fmla="val -7700000"/>
                  <a:gd name="adj2" fmla="val 49940"/>
                  <a:gd name="adj3" fmla="val -77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41" name=""/>
              <p:cNvCxnSpPr>
                <a:stCxn id="539" idx="4"/>
                <a:endCxn id="538" idx="6"/>
              </p:cNvCxnSpPr>
              <p:nvPr/>
            </p:nvCxnSpPr>
            <p:spPr>
              <a:xfrm rot="5400000">
                <a:off x="3744720" y="4617360"/>
                <a:ext cx="216720" cy="144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42" name=""/>
              <p:cNvCxnSpPr>
                <a:stCxn id="538" idx="2"/>
                <a:endCxn id="537" idx="4"/>
              </p:cNvCxnSpPr>
              <p:nvPr/>
            </p:nvCxnSpPr>
            <p:spPr>
              <a:xfrm rot="10800000">
                <a:off x="3420360" y="4580640"/>
                <a:ext cx="72000" cy="216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543" name=""/>
            <p:cNvSpPr/>
            <p:nvPr/>
          </p:nvSpPr>
          <p:spPr>
            <a:xfrm>
              <a:off x="2627280" y="4149720"/>
              <a:ext cx="151308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2411280" y="530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34120" y="4149720"/>
              <a:ext cx="694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M(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" y="981000"/>
            <a:ext cx="892872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emplate&lt;int NB_IN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NB_TARG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PARAM_DECLA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truct SOCLIB_VCI_LOCAL_CROSSBAR_SIMPLE : sc_modul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onst char *NAME; // instanc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GLOBAL_ROUTING_T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LOCAL_ROUTING_T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GLOBAL_ADDR_OFFSET, GLOBAL_ADDR_MASK, GLOBAL_ADD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LOCAL_ADDR_OFFSET, LOCAL_ADDR_MAS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GLOBAL_ID_OFFSET, GLOBAL_ID_MASK, GLOBAL_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LOCAL_ID_OFFSET, LOCAL_ID_MAS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GLOBAL_ADDR_OF(x) (((x)&gt;&gt;GLOBAL_ADDR_OFFSET)&amp;GLOBAL_ADDR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LOCAL_ADDR_OF(x) (((x)&gt;&gt;LOCAL_ADDR_OFFSET)&amp;LOCAL_ADDR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GLOBAL_ID_OF(x) (((x)&gt;&gt;GLOBAL_ID_OFFSET)&amp;GLOBAL_ID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LOCAL_ID_OF(x) (((x)&gt;&gt;LOCAL_ID_OFFSET)&amp;LOCAL_ID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TARGET&lt;VCI_PARAM&gt; TLOC_VCI[NB_INI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INITIATOR&lt;VCI_PARAM&gt; ILOC_VCI[NB_TARGE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T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TLOC_ALLOCATED[NB_INIT]; // state of the local target por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int&gt;  TLOC_INDEX[NB_INIT]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I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ILOC_ALLOCATED[NB_TARGET]; // state of the local initiator 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int&gt;  ILOC_INDEX[NB_TARGE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25280" y="3716280"/>
            <a:ext cx="8893440" cy="100800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5280" y="4797360"/>
            <a:ext cx="8893440" cy="576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25280" y="5445000"/>
            <a:ext cx="8893440" cy="141300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oclib_vci_local_crossbar_simple.h (2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3880" y="1932120"/>
            <a:ext cx="7572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LOCAL_CROSSBAR_SIMPLE (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_name insna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index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MAPPING_TABLE mapping_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_pos &lt;&l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genMeal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_neg &lt;&l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 (int i = 0 ; i &lt; NB_TARGE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CMDACK &lt;&lt; ILOC_VCI[i].RSPV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DATA &lt;&lt; ILOC_VCI[i].R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ERROR &lt;&lt; ILOC_VCI[i].RTRD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PKTID &lt;&lt; ILOC_VCI[i].RSRC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 (int i = 0 ; i &lt; NB_INI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RSPA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CMDV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SRC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69200" y="1042920"/>
            <a:ext cx="83948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oop on the I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(int i = 0 ; i &lt; NB_TARGE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ILOC_ALLOCATED[i] == false) { // local initiator port not alloc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(int t = 0 ; t &lt; NB_INIT ; t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u = (t + ILOC_INDEX[i] + 1) % NB_INI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TLOC_VCI[u].CMDVAL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unsigned int address = TLOC_VCI[u].ADDRESS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index = ROUTING_TABLE[LOCAL_ADDR_OF(address)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index == i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LOC_ALLOCATED[i]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LOC_INDEX[i] = 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// end for 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ocal initiator port alloc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(TLOC_VCI[ILOC_INDEX[i]].CMDVAL == true)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(ILOC_VCI[i].CMDACK == true) &amp;&amp;(TLOC_VCI[ILOC_INDEX[i]].EOP == true)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 ILOC_ALLOCATED[i] = false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// end for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0"/>
            <a:ext cx="9144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25280" y="1916280"/>
            <a:ext cx="8893440" cy="43308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085800" y="198900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RIORITE TOUR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120" y="0"/>
            <a:ext cx="920268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void genMeal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//  VCI local target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for (int i=0 ; i&lt;NB_INIT 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f (TLOC_ALLOCATED[i] == true) { // 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nt k = TLOC_INDEX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PVAL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SPVAL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RROR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ERROR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OP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EOP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TRD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TRD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PKT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PKT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RC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SRC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DAT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DATA.rea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 else { // not 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PVAL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RROR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OP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TRD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PKT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RC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DAT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//end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clusion sur « old » 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mot de commande envoyé, un mot de réponse reçu, sous-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aucoup de code identique, pas de facto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211640" y="2313000"/>
            <a:ext cx="4537080" cy="2232000"/>
            <a:chOff x="4211640" y="2313000"/>
            <a:chExt cx="4537080" cy="2232000"/>
          </a:xfrm>
        </p:grpSpPr>
        <p:sp>
          <p:nvSpPr>
            <p:cNvPr id="562" name=""/>
            <p:cNvSpPr/>
            <p:nvPr/>
          </p:nvSpPr>
          <p:spPr>
            <a:xfrm>
              <a:off x="4211640" y="2313000"/>
              <a:ext cx="1050840" cy="22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97880" y="2313000"/>
              <a:ext cx="1050840" cy="22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62480" y="2462040"/>
              <a:ext cx="2435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5262120" y="2599920"/>
              <a:ext cx="2435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62480" y="27367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806080" y="2372040"/>
              <a:ext cx="186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VAL command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806800" y="2509560"/>
              <a:ext cx="181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ACK command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06800" y="264744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DRESS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62480" y="28738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806800" y="2784600"/>
              <a:ext cx="180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WDATA write data (32=8*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62480" y="301176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05000" y="292248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E byte enable 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62480" y="314856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806080" y="3058560"/>
              <a:ext cx="150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 vci command 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62480" y="332064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05000" y="323064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IG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62480" y="34585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05360" y="336816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62480" y="35953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04640" y="3505320"/>
              <a:ext cx="14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OP end of packet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62480" y="37324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05000" y="3643200"/>
              <a:ext cx="209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LEN packet length in bytes (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62480" y="39733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06080" y="3883320"/>
              <a:ext cx="182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RCID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62480" y="41104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05720" y="4020840"/>
              <a:ext cx="178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RDID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62480" y="424800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05360" y="4158720"/>
              <a:ext cx="179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KTID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97880" y="2381040"/>
              <a:ext cx="142920" cy="20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19200" y="2381040"/>
              <a:ext cx="142920" cy="20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067280" y="4653000"/>
            <a:ext cx="4824000" cy="2087640"/>
            <a:chOff x="4067280" y="4653000"/>
            <a:chExt cx="4824000" cy="2087640"/>
          </a:xfrm>
        </p:grpSpPr>
        <p:sp>
          <p:nvSpPr>
            <p:cNvPr id="593" name=""/>
            <p:cNvSpPr/>
            <p:nvPr/>
          </p:nvSpPr>
          <p:spPr>
            <a:xfrm>
              <a:off x="4067280" y="4653000"/>
              <a:ext cx="1117080" cy="20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774200" y="4653000"/>
              <a:ext cx="1117080" cy="20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84360" y="4910040"/>
              <a:ext cx="258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5184000" y="4781160"/>
              <a:ext cx="258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84360" y="503820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95120" y="4676760"/>
              <a:ext cx="180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VAL response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5480" y="4804920"/>
              <a:ext cx="174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ACK response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95120" y="4935240"/>
              <a:ext cx="151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DATA read data 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84360" y="516636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96200" y="5060880"/>
              <a:ext cx="21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RROR response error (E bits)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184360" y="529524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94040" y="5190840"/>
              <a:ext cx="221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OP response end of packet 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77880" y="568044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87560" y="5577120"/>
              <a:ext cx="251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RCID response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77880" y="580860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87920" y="5703840"/>
              <a:ext cx="247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TRDID response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77880" y="593748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7200" y="5834160"/>
              <a:ext cx="248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PKTID response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32440" y="4716720"/>
              <a:ext cx="151920" cy="18957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74200" y="4716720"/>
              <a:ext cx="152280" cy="18957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5616720" y="3068640"/>
            <a:ext cx="1295280" cy="7920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5831640" y="5157720"/>
            <a:ext cx="1295640" cy="792360"/>
          </a:xfrm>
          <a:custGeom>
            <a:avLst/>
            <a:gdLst>
              <a:gd name="textAreaLeft" fmla="*/ -360 w 1295640"/>
              <a:gd name="textAreaRight" fmla="*/ 1295640 w 1295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68360" y="2997360"/>
            <a:ext cx="1008000" cy="71892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910880" y="299736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écr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ww.soclib.f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criture N mots, 1 mot de ré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cture 1 mot, N mots de ré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ctorisation du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code actuel est l’aboutissement de 7 ans d’essais, d’erreurs, de mises au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éta-out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manipuler les fichiers .cpp, .h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mpiler les platefor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n VCI, ré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71640" y="213372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771640" y="184464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24210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46920" y="1557360"/>
            <a:ext cx="21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PVAL response valid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5480" y="184464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PACK response ack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7640" y="21337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DATA read data  (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2708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7280" y="2421000"/>
            <a:ext cx="25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RROR response error (E bit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29973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46920" y="2709720"/>
            <a:ext cx="26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OP response end of packet 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62280" y="38606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37920" y="3573360"/>
            <a:ext cx="29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RCID response source ident (S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62280" y="4148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39720" y="3860640"/>
            <a:ext cx="29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TRDID response thread ident (T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62280" y="44370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37920" y="4149720"/>
            <a:ext cx="296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KTID response packet ident (P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1700280"/>
            <a:ext cx="21564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1700280"/>
            <a:ext cx="21600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’arborescence 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2771640" y="2565360"/>
            <a:ext cx="648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ut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4572000" y="1916280"/>
            <a:ext cx="792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0" y="2205000"/>
            <a:ext cx="792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870880" y="18446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èles &amp; plate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70160" y="2205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s &amp; 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435280" y="206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43528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utils/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24000" y="3789360"/>
            <a:ext cx="1079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1042560" y="4149360"/>
            <a:ext cx="792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93240" y="5392800"/>
            <a:ext cx="44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mande pour compiler les plate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jouter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soclib/utils/bi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u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 flipV="1">
            <a:off x="179280" y="3068640"/>
            <a:ext cx="79236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179280" y="371628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79280" y="4508640"/>
            <a:ext cx="2305080" cy="28872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79280" y="530064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79280" y="494172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soclib/platform/top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76200" y="1341360"/>
            <a:ext cx="8391600" cy="53262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2050920" y="2708280"/>
            <a:ext cx="1079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575080" y="3049200"/>
            <a:ext cx="79200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25400" y="4292640"/>
            <a:ext cx="49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endroit où se trouvent les exemples de 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notamment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tutorial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oclib/soclib/platform/topcells/tutorial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5076720" y="3141720"/>
            <a:ext cx="1079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5579640" y="3573000"/>
            <a:ext cx="792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943240" y="50133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top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572000" y="3141720"/>
            <a:ext cx="431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4788000" y="3573360"/>
            <a:ext cx="100800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23960" y="5516640"/>
            <a:ext cx="27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er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ù se trou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soft (appli embarqué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916360" y="3141720"/>
            <a:ext cx="1511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203640" y="3573360"/>
            <a:ext cx="36036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054160" y="53737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la table 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32000" y="3141720"/>
            <a:ext cx="1511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763640" y="3429000"/>
            <a:ext cx="289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43960" y="4581360"/>
            <a:ext cx="20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éta-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la compi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272880" y="404640"/>
            <a:ext cx="85964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272880" y="404640"/>
            <a:ext cx="85964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 lien, deux réseaux, CMD et R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014560" y="880920"/>
            <a:ext cx="5113080" cy="5976720"/>
            <a:chOff x="2014560" y="880920"/>
            <a:chExt cx="5113080" cy="5976720"/>
          </a:xfrm>
        </p:grpSpPr>
        <p:sp>
          <p:nvSpPr>
            <p:cNvPr id="97" name=""/>
            <p:cNvSpPr/>
            <p:nvPr/>
          </p:nvSpPr>
          <p:spPr>
            <a:xfrm>
              <a:off x="2014560" y="391464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43600" y="391464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8600" y="427716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198600" y="409536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98600" y="44578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30960" y="3938760"/>
              <a:ext cx="180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VAL response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31320" y="4121280"/>
              <a:ext cx="174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ACK response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1320" y="4302000"/>
              <a:ext cx="151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DATA read data 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98600" y="46386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32040" y="4482720"/>
              <a:ext cx="21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RROR response error (E bits)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98600" y="48204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30240" y="4663440"/>
              <a:ext cx="221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OP response end of packet 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91760" y="53632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27360" y="5208480"/>
              <a:ext cx="251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RCID response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91760" y="55440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27000" y="5389200"/>
              <a:ext cx="247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TRDID response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91760" y="57258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26640" y="5569200"/>
              <a:ext cx="248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PKTID response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37680" y="4004640"/>
              <a:ext cx="160920" cy="26726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43600" y="4004640"/>
              <a:ext cx="161280" cy="26726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4560" y="88092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3600" y="88092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98600" y="107748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198600" y="125892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600" y="143964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0" y="950400"/>
              <a:ext cx="186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VAL command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9160" y="1131480"/>
              <a:ext cx="181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ACK command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9880" y="131400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DRESS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98600" y="16203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10240" y="1493640"/>
              <a:ext cx="180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WDATA write data (32=8*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98600" y="18021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8080" y="167616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E byte enable 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98600" y="19828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8440" y="1856880"/>
              <a:ext cx="150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 vci command 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98600" y="220932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7720" y="208260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IG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98600" y="239112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8440" y="226548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98600" y="257184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7720" y="2446200"/>
              <a:ext cx="14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OP end of packet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98600" y="27525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8440" y="2626920"/>
              <a:ext cx="209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LEN packet length in bytes (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98600" y="30700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800" y="2944440"/>
              <a:ext cx="182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RCID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98600" y="32508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9160" y="3125880"/>
              <a:ext cx="178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RDID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98600" y="34326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440" y="3306600"/>
              <a:ext cx="179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KTID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970560"/>
              <a:ext cx="161280" cy="26722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37680" y="970560"/>
              <a:ext cx="160920" cy="26722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577640" y="2081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6520" y="522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395280" y="2206800"/>
            <a:ext cx="3384720" cy="20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mple de plateforme trop compliqu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68360" y="1557360"/>
            <a:ext cx="820728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4 GHz communication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20364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84328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05272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3465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862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411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34656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98620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84328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20364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49236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370836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36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68360" y="4510080"/>
            <a:ext cx="8207280" cy="433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 perturbation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41128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17236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81200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02144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83152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95492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380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31528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95492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81200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172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46144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867744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46144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38036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37948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68360" y="5229360"/>
            <a:ext cx="6476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227960" y="515772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, BCA, Soc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68360" y="5805360"/>
            <a:ext cx="647640" cy="2160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179360" y="5734080"/>
            <a:ext cx="34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Physics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Σ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68360" y="6093000"/>
            <a:ext cx="647640" cy="215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179360" y="602136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ELN, Electrical,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68360" y="5516640"/>
            <a:ext cx="64764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83680" y="5445000"/>
            <a:ext cx="27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68360" y="6381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84040" y="631044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796000" y="508464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94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22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51672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80400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09308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38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6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651640" y="5229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651640" y="551664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651640" y="5805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651640" y="6093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651640" y="638172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651640" y="6669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4720" y="5084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524720" y="6237360"/>
            <a:ext cx="2890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96000" y="6237360"/>
            <a:ext cx="28872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89084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29848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29848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89084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730836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30872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477560" y="58770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xe,y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948360" y="5661000"/>
            <a:ext cx="863640" cy="863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940360" y="5229360"/>
            <a:ext cx="1079640" cy="647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5940360" y="6165720"/>
            <a:ext cx="1008000" cy="216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524720" y="5229360"/>
            <a:ext cx="142920" cy="460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teforme simplifi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3346560" y="1989000"/>
            <a:ext cx="14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987640" y="1844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8314920" y="1844640"/>
            <a:ext cx="180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87640" y="1844640"/>
            <a:ext cx="532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956720" y="198900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3643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3348000" y="1989000"/>
            <a:ext cx="460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73400" y="5013360"/>
            <a:ext cx="38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CU : Interrupt Controller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RDES : Serialiseur, Déserialis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195640" y="378936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554200" y="371628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093080" y="378936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451640" y="371628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du SER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2144520" y="2736720"/>
            <a:ext cx="70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oclib::caba::VciParams&lt;4,6,32,1,1,1,8,1,1,1&gt; vci_para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1495800" y="3024360"/>
            <a:ext cx="4184280" cy="596160"/>
            <a:chOff x="1495800" y="3024360"/>
            <a:chExt cx="4184280" cy="596160"/>
          </a:xfrm>
        </p:grpSpPr>
        <p:grpSp>
          <p:nvGrpSpPr>
            <p:cNvPr id="858" name=""/>
            <p:cNvGrpSpPr/>
            <p:nvPr/>
          </p:nvGrpSpPr>
          <p:grpSpPr>
            <a:xfrm>
              <a:off x="3664080" y="3024360"/>
              <a:ext cx="2016000" cy="504720"/>
              <a:chOff x="3664080" y="3024360"/>
              <a:chExt cx="2016000" cy="504720"/>
            </a:xfrm>
          </p:grpSpPr>
          <p:sp>
            <p:nvSpPr>
              <p:cNvPr id="859" name=""/>
              <p:cNvSpPr/>
              <p:nvPr/>
            </p:nvSpPr>
            <p:spPr>
              <a:xfrm flipV="1">
                <a:off x="5680080" y="3024360"/>
                <a:ext cx="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3664080" y="3529080"/>
                <a:ext cx="20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1495800" y="3313440"/>
              <a:ext cx="21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ell_size = 4 * 8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1499040" y="3024000"/>
            <a:ext cx="4396680" cy="954720"/>
            <a:chOff x="1499040" y="3024000"/>
            <a:chExt cx="4396680" cy="954720"/>
          </a:xfrm>
        </p:grpSpPr>
        <p:grpSp>
          <p:nvGrpSpPr>
            <p:cNvPr id="863" name=""/>
            <p:cNvGrpSpPr/>
            <p:nvPr/>
          </p:nvGrpSpPr>
          <p:grpSpPr>
            <a:xfrm>
              <a:off x="3663720" y="3024000"/>
              <a:ext cx="2232000" cy="863280"/>
              <a:chOff x="3663720" y="3024000"/>
              <a:chExt cx="2232000" cy="863280"/>
            </a:xfrm>
          </p:grpSpPr>
          <p:sp>
            <p:nvSpPr>
              <p:cNvPr id="864" name=""/>
              <p:cNvSpPr/>
              <p:nvPr/>
            </p:nvSpPr>
            <p:spPr>
              <a:xfrm flipV="1">
                <a:off x="5895720" y="3024000"/>
                <a:ext cx="0" cy="86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3663720" y="3887280"/>
                <a:ext cx="22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6" name=""/>
            <p:cNvSpPr/>
            <p:nvPr/>
          </p:nvSpPr>
          <p:spPr>
            <a:xfrm>
              <a:off x="1499040" y="3671640"/>
              <a:ext cx="186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len_size = 64 wor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498320" y="3024000"/>
            <a:ext cx="4686120" cy="1315080"/>
            <a:chOff x="1498320" y="3024000"/>
            <a:chExt cx="4686120" cy="1315080"/>
          </a:xfrm>
        </p:grpSpPr>
        <p:grpSp>
          <p:nvGrpSpPr>
            <p:cNvPr id="868" name=""/>
            <p:cNvGrpSpPr/>
            <p:nvPr/>
          </p:nvGrpSpPr>
          <p:grpSpPr>
            <a:xfrm>
              <a:off x="3663720" y="3024000"/>
              <a:ext cx="2520720" cy="1223280"/>
              <a:chOff x="3663720" y="3024000"/>
              <a:chExt cx="2520720" cy="1223280"/>
            </a:xfrm>
          </p:grpSpPr>
          <p:sp>
            <p:nvSpPr>
              <p:cNvPr id="869" name=""/>
              <p:cNvSpPr/>
              <p:nvPr/>
            </p:nvSpPr>
            <p:spPr>
              <a:xfrm flipV="1">
                <a:off x="6184440" y="3024000"/>
                <a:ext cx="0" cy="122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3663720" y="4247280"/>
                <a:ext cx="252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1498320" y="403200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ddr_size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1498680" y="3024000"/>
            <a:ext cx="4974840" cy="1675440"/>
            <a:chOff x="1498680" y="3024000"/>
            <a:chExt cx="4974840" cy="1675440"/>
          </a:xfrm>
        </p:grpSpPr>
        <p:grpSp>
          <p:nvGrpSpPr>
            <p:cNvPr id="873" name=""/>
            <p:cNvGrpSpPr/>
            <p:nvPr/>
          </p:nvGrpSpPr>
          <p:grpSpPr>
            <a:xfrm>
              <a:off x="3664080" y="3024000"/>
              <a:ext cx="2809440" cy="1583280"/>
              <a:chOff x="3664080" y="3024000"/>
              <a:chExt cx="2809440" cy="1583280"/>
            </a:xfrm>
          </p:grpSpPr>
          <p:sp>
            <p:nvSpPr>
              <p:cNvPr id="874" name=""/>
              <p:cNvSpPr/>
              <p:nvPr/>
            </p:nvSpPr>
            <p:spPr>
              <a:xfrm flipV="1">
                <a:off x="6473520" y="3024000"/>
                <a:ext cx="0" cy="158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3664080" y="4607280"/>
                <a:ext cx="280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1498680" y="4392360"/>
              <a:ext cx="157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rror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1499400" y="3024360"/>
            <a:ext cx="5190120" cy="2035440"/>
            <a:chOff x="1499400" y="3024360"/>
            <a:chExt cx="5190120" cy="2035440"/>
          </a:xfrm>
        </p:grpSpPr>
        <p:grpSp>
          <p:nvGrpSpPr>
            <p:cNvPr id="878" name=""/>
            <p:cNvGrpSpPr/>
            <p:nvPr/>
          </p:nvGrpSpPr>
          <p:grpSpPr>
            <a:xfrm>
              <a:off x="3664080" y="3024360"/>
              <a:ext cx="3025440" cy="1943280"/>
              <a:chOff x="3664080" y="3024360"/>
              <a:chExt cx="3025440" cy="1943280"/>
            </a:xfrm>
          </p:grpSpPr>
          <p:sp>
            <p:nvSpPr>
              <p:cNvPr id="879" name=""/>
              <p:cNvSpPr/>
              <p:nvPr/>
            </p:nvSpPr>
            <p:spPr>
              <a:xfrm flipV="1">
                <a:off x="6689520" y="3024360"/>
                <a:ext cx="0" cy="194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3664080" y="4967640"/>
                <a:ext cx="30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1499400" y="475272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1499040" y="3024360"/>
            <a:ext cx="5406120" cy="2395800"/>
            <a:chOff x="1499040" y="3024360"/>
            <a:chExt cx="5406120" cy="2395800"/>
          </a:xfrm>
        </p:grpSpPr>
        <p:grpSp>
          <p:nvGrpSpPr>
            <p:cNvPr id="883" name=""/>
            <p:cNvGrpSpPr/>
            <p:nvPr/>
          </p:nvGrpSpPr>
          <p:grpSpPr>
            <a:xfrm>
              <a:off x="3663720" y="3024360"/>
              <a:ext cx="3241440" cy="2303280"/>
              <a:chOff x="3663720" y="3024360"/>
              <a:chExt cx="3241440" cy="2303280"/>
            </a:xfrm>
          </p:grpSpPr>
          <p:sp>
            <p:nvSpPr>
              <p:cNvPr id="884" name=""/>
              <p:cNvSpPr/>
              <p:nvPr/>
            </p:nvSpPr>
            <p:spPr>
              <a:xfrm flipV="1">
                <a:off x="6905160" y="3024360"/>
                <a:ext cx="0" cy="23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3663720" y="5327640"/>
                <a:ext cx="324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1499040" y="511308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flag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1498320" y="3024360"/>
            <a:ext cx="5622840" cy="2754720"/>
            <a:chOff x="1498320" y="3024360"/>
            <a:chExt cx="5622840" cy="2754720"/>
          </a:xfrm>
        </p:grpSpPr>
        <p:grpSp>
          <p:nvGrpSpPr>
            <p:cNvPr id="888" name=""/>
            <p:cNvGrpSpPr/>
            <p:nvPr/>
          </p:nvGrpSpPr>
          <p:grpSpPr>
            <a:xfrm>
              <a:off x="3663720" y="3024360"/>
              <a:ext cx="3457440" cy="2661840"/>
              <a:chOff x="3663720" y="3024360"/>
              <a:chExt cx="3457440" cy="2661840"/>
            </a:xfrm>
          </p:grpSpPr>
          <p:sp>
            <p:nvSpPr>
              <p:cNvPr id="889" name=""/>
              <p:cNvSpPr/>
              <p:nvPr/>
            </p:nvSpPr>
            <p:spPr>
              <a:xfrm flipV="1">
                <a:off x="7121160" y="3024360"/>
                <a:ext cx="0" cy="266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3663720" y="5686200"/>
                <a:ext cx="345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1498320" y="547200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rcid_size = 8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1499040" y="3024000"/>
            <a:ext cx="5838120" cy="3115440"/>
            <a:chOff x="1499040" y="3024000"/>
            <a:chExt cx="5838120" cy="3115440"/>
          </a:xfrm>
        </p:grpSpPr>
        <p:grpSp>
          <p:nvGrpSpPr>
            <p:cNvPr id="893" name=""/>
            <p:cNvGrpSpPr/>
            <p:nvPr/>
          </p:nvGrpSpPr>
          <p:grpSpPr>
            <a:xfrm>
              <a:off x="3663720" y="3024000"/>
              <a:ext cx="3673440" cy="3022560"/>
              <a:chOff x="3663720" y="3024000"/>
              <a:chExt cx="3673440" cy="3022560"/>
            </a:xfrm>
          </p:grpSpPr>
          <p:sp>
            <p:nvSpPr>
              <p:cNvPr id="894" name=""/>
              <p:cNvSpPr/>
              <p:nvPr/>
            </p:nvSpPr>
            <p:spPr>
              <a:xfrm flipV="1">
                <a:off x="7337160" y="3024000"/>
                <a:ext cx="0" cy="30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3663720" y="6046560"/>
                <a:ext cx="367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1499040" y="5832360"/>
              <a:ext cx="15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kt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1499040" y="3024000"/>
            <a:ext cx="6053400" cy="3475800"/>
            <a:chOff x="1499040" y="3024000"/>
            <a:chExt cx="6053400" cy="3475800"/>
          </a:xfrm>
        </p:grpSpPr>
        <p:grpSp>
          <p:nvGrpSpPr>
            <p:cNvPr id="898" name=""/>
            <p:cNvGrpSpPr/>
            <p:nvPr/>
          </p:nvGrpSpPr>
          <p:grpSpPr>
            <a:xfrm>
              <a:off x="3663720" y="3024000"/>
              <a:ext cx="3888720" cy="3382560"/>
              <a:chOff x="3663720" y="3024000"/>
              <a:chExt cx="3888720" cy="3382560"/>
            </a:xfrm>
          </p:grpSpPr>
          <p:sp>
            <p:nvSpPr>
              <p:cNvPr id="899" name=""/>
              <p:cNvSpPr/>
              <p:nvPr/>
            </p:nvSpPr>
            <p:spPr>
              <a:xfrm flipV="1">
                <a:off x="7552440" y="3024000"/>
                <a:ext cx="0" cy="338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3663720" y="6406560"/>
                <a:ext cx="388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>
              <a:off x="1499040" y="619272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d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1499760" y="3024000"/>
            <a:ext cx="6268680" cy="3836160"/>
            <a:chOff x="1499760" y="3024000"/>
            <a:chExt cx="6268680" cy="3836160"/>
          </a:xfrm>
        </p:grpSpPr>
        <p:grpSp>
          <p:nvGrpSpPr>
            <p:cNvPr id="903" name=""/>
            <p:cNvGrpSpPr/>
            <p:nvPr/>
          </p:nvGrpSpPr>
          <p:grpSpPr>
            <a:xfrm>
              <a:off x="3663720" y="3024000"/>
              <a:ext cx="4104720" cy="3742560"/>
              <a:chOff x="3663720" y="3024000"/>
              <a:chExt cx="4104720" cy="3742560"/>
            </a:xfrm>
          </p:grpSpPr>
          <p:sp>
            <p:nvSpPr>
              <p:cNvPr id="904" name=""/>
              <p:cNvSpPr/>
              <p:nvPr/>
            </p:nvSpPr>
            <p:spPr>
              <a:xfrm flipV="1">
                <a:off x="7768440" y="3024000"/>
                <a:ext cx="0" cy="37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3663720" y="6766560"/>
                <a:ext cx="410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1499760" y="655308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wrp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468360" y="90792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08000" y="1557360"/>
            <a:ext cx="172728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179280" y="1628640"/>
            <a:ext cx="1584360" cy="503280"/>
            <a:chOff x="179280" y="1628640"/>
            <a:chExt cx="1584360" cy="503280"/>
          </a:xfrm>
        </p:grpSpPr>
        <p:sp>
          <p:nvSpPr>
            <p:cNvPr id="910" name=""/>
            <p:cNvSpPr/>
            <p:nvPr/>
          </p:nvSpPr>
          <p:spPr>
            <a:xfrm>
              <a:off x="179280" y="162864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547640" y="177300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108000" y="115920"/>
            <a:ext cx="1727280" cy="79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46480" y="1052640"/>
            <a:ext cx="86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::caba::VciSignals&lt;vci_param&gt; signal_vci_vcitimer("signal_vci_vcitim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uilding the embedded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258920" y="1628640"/>
            <a:ext cx="720720" cy="57636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" y="1773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62728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32 *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24000" y="2708280"/>
            <a:ext cx="2447640" cy="3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g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19744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61928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427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19280" y="3141720"/>
            <a:ext cx="1224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3347640" y="3141720"/>
            <a:ext cx="1079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132000" y="422100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724360" y="3573360"/>
            <a:ext cx="648000" cy="43200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718880" y="364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d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5219280" y="407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500720" y="49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211640" y="5373720"/>
            <a:ext cx="647640" cy="431640"/>
          </a:xfrm>
          <a:prstGeom prst="flowChartDocumen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845080" y="537372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n.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lf for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140360" y="1628640"/>
            <a:ext cx="720720" cy="576360"/>
          </a:xfrm>
          <a:prstGeom prst="flowChartMultidocumen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700360" y="3573360"/>
            <a:ext cx="720720" cy="576360"/>
          </a:xfrm>
          <a:prstGeom prst="flowChartMultidocumen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203640" y="2708280"/>
            <a:ext cx="2448000" cy="3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348000" y="4508640"/>
            <a:ext cx="2448000" cy="35856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948360" y="3500280"/>
            <a:ext cx="1944720" cy="792360"/>
          </a:xfrm>
          <a:prstGeom prst="rect">
            <a:avLst/>
          </a:pr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BFC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948360" y="4292640"/>
            <a:ext cx="1944720" cy="792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xce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8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8360" y="5084640"/>
            <a:ext cx="1944720" cy="792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004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948360" y="5877000"/>
            <a:ext cx="1944720" cy="792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1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71680" y="2852640"/>
            <a:ext cx="197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plication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posed of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764640"/>
            <a:ext cx="8686800" cy="6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3520" y="1268280"/>
            <a:ext cx="81511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ADDRSIZE, int CELLSIZE, int ERRSIZE, int PLENSIZE, 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RCIDSIZE, int TRDIDSIZE, 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truct SOCLIB_VCI_SIMPLERAM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TARGET&lt;ADDRSIZE, CELLSIZE, ERRSIZE, PLENSIZ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LENSIZE, SRCIDSIZE, TRDIDSIZE, PKTIDSIZE &gt; VCI_TAR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FSM,DT,REG_EOP,WRITE_COUNTER,READ_COU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RITE_COUNTER_INIT,READ_COUNTER_IN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1024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IDLE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WRITE_WA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WRI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READ_WA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REA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HAS_PROCESS (SOCLIB_VCI_SIMPLERA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2781360"/>
            <a:ext cx="8713800" cy="431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4200" y="4076640"/>
            <a:ext cx="8713800" cy="216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4200" y="4508640"/>
            <a:ext cx="8713800" cy="151272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560" y="1989000"/>
            <a:ext cx="67186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SIMPLERAM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_name insname // nom de l'in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0 &gt;&gt; 2]=0x20010010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addi $1,$0, 0x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4 &gt;&gt; 2]=0x20020014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addi $2,$0, 0x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8 &gt;&gt; 2]=0x8c220000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w $2,0($1) = 0x112233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C &gt;&gt; 2]=0x8c230004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w $3,4($1) = 0x556677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10 &gt;&gt; 2]=0x1122334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14 &gt;&gt; 2]=0x5566778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RITE_COUNTER_INIT=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AD_COUNTER_INIT=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4200" y="2852640"/>
            <a:ext cx="8713800" cy="863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4200" y="5229360"/>
            <a:ext cx="8713800" cy="431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ram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2520" y="741240"/>
            <a:ext cx="895896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void transitio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switch(TARGET_FSM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IDL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(VCI_TARGET.CMDVAL == tr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G_EOP=VCI_TARGET.EO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VCI_TARGET.CMD.read() == VCI_CMD_WRIT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addr=(int)VCI_TARGET.ADDRESS.read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wdata=(int)VCI_TARGET.WDATA.read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mem[addr&gt;&gt;2]=wdata; TARGET_FSM = TARGET_WRITE_WAIT; WRITE_COUNTER = WRITE_COUNTER_IN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addr=(int)VCI_TARGET.ADDRESS.read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DT = mem[addr&gt;&gt;2]; TARGET_FSM = TARGET_READ_WA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AD_COUNTER = READ_COUNTER_IN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WRITE_WAI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WRITE_COUNTER=WRITE_COUNTER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WRITE_COUNTER==1) TARGET_FSM=TARGET_WRI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READ_WAI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AD_COUNTER=READ_COUNTER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READ_COUNTER==1) TARGET_FSM=TARGET_REA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REA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WRIT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(VCI_TARGET.RSPACK =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TARGET_FSM = TARGET_ID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 // end switch TARGET F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4200" y="2060640"/>
            <a:ext cx="8821800" cy="79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4200" y="2982960"/>
            <a:ext cx="8821800" cy="5904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5280" y="62769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ram.h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3960" y="0"/>
            <a:ext cx="68709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 (TARGET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WRITE_WA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READ_WA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OP = REG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DATA  = (sc_uint&lt;32&gt;) D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OP = REG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4200" y="4921200"/>
            <a:ext cx="8713800" cy="127656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61440" y="43657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 MINIMIPS avec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4581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4920" y="186516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S = Instruction Set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fpecheuxadm</cp:lastModifiedBy>
  <dcterms:modified xsi:type="dcterms:W3CDTF">2009-10-14T19:40:58Z</dcterms:modified>
  <cp:revision>365</cp:revision>
  <dc:subject/>
  <dc:title>Diapositive 1</dc:title>
</cp:coreProperties>
</file>