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88B-E956-4EE6-9FBF-62623F8A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BE4-54D2-4B36-BD83-D75EF5B9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FE5-60F6-43DD-8982-6AED6636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3B8-B77A-4887-BDC7-AE70A513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EE3-4AB6-404E-9879-9AE2D8D1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8C2-EB23-4434-855B-4C8C1099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710-5A44-4141-8927-DDA289DF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64A-E459-45D6-A49B-61215857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C6E-F590-4955-83C3-552D2633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E9A-7DD4-432F-A324-A2E7C4F7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09A-D881-48AC-8B7B-CEAF91C1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A52-2D01-4866-AFB4-490DE2C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7935-CD11-427B-848D-703A1FEBD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4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totypage virtuel avec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573360"/>
            <a:ext cx="10558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4076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4"/>
            <a:endCxn id="187" idx="5"/>
          </p:cNvCxnSpPr>
          <p:nvPr/>
        </p:nvCxnSpPr>
        <p:spPr>
          <a:xfrm flipH="1" flipV="1" rot="5400000">
            <a:off x="1972800" y="432072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269080" y="35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1440" y="5156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3749400" y="432396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208040" y="3573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0720" y="51562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076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87" idx="3"/>
          </p:cNvCxnSpPr>
          <p:nvPr/>
        </p:nvCxnSpPr>
        <p:spPr>
          <a:xfrm rot="5400000">
            <a:off x="3465360" y="2454120"/>
            <a:ext cx="2520" cy="3961080"/>
          </a:xfrm>
          <a:prstGeom prst="curvedConnector5">
            <a:avLst>
              <a:gd name="adj1" fmla="val 146100000"/>
              <a:gd name="adj2" fmla="val 50000"/>
              <a:gd name="adj3" fmla="val 14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29272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flipH="1" flipV="1" rot="5400000">
            <a:off x="5835960" y="2378880"/>
            <a:ext cx="148320" cy="374040"/>
          </a:xfrm>
          <a:prstGeom prst="curvedConnector5">
            <a:avLst>
              <a:gd name="adj1" fmla="val -357907"/>
              <a:gd name="adj2" fmla="val 50000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20364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/>
          <p:nvPr/>
        </p:nvCxnSpPr>
        <p:spPr>
          <a:xfrm flipH="1" flipV="1" rot="5400000">
            <a:off x="3820680" y="237924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085440" y="278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2133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5440" y="17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000" y="2997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1" idx="2"/>
            <a:endCxn id="187" idx="0"/>
          </p:cNvCxnSpPr>
          <p:nvPr/>
        </p:nvCxnSpPr>
        <p:spPr>
          <a:xfrm flipV="1" rot="10800000">
            <a:off x="1859760" y="2132640"/>
            <a:ext cx="1343880" cy="1440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47640" y="2060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6" idx="6"/>
            <a:endCxn id="199" idx="6"/>
          </p:cNvCxnSpPr>
          <p:nvPr/>
        </p:nvCxnSpPr>
        <p:spPr>
          <a:xfrm flipV="1">
            <a:off x="6347880" y="2133360"/>
            <a:ext cx="2520" cy="1945440"/>
          </a:xfrm>
          <a:prstGeom prst="curvedConnector5">
            <a:avLst>
              <a:gd name="adj1" fmla="val 99400000"/>
              <a:gd name="adj2" fmla="val 49990"/>
              <a:gd name="adj3" fmla="val 99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1125360"/>
            <a:ext cx="78616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ar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ignal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mapping_table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vci_interface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simpleram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is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ELLSIZE        4       // Data are 4 cells(=8bits) wide=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ERRSIZE         1       // Error size is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TRDIDSIZE       1       // TRDID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KTIDSIZE       1       // PKTID unused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ADDRSIZE    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SRCIDSIZE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80" y="1022400"/>
            <a:ext cx="59414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 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lock signal_clk ("signal_cl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 &lt; bool &gt; signal_resetn ("signal_reset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SIGNALS &lt;VCI_PARAM&gt; link ("lin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ISS &lt; VCI_PARAM &gt; i0 ("i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&lt; VCI_PARAM &gt; t0 ("t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VCI_INITIATOR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VCI_TARGET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0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1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 EXIT_SUC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280" y="1557360"/>
            <a:ext cx="8893440" cy="1079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2708280"/>
            <a:ext cx="892800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3429000"/>
            <a:ext cx="8893440" cy="151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2320" y="2205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960" y="28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6880" y="45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013360"/>
            <a:ext cx="8928000" cy="1368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3960" y="57340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et lancemen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réseaux disjoints, le réseau des requêtes (command) et le réseau des réponses (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236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3141720"/>
            <a:ext cx="194472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221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542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1964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200" y="4581360"/>
            <a:ext cx="8893440" cy="1584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852640"/>
            <a:ext cx="8893440" cy="1584360"/>
          </a:xfrm>
          <a:prstGeom prst="rect">
            <a:avLst/>
          </a:prstGeom>
          <a:solidFill>
            <a:srgbClr val="ff33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3800" y="2781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2880" y="5805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 initiateur, 1 Interconnect, 2 c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 et vcilink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 initiateurs, 1 Interconnect, 1 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l’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80" y="126828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certain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213336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set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1011 1111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ext 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4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000 0100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8680" y="17002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8 bits dans cet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00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8320" y="1197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le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200" y="1700280"/>
            <a:ext cx="72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initiateur dispose d’un identifiant unique qu’il envoi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commande. La cible et l’interconnect des réponses gère ce 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avent ainsi à quel initiateur communiquer la réponse (SRCID j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ôle d’adresse pour les répon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 de segment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eg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SocLib c’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om (chaîne de caractères), ex. « 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dresse de base (sur 32 bi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BFC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aille (en octe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index VCI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ttributs de cachabilité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UN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semble des segments forme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table des seg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ou mapping table (table de correspondance des adresses, des cibles VCI et des bancs mém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311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314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317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322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327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332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340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052640"/>
            <a:ext cx="158400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87020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360" y="21589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4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6840" y="1628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VAL command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5400" y="191628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ACK command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16480" y="2205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6120" y="249228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DATA write data (32=8*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3022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781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E byte enable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309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306864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 vci command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670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8280" y="3429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959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7920" y="3718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246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840" y="40053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OP end of packe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5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6840" y="429264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EN packet length in bytes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038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7200" y="4797360"/>
            <a:ext cx="21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RCID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532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19360" y="50846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DID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61492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7200" y="5373720"/>
            <a:ext cx="21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KTID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355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367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374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377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382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387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392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397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400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403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406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409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412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s et masque de cacha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473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476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480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1" idx="0"/>
              <a:endCxn id="480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483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489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493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499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87" idx="0"/>
              <a:endCxn id="499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502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1" idx="0"/>
              <a:endCxn id="502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sp>
        <p:nvSpPr>
          <p:cNvPr id="504" name=""/>
          <p:cNvSpPr/>
          <p:nvPr/>
        </p:nvSpPr>
        <p:spPr>
          <a:xfrm>
            <a:off x="1835280" y="5805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506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"/>
            <p:cNvCxnSpPr>
              <a:stCxn id="473" idx="0"/>
              <a:endCxn id="506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509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489" idx="0"/>
              <a:endCxn id="509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1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512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"/>
            <p:cNvCxnSpPr>
              <a:stCxn id="493" idx="0"/>
              <a:endCxn id="512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515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518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521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524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527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18" idx="0"/>
              <a:endCxn id="527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9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530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"/>
            <p:cNvCxnSpPr>
              <a:stCxn id="521" idx="0"/>
              <a:endCxn id="530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533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4" idx="0"/>
              <a:endCxn id="533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536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537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0" name=""/>
              <p:cNvCxnSpPr>
                <a:stCxn id="537" idx="7"/>
                <a:endCxn id="539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1" name=""/>
              <p:cNvCxnSpPr>
                <a:stCxn id="539" idx="4"/>
                <a:endCxn id="538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2" name=""/>
              <p:cNvCxnSpPr>
                <a:stCxn id="538" idx="2"/>
                <a:endCxn id="537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43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" y="981000"/>
            <a:ext cx="892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&lt;int NB_IN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NB_TARG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PARAM_DECLA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LOCAL_CROSSBAR_SIMPLE : sc_modul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 // instan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GLOB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LOC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ADDR_OFFSET, GLOBAL_ADDR_MASK, GLOBAL_AD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ADDR_OFFSET, LOCAL_ADDR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ID_OFFSET, GLOBAL_ID_MASK, GLOBAL_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ID_OFFSET, LOCAL_ID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ADDR_OF(x) (((x)&gt;&gt;GLOBAL_ADDR_OFFSET)&amp;GLOB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ADDR_OF(x) (((x)&gt;&gt;LOCAL_ADDR_OFFSET)&amp;LOC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ID_OF(x) (((x)&gt;&gt;GLOBAL_ID_OFFSET)&amp;GLOB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ID_OF(x) (((x)&gt;&gt;LOCAL_ID_OFFSET)&amp;LOC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VCI_PARAM&gt; TLOC_VCI[NB_IN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INITIATOR&lt;VCI_PARAM&gt; ILOC_VCI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T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LOC_ALLOCATED[NB_INIT]; // state of the local target 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TLOC_INDEX[NB_INIT]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ILOC_ALLOCATED[NB_TARGET]; // state of the local initiator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ILOC_INDEX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280" y="3716280"/>
            <a:ext cx="8893440" cy="1008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280" y="4797360"/>
            <a:ext cx="889344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5280" y="5445000"/>
            <a:ext cx="8893440" cy="1413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clib_vci_local_crossbar_simple.h (2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880" y="1932120"/>
            <a:ext cx="7572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LOCAL_CROSSBAR_SIMPLE (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index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MAPPING_TABLE mapping_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genMea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neg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CMDACK &lt;&lt; ILOC_VCI[i].RSP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DATA &lt;&lt; ILOC_VCI[i].R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ERROR &lt;&lt; ILOC_VCI[i].RTRD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PKTID &lt;&lt; ILOC_VCI[i].R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INI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RSP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CMD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200" y="1042920"/>
            <a:ext cx="8394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op on the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ILOC_ALLOCATED[i] == false) { // local initiator port not allo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t = 0 ; t &lt; NB_INIT 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u = (t + ILOC_INDEX[i] + 1) % NB_INI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TLOC_VCI[u].CMD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unsigned int address = TLOC_VCI[u].ADDRESS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index = ROUTING_TABLE[LOCAL_ADDR_OF(address)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ndex == i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ALLOCATED[i]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INDEX[i] = 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cal initiator port al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(TLOC_VCI[ILOC_INDEX[i]].CMDVAL == tru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(ILOC_VCI[i].CMDACK == true) &amp;&amp;(TLOC_VCI[ILOC_INDEX[i]].EOP == true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 ILOC_ALLOCATED[i] = fals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5280" y="1916280"/>
            <a:ext cx="8893440" cy="43308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5800" y="1989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IORITE TOUR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120" y="0"/>
            <a:ext cx="92026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void genMea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//  VCI local target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for (int i=0 ; i&lt;NB_INIT 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TLOC_ALLOCATED[i] == true) { //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 k = TLOC_INDE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PVAL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RROR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OP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TRD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PKT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RC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DATA.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 else { //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//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« old »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ot de commande envoyé, un mot de réponse reçu, sous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identique, pas de fact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211640" y="2313000"/>
            <a:ext cx="4537080" cy="2232000"/>
            <a:chOff x="4211640" y="2313000"/>
            <a:chExt cx="4537080" cy="2232000"/>
          </a:xfrm>
        </p:grpSpPr>
        <p:sp>
          <p:nvSpPr>
            <p:cNvPr id="562" name=""/>
            <p:cNvSpPr/>
            <p:nvPr/>
          </p:nvSpPr>
          <p:spPr>
            <a:xfrm>
              <a:off x="421164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9788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2480" y="246204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62120" y="259992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2480" y="27367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6080" y="237204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6800" y="250956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6800" y="264744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28738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6800" y="278460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62480" y="30117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05000" y="292248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2480" y="31485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06080" y="305856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2480" y="332064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5000" y="323064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2480" y="34585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360" y="3368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3595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4640" y="350532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2480" y="3732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05000" y="364320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2480" y="3973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06080" y="388332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2480" y="4110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402084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62480" y="424800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360" y="41587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788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1920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67280" y="4653000"/>
            <a:ext cx="4824000" cy="2087640"/>
            <a:chOff x="4067280" y="4653000"/>
            <a:chExt cx="4824000" cy="2087640"/>
          </a:xfrm>
        </p:grpSpPr>
        <p:sp>
          <p:nvSpPr>
            <p:cNvPr id="593" name=""/>
            <p:cNvSpPr/>
            <p:nvPr/>
          </p:nvSpPr>
          <p:spPr>
            <a:xfrm>
              <a:off x="406728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7420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360" y="491004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184000" y="478116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84360" y="50382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95120" y="4676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5480" y="480492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95120" y="493524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84360" y="516636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96200" y="506088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4360" y="52952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94040" y="51908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7880" y="56804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7560" y="557712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77880" y="58086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7920" y="57038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77880" y="593748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7200" y="583416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2440" y="4716720"/>
              <a:ext cx="15192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74200" y="4716720"/>
              <a:ext cx="15228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616720" y="3068640"/>
            <a:ext cx="1295280" cy="792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31640" y="5157720"/>
            <a:ext cx="1295640" cy="7923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2997360"/>
            <a:ext cx="1008000" cy="7189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10880" y="29973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ww.soclib.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riture N mots, 1 mot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cture 1 mot, N mots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ctorisation d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actuel est l’aboutissement de 7 ans d’essais, d’erreurs, de mises au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ta-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manipuler les fichiers .cpp, .h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mpiler les platef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1337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184464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421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920" y="155736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VAL response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5480" y="184464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ACK response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7640" y="21337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DATA read data 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7280" y="242100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RROR response error (E bit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9973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6920" y="270972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OP response end of packet 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2280" y="38606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7920" y="3573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RCID response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2280" y="414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9720" y="386064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TRDID response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2280" y="4437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7920" y="41497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KTID response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rborescence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71640" y="2565360"/>
            <a:ext cx="648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191628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220500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70880" y="1844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s &amp;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7016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s &amp;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3528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35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/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24000" y="3789360"/>
            <a:ext cx="1079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042560" y="41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93240" y="53928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pour compiler les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soclib/utils/b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flipV="1">
            <a:off x="179280" y="3068640"/>
            <a:ext cx="79236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79280" y="371628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280" y="4508640"/>
            <a:ext cx="2305080" cy="28872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79280" y="530064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9280" y="494172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soclib/platform/top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6200" y="1341360"/>
            <a:ext cx="8391600" cy="53262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0920" y="270828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75080" y="304920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5400" y="42926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droit où se trouvent les exemples de 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tam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utorial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clib/soclib/platform/topcells/tutoria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076720" y="314172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579640" y="357300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240" y="5013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op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141720"/>
            <a:ext cx="431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8800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3960" y="551664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er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ù se trou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oft (appli embarqu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203640" y="3573360"/>
            <a:ext cx="3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373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table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3200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763640" y="342900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3960" y="458136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lien, deux réseaux, CMD et R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560" y="880920"/>
            <a:ext cx="5113080" cy="5976720"/>
            <a:chOff x="2014560" y="880920"/>
            <a:chExt cx="5113080" cy="5976720"/>
          </a:xfrm>
        </p:grpSpPr>
        <p:sp>
          <p:nvSpPr>
            <p:cNvPr id="97" name=""/>
            <p:cNvSpPr/>
            <p:nvPr/>
          </p:nvSpPr>
          <p:spPr>
            <a:xfrm>
              <a:off x="201456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8600" y="42771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198600" y="40953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8600" y="4457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0960" y="3938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12128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430200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8600" y="4638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2040" y="448272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8600" y="48204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240" y="46634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91760" y="53632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27360" y="520848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91760" y="55440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000" y="538920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91760" y="5725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26640" y="556920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7680" y="4004640"/>
              <a:ext cx="16092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4004640"/>
              <a:ext cx="16128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456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8600" y="107748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8600" y="125892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600" y="14396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0" y="95040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160" y="113148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3140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8600" y="16203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149364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8600" y="18021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080" y="167616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8600" y="1982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185688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8600" y="22093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7720" y="2082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8600" y="23911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440" y="22654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8600" y="25718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720" y="244620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8600" y="27525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440" y="262692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8600" y="30700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0" y="294444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8600" y="3250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160" y="312588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98600" y="3432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440" y="330660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970560"/>
              <a:ext cx="16128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7680" y="970560"/>
              <a:ext cx="16092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77640" y="208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520" y="522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e de plateforme trop compliq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teforme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346560" y="198900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87640" y="1844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8314920" y="1844640"/>
            <a:ext cx="18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87640" y="184464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19890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643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48000" y="198900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3400" y="501336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U : Interrupt Controll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DES : Serialiseur, Déseriali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9564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308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5164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u SER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858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863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868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873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874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878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883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888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893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898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899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903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910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764640"/>
            <a:ext cx="8686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" y="1268280"/>
            <a:ext cx="8151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ADDRSIZE, int CELLSIZE, int ERRSIZE, int PLENSIZE, 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RCIDSIZE, int TRDIDSIZE, 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SIMPLERAM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ADDRSIZE, CELLSIZE, ERRSIZE, PLENSI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FSM,DT,REG_EOP,WRITE_COUNTER,READ_COU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,READ_COUNTER_IN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1024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HAS_PROCESS (SOCLIB_VCI_SIMPLERA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200" y="4076640"/>
            <a:ext cx="8713800" cy="216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" y="4508640"/>
            <a:ext cx="8713800" cy="151272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" y="1989000"/>
            <a:ext cx="6718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 // nom de l'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0 &gt;&gt; 2]=0x2001001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1,$0, 0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4 &gt;&gt; 2]=0x2002001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2,$0, 0x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8 &gt;&gt; 2]=0x8c22000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2,0($1) = 0x112233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C &gt;&gt; 2]=0x8c23000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3,4($1) = 0x5566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0 &gt;&gt; 2]=0x1122334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4 &gt;&gt; 2]=0x556677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AD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200" y="2852640"/>
            <a:ext cx="8713800" cy="863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200" y="5229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520" y="741240"/>
            <a:ext cx="8958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oid transitio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witch(TARGET_FSM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ID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CMDVAL == tr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G_EOP=VCI_TARGET.E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VCI_TARGET.CMD.read() == VCI_CMD_WRIT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wdata=(int)VCI_TARGET.WDATA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mem[addr&gt;&gt;2]=wdata; TARGET_FSM = TARGET_WRITE_WAIT; WRITE_COUNTER = WRITE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DT = mem[addr&gt;&gt;2]; TARGET_FSM = TARGET_READ_WA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 = READ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WRITE_COUNTER=WRITE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WRITE_COUNTER==1) TARGET_FSM=TARGET_WR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=READ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READ_COUNTER==1) TARGET_FSM=TARGET_RE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RSPACK =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TARGET_FSM = TARGET_ID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// end switch TARGET 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2060640"/>
            <a:ext cx="8821800" cy="79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200" y="2982960"/>
            <a:ext cx="8821800" cy="5904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6276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0"/>
            <a:ext cx="68709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(sc_uint&lt;32&gt;) D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200" y="4921200"/>
            <a:ext cx="8713800" cy="12765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10-14T19:40:58Z</dcterms:modified>
  <cp:revision>365</cp:revision>
  <dc:subject/>
  <dc:title>Diapositive 1</dc:title>
</cp:coreProperties>
</file>