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7B5A-CEAB-4ED1-BF19-30D6CDA6A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B833-39E0-46A0-97B4-5B9F800B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8BFA-BF2E-4562-B182-3998B0A76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B2AC-93F1-4342-A77B-EC88731DC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C44B-BA36-489D-986B-E03D4F44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28F3-833B-4980-BA36-4544CCA3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F5D9-D915-427C-BFE7-8CAE4342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135C-1E65-41E6-AF3A-26BC8439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9E2F-1088-48BD-A364-D9D1A67E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0706-05DF-46DF-BC0E-145682D5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C127-BBE3-457A-90FA-18C61726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7369-83B3-40CE-8931-F85D03C2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0580-1E64-4B3F-B9A4-5A4708D9F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79640" y="981000"/>
            <a:ext cx="1440000" cy="23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1268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080" y="9810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1484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6520" y="1268280"/>
            <a:ext cx="96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DATA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1701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440" y="148428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2205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720" y="198900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2421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20500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TA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2637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242100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476360" y="1413000"/>
            <a:ext cx="71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476360" y="2349360"/>
            <a:ext cx="712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76720" y="12682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77440" y="105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77440" y="148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7440" y="198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76720" y="2205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77440" y="2421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38360" y="1268280"/>
            <a:ext cx="206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6200" y="105264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VAL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19640" y="148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6920" y="1268280"/>
            <a:ext cx="121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WDATA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19640" y="170172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46560" y="148428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003280" y="1413000"/>
            <a:ext cx="71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04000" y="12682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04720" y="105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04720" y="148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38360" y="2205000"/>
            <a:ext cx="206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45840" y="1989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ACK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19640" y="242100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347280" y="220500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R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419640" y="2637000"/>
            <a:ext cx="208728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45480" y="2421000"/>
            <a:ext cx="95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2349360"/>
            <a:ext cx="71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04720" y="198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04000" y="2205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04720" y="2421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79640" y="1125360"/>
            <a:ext cx="43164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87640" y="1125360"/>
            <a:ext cx="43200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08720" y="981000"/>
            <a:ext cx="1439640" cy="23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08720" y="1125360"/>
            <a:ext cx="43164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516720" y="1125360"/>
            <a:ext cx="43164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967440" y="1268280"/>
            <a:ext cx="127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76360" y="105264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948360" y="1484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77800" y="1268280"/>
            <a:ext cx="96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DATA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48360" y="1701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76720" y="148428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967440" y="2205000"/>
            <a:ext cx="127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76000" y="198900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48360" y="24210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77080" y="220500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TA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6948360" y="2637000"/>
            <a:ext cx="12956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75640" y="242100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7883640" y="1413000"/>
            <a:ext cx="71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7811640" y="2349360"/>
            <a:ext cx="71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84000" y="12682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884720" y="105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884720" y="148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813080" y="198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12360" y="2205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813080" y="2421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00720" y="404640"/>
            <a:ext cx="0" cy="619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79240" y="333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érieur du So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43240" y="333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érieur du So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52360" y="29257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32TOI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53080" y="299736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16TOT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" y="659772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4360" y="40464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16360" y="40464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16360" y="659772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16360" y="404640"/>
            <a:ext cx="0" cy="619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60" y="17733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CI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27160" y="17733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CI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3800" y="27813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CI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26920" y="1052640"/>
            <a:ext cx="345780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R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5892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9236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400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5420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8620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1964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5128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8472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1636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4980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8180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200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4364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7708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0872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16360" y="1052640"/>
            <a:ext cx="172728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43640" y="1052640"/>
            <a:ext cx="86508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08720" y="1052640"/>
            <a:ext cx="43200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4720" y="1052640"/>
            <a:ext cx="43164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6920" y="1484280"/>
            <a:ext cx="691380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ESS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1: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26920" y="1916280"/>
            <a:ext cx="691380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ESS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5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26920" y="2349360"/>
            <a:ext cx="691380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DAT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1: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6920" y="2781360"/>
            <a:ext cx="691380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DAT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5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26920" y="3213000"/>
            <a:ext cx="345780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D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84720" y="3213000"/>
            <a:ext cx="345744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KT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958160" y="9810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958160" y="14130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958160" y="18446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58160" y="22766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958160" y="27082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958160" y="31417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619280" y="1700280"/>
            <a:ext cx="251928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96240" y="1433520"/>
            <a:ext cx="196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AL_REG_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19280" y="2349360"/>
            <a:ext cx="251928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98040" y="2082960"/>
            <a:ext cx="17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AL_REG_W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19280" y="2997360"/>
            <a:ext cx="129528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97320" y="2730600"/>
            <a:ext cx="167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AL_REG_PKT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19280" y="3645000"/>
            <a:ext cx="129528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98040" y="3378240"/>
            <a:ext cx="16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AL_REG_TRD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92720" y="2492280"/>
            <a:ext cx="28728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80000" y="2492280"/>
            <a:ext cx="28728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869080" y="2492280"/>
            <a:ext cx="28728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56360" y="2492280"/>
            <a:ext cx="28728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445080" y="2492280"/>
            <a:ext cx="28764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32720" y="2492280"/>
            <a:ext cx="28728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021440" y="2492280"/>
            <a:ext cx="28728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08720" y="2492280"/>
            <a:ext cx="28764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005440" y="2492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005440" y="3357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148360" y="3357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453440" y="3357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453440" y="1916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861080" y="1916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89440" y="414972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453440" y="4149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48360" y="1916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453440" y="1916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99440" y="1577880"/>
            <a:ext cx="54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18520" y="4221000"/>
            <a:ext cx="3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814880" y="1628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815240" y="41497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81080" y="4076640"/>
            <a:ext cx="15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OS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00720" y="249228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4035240" y="281412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32000" y="1125360"/>
            <a:ext cx="7200720" cy="381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413000"/>
            <a:ext cx="13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532720" y="1413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532720" y="292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532720" y="472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157960" y="486900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VAL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028000" y="105264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956720" y="2421000"/>
            <a:ext cx="121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WDATA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3480" y="1649520"/>
            <a:ext cx="60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CI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3T18:32:45Z</dcterms:created>
  <dc:creator>ff</dc:creator>
  <dc:description/>
  <dc:language>en-US</dc:language>
  <cp:lastModifiedBy>ff</cp:lastModifiedBy>
  <dcterms:modified xsi:type="dcterms:W3CDTF">2007-01-23T21:57:19Z</dcterms:modified>
  <cp:revision>33</cp:revision>
  <dc:subject/>
  <dc:title>Diapositive 1</dc:title>
</cp:coreProperties>
</file>