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F3F-8C00-4AFA-A24D-CFB8C240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960-D8C3-482D-84FF-6322FB8C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F9A-7A1D-4032-BC81-E301A8F9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9F1-A13D-4646-8E27-E76FE19B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1DB-56A5-4894-9336-710EBDCE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460-AF1D-4FC2-83E7-213BBAF5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8D3-992F-479E-85EA-02AF8B34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3B3-64AC-4D90-86D0-BBE7F755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C98-DAEC-4855-99C6-563FEBAF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3FA-BD20-4B8C-8924-42D8669A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1C2-1DF1-482F-A9A1-D37202BF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875-A238-4F2C-89CE-DFF978DB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F9C6-9E47-4398-9940-816770FD9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981000"/>
            <a:ext cx="144000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26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080" y="9810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8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652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701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44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20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72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421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36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476360" y="234936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72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744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744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744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72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744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38360" y="126828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6200" y="10526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148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6920" y="12682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17017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6560" y="14842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0328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38360" y="220500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5840" y="1989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242100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7280" y="2205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419640" y="2637000"/>
            <a:ext cx="20872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5480" y="242100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472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400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472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1125360"/>
            <a:ext cx="43200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981000"/>
            <a:ext cx="14396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67440" y="126828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6360" y="105264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1484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80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170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672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67440" y="220500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600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2421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948360" y="263700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564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8364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81164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8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1308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36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308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9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2360" y="29257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TO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3080" y="299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TO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27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3800" y="2781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052640"/>
            <a:ext cx="3457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42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62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98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18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1052640"/>
            <a:ext cx="1727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1052640"/>
            <a:ext cx="8650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105264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1052640"/>
            <a:ext cx="431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48428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191628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234936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78136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213000"/>
            <a:ext cx="3457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3213000"/>
            <a:ext cx="34574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58160" y="981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58160" y="1413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8160" y="1844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8160" y="2276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58160" y="270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58160" y="3141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19280" y="1700280"/>
            <a:ext cx="2519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96240" y="1433520"/>
            <a:ext cx="19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2349360"/>
            <a:ext cx="2519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98040" y="20829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W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99736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7320" y="273060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364500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98040" y="337824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908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508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2144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0872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05440" y="2492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00544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48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45344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344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86108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9440" y="4149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53440" y="4149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534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99440" y="1577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8520" y="422100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14880" y="1628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5240" y="4149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1080" y="4076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S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4035240" y="28141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1125360"/>
            <a:ext cx="720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41300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532720" y="14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53272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2720" y="47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57960" y="48690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28000" y="105264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56720" y="24210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3480" y="164952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8:32:45Z</dcterms:created>
  <dc:creator>ff</dc:creator>
  <dc:description/>
  <dc:language>en-US</dc:language>
  <cp:lastModifiedBy>ff</cp:lastModifiedBy>
  <dcterms:modified xsi:type="dcterms:W3CDTF">2007-01-23T21:57:19Z</dcterms:modified>
  <cp:revision>33</cp:revision>
  <dc:subject/>
  <dc:title>Diapositive 1</dc:title>
</cp:coreProperties>
</file>