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7ECB-830F-4AC9-9BCB-FDEBA72FE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485B-5FCA-4F69-8856-11DC3475D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C775C-1948-4C53-8A05-A987F240D2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0002-124D-4B81-8A60-E1D0B70A4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3524A-3FFE-4239-BB19-E4DDB8A77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A4F-91EA-4E78-B81C-3576641A3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CAC4-3E19-47D0-BA32-28B33EACC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C739-ECDF-4C19-8C6A-7B1B1C7E2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35CC-0490-4130-BF08-AA359E0B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06D5-5B7B-4276-A1D7-588C059B5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09E14-CC4C-4A47-8FA9-5F6AF8F46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51AB-7896-4DAD-981E-214AE28A0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8D56-786A-44BB-9168-97A7B457D7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981000"/>
            <a:ext cx="144000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1268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080" y="98100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148428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652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170172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44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2205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472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2421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263700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47636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1476360" y="234936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7672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744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7744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47744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7672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7744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38360" y="126828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346200" y="105264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419640" y="148428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46920" y="126828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419640" y="170172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346560" y="148428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5003280" y="141300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00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0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38360" y="2205000"/>
            <a:ext cx="2068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345840" y="198900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2421000"/>
            <a:ext cx="2087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347280" y="220500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R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3419640" y="2637000"/>
            <a:ext cx="208728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345480" y="2421000"/>
            <a:ext cx="95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00328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00472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00400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0472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97964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987640" y="1125360"/>
            <a:ext cx="43200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508720" y="981000"/>
            <a:ext cx="1439640" cy="237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508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16720" y="1125360"/>
            <a:ext cx="431640" cy="16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967440" y="126828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76360" y="1052640"/>
            <a:ext cx="8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948360" y="148428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877800" y="1268280"/>
            <a:ext cx="96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948360" y="170172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76720" y="148428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967440" y="2205000"/>
            <a:ext cx="1276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76000" y="1989000"/>
            <a:ext cx="80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48360" y="2421000"/>
            <a:ext cx="1295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77080" y="220500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DATA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6948360" y="2637000"/>
            <a:ext cx="129564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5640" y="242100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SP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83640" y="1413000"/>
            <a:ext cx="7128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7811640" y="234936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884000" y="12682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884720" y="105264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84720" y="148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13080" y="1989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12360" y="220500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813080" y="242100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50072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479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943240" y="333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érieur du So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052360" y="292572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32TO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653080" y="2997360"/>
            <a:ext cx="120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16TOT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84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716360" y="40464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360" y="6597720"/>
            <a:ext cx="3816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716360" y="404640"/>
            <a:ext cx="0" cy="619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27160" y="1773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213800" y="2781360"/>
            <a:ext cx="8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CI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826920" y="1052640"/>
            <a:ext cx="3457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RC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269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2589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69236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542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862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41964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8512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71636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4980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5818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77080" y="476280"/>
            <a:ext cx="4316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308720" y="476280"/>
            <a:ext cx="43200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16360" y="1052640"/>
            <a:ext cx="1727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43640" y="1052640"/>
            <a:ext cx="8650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08720" y="1052640"/>
            <a:ext cx="4320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84720" y="1052640"/>
            <a:ext cx="43164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6920" y="148428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26920" y="191628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RESS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26920" y="2349360"/>
            <a:ext cx="6913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31: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26920" y="2781360"/>
            <a:ext cx="691380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DATA</a:t>
            </a:r>
            <a:r>
              <a:rPr b="0" lang="en-US" sz="1200" spc="-1" strike="noStrike" baseline="-25000">
                <a:solidFill>
                  <a:srgbClr val="000000"/>
                </a:solidFill>
                <a:latin typeface="Arial"/>
              </a:rPr>
              <a:t>15: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213000"/>
            <a:ext cx="345780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284720" y="3213000"/>
            <a:ext cx="345744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958160" y="981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958160" y="141300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958160" y="1844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958160" y="227664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958160" y="270828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958160" y="3141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t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619280" y="1700280"/>
            <a:ext cx="2519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96240" y="1433520"/>
            <a:ext cx="1963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ADDR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19280" y="2349360"/>
            <a:ext cx="251928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598040" y="2082960"/>
            <a:ext cx="177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W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619280" y="299736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597320" y="2730600"/>
            <a:ext cx="167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PKT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19280" y="3645000"/>
            <a:ext cx="1295280" cy="28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598040" y="3378240"/>
            <a:ext cx="1690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IAL_REG_TRD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29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8000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86908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636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44508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73272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021440" y="2492280"/>
            <a:ext cx="28728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08720" y="2492280"/>
            <a:ext cx="287640" cy="8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>
            <a:off x="5005440" y="2492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005440" y="3357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514836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453440" y="335772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453440" y="1916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4861080" y="19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89440" y="4149720"/>
            <a:ext cx="358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453440" y="4149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53440" y="191628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699440" y="1577880"/>
            <a:ext cx="54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718520" y="4221000"/>
            <a:ext cx="3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814880" y="1628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5240" y="414972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581080" y="4076640"/>
            <a:ext cx="151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OSE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500720" y="249228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rot="16200000">
            <a:off x="4035240" y="2814120"/>
            <a:ext cx="63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b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1125360"/>
            <a:ext cx="7200720" cy="381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413000"/>
            <a:ext cx="13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532720" y="141300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532720" y="29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53272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8157960" y="48690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VAL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028000" y="1052640"/>
            <a:ext cx="101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ACK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956720" y="2421000"/>
            <a:ext cx="121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RWDATA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03480" y="164952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CI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3T18:32:45Z</dcterms:created>
  <dc:creator>ff</dc:creator>
  <dc:description/>
  <dc:language>en-US</dc:language>
  <cp:lastModifiedBy>ff</cp:lastModifiedBy>
  <dcterms:modified xsi:type="dcterms:W3CDTF">2007-01-23T21:57:19Z</dcterms:modified>
  <cp:revision>33</cp:revision>
  <dc:subject/>
  <dc:title>Diapositive 1</dc:title>
</cp:coreProperties>
</file>