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898-1CB1-4A52-8F71-D2C80058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A80-46FA-4AF5-BB0D-0E0DE666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05B-C7A6-47E9-8D9F-08DC0932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C7F-98CA-462C-BA83-F18E1DBD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146-ADF5-4DCD-A793-21EC27BC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2FA-6DB7-4ADC-A0F3-DF2F5B4C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0B9-7869-41F4-A54A-999BFA05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588-A156-4E34-AD4D-FCFE7883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778-960D-4E9F-9A59-8EC3B157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40B-09D3-464F-96F2-FF0247AD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680-4AFC-4EA4-B949-240A20D3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48A-2B96-4489-9C00-47C88568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26BC-11A1-4B1A-8F95-92EFB630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981000"/>
            <a:ext cx="144000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080" y="9810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652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70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44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0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421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36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476360" y="234936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72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44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744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744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72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744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38360" y="126828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6200" y="10526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148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6920" y="1268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701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484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0328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38360" y="220500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5840" y="1989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42100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7280" y="2205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19640" y="2637000"/>
            <a:ext cx="2087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5480" y="24210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472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400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472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125360"/>
            <a:ext cx="432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981000"/>
            <a:ext cx="143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67440" y="126828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6360" y="105264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148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80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70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672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67440" y="22050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600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2421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948360" y="263700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564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8364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1164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308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36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9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360" y="2925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TO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299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TO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27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3800" y="2781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052640"/>
            <a:ext cx="3457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42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98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18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1052640"/>
            <a:ext cx="1727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052640"/>
            <a:ext cx="865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10526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0526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48428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91628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34936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78136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213000"/>
            <a:ext cx="3457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213000"/>
            <a:ext cx="3457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816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8160" y="1413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160" y="184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8160" y="227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8160" y="270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58160" y="314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19280" y="1700280"/>
            <a:ext cx="2519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96240" y="143352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2349360"/>
            <a:ext cx="2519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040" y="20829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W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99736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7320" y="27306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64500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98040" y="337824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508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144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544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0544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5344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344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61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9440" y="4149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34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34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9440" y="1577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8520" y="422100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4880" y="162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5240" y="414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080" y="4076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S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035240" y="2814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125360"/>
            <a:ext cx="720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13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3272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272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7960" y="48690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10526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421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3480" y="164952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8:32:45Z</dcterms:created>
  <dc:creator>ff</dc:creator>
  <dc:description/>
  <dc:language>en-US</dc:language>
  <cp:lastModifiedBy>ff</cp:lastModifiedBy>
  <dcterms:modified xsi:type="dcterms:W3CDTF">2007-01-23T21:57:19Z</dcterms:modified>
  <cp:revision>33</cp:revision>
  <dc:subject/>
  <dc:title>Diapositive 1</dc:title>
</cp:coreProperties>
</file>