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8E1-25CD-4FD4-8924-9C0A7CBB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A04-0413-494D-A953-A1CBFBCF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385-5973-4D68-B670-56062040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70E-2FCA-46C7-939A-B15FC055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0E0-483E-4ECE-8078-B8B2922A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53D-DA3E-4D5C-B265-A587FA72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A46-9D66-4281-8403-1FF9512E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8C5-5AA4-42D0-AA58-6EE7BA4B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592-8375-4844-B76F-1C256159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8F1-7416-403C-9790-2A8AD7B8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3F6-F212-4C61-B02B-D2F07C25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F0D-F8A0-49A7-956A-A0EEF708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AED6-803E-4871-8AD4-4D972819A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981000"/>
            <a:ext cx="144000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080" y="9810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652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70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44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0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421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36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476360" y="234936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72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44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744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744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72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744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38360" y="126828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6200" y="10526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148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6920" y="1268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701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484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0328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38360" y="220500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5840" y="1989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42100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7280" y="2205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19640" y="2637000"/>
            <a:ext cx="2087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5480" y="24210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472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400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472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125360"/>
            <a:ext cx="432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981000"/>
            <a:ext cx="143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67440" y="126828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6360" y="105264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148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80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70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672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67440" y="22050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600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2421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948360" y="263700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564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8364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1164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308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36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9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360" y="2925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TO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299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TO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27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3800" y="2781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052640"/>
            <a:ext cx="3457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42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98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18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1052640"/>
            <a:ext cx="1727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052640"/>
            <a:ext cx="865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10526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0526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48428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91628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34936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78136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213000"/>
            <a:ext cx="3457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213000"/>
            <a:ext cx="3457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816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8160" y="1413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160" y="184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8160" y="227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8160" y="270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58160" y="314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19280" y="1700280"/>
            <a:ext cx="2519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96240" y="143352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2349360"/>
            <a:ext cx="2519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040" y="20829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W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99736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7320" y="27306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64500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98040" y="337824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508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144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544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0544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5344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344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61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9440" y="4149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34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34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9440" y="1577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8520" y="422100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4880" y="162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5240" y="414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080" y="4076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S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035240" y="2814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125360"/>
            <a:ext cx="720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13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3272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272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7960" y="48690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10526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421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3480" y="164952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8:32:45Z</dcterms:created>
  <dc:creator>ff</dc:creator>
  <dc:description/>
  <dc:language>en-US</dc:language>
  <cp:lastModifiedBy>ff</cp:lastModifiedBy>
  <dcterms:modified xsi:type="dcterms:W3CDTF">2007-01-23T21:57:19Z</dcterms:modified>
  <cp:revision>33</cp:revision>
  <dc:subject/>
  <dc:title>Diapositive 1</dc:title>
</cp:coreProperties>
</file>